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E8E-F67E-4578-A625-F79B1F54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1EC-C570-4F57-8A67-2BA66CF1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905-2ED1-4158-866B-CA07E16F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0F3-3CF7-4324-BEE9-A67B83CC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0D95-4F91-4748-99A5-97CF762B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39BD-BD16-465F-806A-B1AA2FD7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FA4F-4C5C-4F7C-846E-46989BFF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1294-B262-4D35-8B27-D2A1D3E4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BDE9-B9E9-42E0-A3F3-BD5BADDC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BE0C-99CB-4403-8F0E-9E8056DB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D7DA-4491-48C7-BE4F-259045A1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30F-FDA5-4CAC-81AC-B4B5720E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2D13-3B60-4D9C-BCF7-81D17EC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2A31-8F79-42FC-80C6-671AC78B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F055-851E-4778-9014-BC87C549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E34A-CB80-4B68-9DD6-02C16B0B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9DBD-7723-4D89-ADA0-6CF3C5A6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DF4-B9D2-4DFF-BD2A-C18BA2C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64D-B518-4994-A1DB-CFD0B1A0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729-71B5-4BF8-B8A4-F0B828E7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EDC-AD4C-49C3-9A13-DCD23070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D66-900F-4CFD-9C5D-1132E6E8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8EA-746A-43B8-BA21-9EE74C98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575-B723-4A78-9E8A-2A216DAF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1598-4C4A-4F35-8EA2-DC4EDB929D6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AC9D-CF1F-49E6-9D5E-B2E27038945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Caso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ctante 1 año, previamente s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nsulta por fiebre (39°C), decaimiento, dificultad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x físico: Semiología condensación lóbulo inferior izquier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Rx tórax: Neumonía L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Tto: Claritromicina, 15 mg/Kg/día, c/12 h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Kinesiterapia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 qué es importante analizar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e tem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583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as dispares en la comunidad mé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os poco claros sobre significado fie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ción de diagnósticos poco fundament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indiscriminado antimicrob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uen manejo de esta situación requie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éd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imiento actuali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nsamiento científ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umil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Sistema de sal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 de atención adecu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bilidad de controlar pac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a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Mensajes educativos a los pad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fiebre es una respuesta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 un síntoma, no una enferm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fréntela con cal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fiebre persistirá hasta la resolución de la enferm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JR Avner y MD Baker. Emerg Med Clin North Am,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Mensaje al personal de salu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La fiebre es un fenómeno adaptativo que de paso advierte sobre la presencia de una noxa y, salvo excepciones, no debe considerarse el problema en s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o típ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dre consulta con su hijo de 8 meses porque presenta “fiebre”.  Al momento de la consulta se registra T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rectal de 40°C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87520" y="152280"/>
            <a:ext cx="431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444600"/>
            <a:ext cx="86868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155520"/>
            <a:ext cx="9144000" cy="6515280"/>
            <a:chOff x="0" y="155520"/>
            <a:chExt cx="9144000" cy="65152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0" y="155520"/>
              <a:ext cx="914400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0" y="155520"/>
              <a:ext cx="9144000" cy="651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erios de grave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aimiento o irritabilidad ma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id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hazo significativo de ali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ómitos incoercibles, diarrea prof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icultad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 hemodiná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nómenos hemorragípa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 de parénqu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72 horas más tar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Paciente acude a terapia kiné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Ha recibido su tto según ind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Kinesiólogo “grav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Trasladado Urgencia Hospital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frentamiento paci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namn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8 horas de fie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imentación reg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omitos, diarrea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ficultad respirat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Único enfermo cas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pidemiología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xamen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emodinámica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 es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 perfu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rritable, a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n signos 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frentamiento diag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 debe saber si el niño está grave o no,... no se apresure en hacer un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 debe estar al d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be hacer primero un planteamiento sindromático: fundamentalmente clíni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ndariamente: Planteamiento etiológic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ínico + laborat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usas más frecuentes: Representan cerca del 80% de los ca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33cc"/>
                </a:solidFill>
                <a:latin typeface="Tahoma"/>
              </a:rPr>
              <a:t>Etiología viral</a:t>
            </a: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espiratorias :Rhinovirus, VRS, parainfluenza, influenza, adenovirus, enteroviru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igestivas: Rotavirus, astrovir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sociadas a exantemas: Varicela, enterovirus, herpes 6, parvoviru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usas menos frecuentes: Representan  entre el 10 al 15% de los ca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Infecciones bacterianas “no invasoras”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Dg muy abus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aringoamigdalitis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 pyogenes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Improbable &lt; 2 a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titis media aguda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. pneumoniae, H influenzae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Otoscopía es parte del examen físico lactante febr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inusitis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. pneumoniae, H influenzae):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g difíc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fección urinaria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E. coli):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g microb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usas poco frecuentes: &lt; 5% de los ca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Infecciones bacterianas invas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Requiere dg rápido. Potencialmente mort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eumonía (distinguir de “neumonitis”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ening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ielonefrit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Osteomielitis, artr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almonelo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usas raras: &lt; 1%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Fiebre asociada a cuadros infecciosos poco frecuentes o afecciones no infeccio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um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esenquimopat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fermedades autoinmu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Y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hora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ué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frontar las hipótesis más probables c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mne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en fís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cedentes epidemi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racional de exám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lanteamiento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Signos y síntomas sugieren IB no invasora, sin signos de gravedad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(10-1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l diagnóstico presuntivo de amigdalitis estreptocócica debe ser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certificad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cada vez que sea posibl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Un diagnóstico clínico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fundamentado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 otitis media aguda amerita tratamien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l diagnóstico de sinusitis aguda debe basarse en criterios clínicos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estrictos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.  Rx tiene poco valor diag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infección urinaria requiere del apoyo de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laboratori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antes de pensar en tra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ratamiento antimicrobiano necesario...pero tranqui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920" y="581040"/>
            <a:ext cx="6572160" cy="56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62000" y="0"/>
            <a:ext cx="52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ciente con fiebre, con o sin localización, con signos y síntomas de gravedad (5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tención inmedi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ploración de labora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tamiento agres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80880" y="-130320"/>
            <a:ext cx="998208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l paciente presenta fiebre sin otros hallazgos clínicos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fío impor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ay que hacerse carg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iesgo “bacteremia ocult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313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l manejo del niño febril requie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Valoración de grav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lanteamientos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Conductas basada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ocimientos actualizad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uena anamnesis y examen clín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so juicioso de exáme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n seguimiento adecu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Lecturas recomendad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Bonadio W. Pediatr Infect Dis J 1993</a:t>
            </a: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Kramer M, ED Shapiro. Pediatrics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Bonadio W. Pediatr Clin North Am, 1998</a:t>
            </a: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lpern E. Pediatrics 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vner J. Emerg Med Clin North Am 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Klein J. Pediatr Infect Dis J  200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Bacteriemia ocul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Defini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allazgo de hemocultivo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(+)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 en pacie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in foco infeccioso aparente y 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“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e ve clinicamente bie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Tahoma"/>
              </a:rPr>
              <a:t>Trascendencia de la bacteriemia oculta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Evolución hacia su resolución espontánea (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 &gt;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90%) 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hacia localización metastás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(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. influenz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: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25-44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Trascendencia de la bacteriemia oculta 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por 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</a:t>
            </a: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. </a:t>
            </a:r>
            <a:br>
              <a:rPr sz="3200"/>
            </a:b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S. Bandyopadhyay et al. Arch Pediatr Adolesc Med 2002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2.641 lactantes febr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Hemocultivo a 1.202 pac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37 (3%) con bacteriemia ocul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33cc"/>
                </a:solidFill>
                <a:latin typeface="Tahoma"/>
              </a:rPr>
              <a:t>Streptococcus pneumoniae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: 31 (84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urso desfavorable: 2 (0,08%), una M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Conceptos en bacteriemia oculta: Manejo conservador pero activo.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ER Alpern et al. Pediatrics 2000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5.901 lactantes en S. Urgenc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Tº rectal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&gt;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39º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Frecuencia bacteriemia: 1,9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Hemocultivo (+): 14,9 hrs </a:t>
            </a:r>
            <a:r>
              <a:rPr b="0" lang="es-MX" sz="2800" spc="-1" strike="noStrike" u="sng">
                <a:solidFill>
                  <a:srgbClr val="0033cc"/>
                </a:solidFill>
                <a:uFillTx/>
                <a:latin typeface="Tahoma"/>
              </a:rPr>
              <a:t>+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5,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Conceptos en bacteriemia oculta.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ER Alpern et al. Pediatrics  2000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: 82,9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.influenz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b: 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Resolución espontánea: 95,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Foco establecido al 2º control: 0,3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Infección severa: 0,03%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MBA (1) y sepsis fulminante 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tilidad de hemograma y PCR en el estudio del lactante febril (n: 77).</a:t>
            </a:r>
            <a:br>
              <a:rPr sz="2400"/>
            </a:b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PN Pulliam et al. Pediatrics, 2001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2600" y="2017800"/>
          <a:ext cx="7772400" cy="312264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alor de c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P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P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Leucocitos/mm</a:t>
                      </a:r>
                      <a:r>
                        <a:rPr b="0" lang="es-MX" sz="1800" spc="-1" strike="noStrike" baseline="30000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RA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mm</a:t>
                      </a:r>
                      <a:r>
                        <a:rPr b="0" lang="es-MX" sz="1800" spc="-1" strike="noStrike" baseline="30000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0.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PCR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ra situación clínica habitu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Paciente de 8 meses, fiebre (38,3°C) de 12 horas de evolución, rechazo alimentación, gran irrit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Antecedentes epidemiológicos: (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xamen físico: Signos de gravedad: palidez, falta reactividad, leve inestabilidad hemodinám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No hay signos de foc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Dg y mane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ciente en riesgo de una infección bacteriana invasora o de una infección viral de curso sever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 justi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tención inmedi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nsa investigación etiológica (hemograma, PCR, hemocultivos, Rx tórax, examen de orina y urocultivo, eventual punción lumbar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ospitalización y comienzo precoz de antimicrobianos mientras se aclara el diagnó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l paciente presenta fiebre, buen estado general y sintomatología compatible con un cuadro viral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tos pacientes representarán 8/10 consultas por fiebre y </a:t>
            </a: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NO DEBEN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recibir antimicrobi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ratamiento indicado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eguimient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su enferme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4000680" y="-2286000"/>
            <a:ext cx="1714536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Caso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Hemocultivos: (+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qué imagin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f01"/>
                </a:solidFill>
                <a:latin typeface="Comic Sans MS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 ni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ño con fiebre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: Un desafío para el personal de sal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2:06:36Z</dcterms:created>
  <dc:creator>Miguel O'Ryan</dc:creator>
  <dc:description/>
  <dc:language>en-US</dc:language>
  <cp:lastModifiedBy>Maria Elena Santolaya de Pablo</cp:lastModifiedBy>
  <dcterms:modified xsi:type="dcterms:W3CDTF">2005-04-20T02:05:40Z</dcterms:modified>
  <cp:revision>24</cp:revision>
  <dc:subject/>
  <dc:title>El Lactante febril: Un Desafío Para el Pediatra y Médico General</dc:title>
</cp:coreProperties>
</file>