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B656-1CBC-4332-AEE0-2DF5F61030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sistant strains of bacteria are present in a population, exposure to antimicrobial drugs favors their survi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antimicrobial selection pressure is one key to preventing antimicrobial resistance and preserving the utility of available drugs for as long as 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every new class of antimicrobial drug is followed by emergence of resist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50s, pen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re a major threat in hospitals and nurs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70s, meth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d emerged and spread, a phenomenon that encouraged widespread use of vancomyc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90s, vancomycin-resistant enterococci emerged and rapidly spread; most of these organisms are resistant to other traditional first-line antimicrobial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entury, the firs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ains with reduced susceptibility to vancomycin were documented, prompting concerns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y resistant to vancomycin may be on the horiz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une 2002 the first case of vancomyc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12 Steps to Prevent Antimicrobial Resistance: Hospitalized Adults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vention program is the first “12 Steps” to be launched because hospital patients are at especially high risk for serious antimicrobial-resistan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year nearly 2 million patients in the United States get an infection in a hosp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ose patients, about 90,000 die as a result of their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70% of the bacteria that cause hospital-acquired infections are resistant to at least one of the drugs most commonly used to trea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s infected with antimicrobial-resistant organisms are more likely to have longer hospital stays and require treatment with second-or third-choice drugs that may be less effective, more toxic, and/or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640-AD5F-4ED5-8A8D-539430EC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397-23A7-4A4D-91FF-A04F131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071-F846-41E6-90CA-66191DF3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A5A-F7EB-44C1-A9EE-AB6E908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B3A-D877-46B1-A3B0-F2D5366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555-3C62-4ED7-9474-C824EE49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4BA-6776-4369-B8CB-3EB964F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FCF-D16E-4ABD-BB3C-258EC250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75D-5CAB-40FB-832E-7C406698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FBC-D608-475F-AC5D-C09AE95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265-1A36-43EF-A489-5673E42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36D-E7F3-4B31-9140-C14B945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33B8-D892-4015-8B0D-3468EBDF5A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9255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antimicrobianos en pediat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ra María Elena Santolaya de Pab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diatra Infectó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rofesor Asociado Pediatr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spital de niños Luis calvo Macke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antiago,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ntimicrobianos de uso ambulatorio en I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06 millones de prescripciones 1999 (10% total de prescripcion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50-75% pacientes con dg de IRA= 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cuánto saben los médicos de atención primaria sobre IRA, uso apropiado abs y resistencia bacterian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ID 2003;37:853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9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uelas de medicina con programas de formación en MI, MF,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probación comité ética y directores de prog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ncuesta anónima residentes 1°, 2° y 3er a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2 preguntas escala Like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 preguntas múltiple ele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9,5% “tenemos un conocimiento promedio o sobre el promedio en tto de IRA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,8% no se siente “confiado” en sus decisiones de tto de IRA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2%: al menos 1 charla de IRA último añ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7% conocían las guías de tto de I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9100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1484280"/>
            <a:ext cx="3816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421000"/>
            <a:ext cx="439236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573360"/>
            <a:ext cx="338472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149720"/>
            <a:ext cx="43210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300640"/>
            <a:ext cx="324000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877000"/>
            <a:ext cx="4537080" cy="28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40040" y="304920"/>
            <a:ext cx="371160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5805360"/>
            <a:ext cx="360036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abemos poco de “cuanto saben” los residentes que atienden pacientes en atención prima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os encuestados se sienten satisfechos con sus conocimi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icen conocer las guí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&gt;90% tuvo una “clase” de IRA reciente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2/3 encuestados prescriben abs en pacientes con exudado faríng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ada que ver con recomendaciones ID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 uso de abs: subestimado en este est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Indicación abs en infecciones virales: “resfrío, bronquitis, rinitis purulenta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 anterior indica más un error médico que una presión del pa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, resisten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obre uso abs aumenta la resistencia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in embar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/3 precribe abs, dg incier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conocen R problema n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prevalencia R en su institució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sistencia SGA a PNC: 63,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676880"/>
            <a:ext cx="89154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uso antimicrobian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clusiones de 8 Focus 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3843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paci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arga nasal ver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prescripción “consulta perdida”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cesidad retorno a trabaj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1360" y="2285640"/>
            <a:ext cx="4292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méd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iente espera “tratamient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agnóstico inci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terminar consult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ión de ti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5943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"/>
              </a:rPr>
              <a:t>Barden L. Clin Pediatr. 1998;37:665-6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9400" y="5611680"/>
            <a:ext cx="53578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dicación anti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13120" y="4089240"/>
            <a:ext cx="22683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del hospi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Aumento en uso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iños cada vez más peque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yor número de inmunodeprim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irugías más complej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ispositivos y 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Nuevos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-lactá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cr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e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Quinol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Oxazolidin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opépt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streptogram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ep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ilcicl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114800" cy="39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¿por qué abusamos de los antimicrobianos?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o antipirét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 el antibiótico busque el foc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icio antimicrobianos antes de cul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gt; enfermedad, … &gt; antimicrobia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de combinaciones inneces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remos evitar infecc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longación innecesaria de tratami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piricismo vertical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uso de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es malo de verdad o es una obsesión de los infectólog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nsecuencias del ab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o respue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arrollo de resist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fectos adver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estimación de espect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alsa tranqui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74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79280" y="2189160"/>
            <a:ext cx="3843360" cy="4326120"/>
            <a:chOff x="179280" y="2189160"/>
            <a:chExt cx="3843360" cy="4326120"/>
          </a:xfrm>
        </p:grpSpPr>
        <p:sp>
          <p:nvSpPr>
            <p:cNvPr id="124" name=""/>
            <p:cNvSpPr/>
            <p:nvPr/>
          </p:nvSpPr>
          <p:spPr>
            <a:xfrm>
              <a:off x="179280" y="2189160"/>
              <a:ext cx="384336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2920" y="2646360"/>
              <a:ext cx="2133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c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2720" y="3227760"/>
              <a:ext cx="1064880" cy="835920"/>
              <a:chOff x="612720" y="3227760"/>
              <a:chExt cx="1064880" cy="835920"/>
            </a:xfrm>
          </p:grpSpPr>
          <p:sp>
            <p:nvSpPr>
              <p:cNvPr id="127" name=""/>
              <p:cNvSpPr/>
              <p:nvPr/>
            </p:nvSpPr>
            <p:spPr>
              <a:xfrm rot="1032000">
                <a:off x="678240" y="33523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314200">
                <a:off x="980640" y="355140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817000" y="4233240"/>
              <a:ext cx="1040040" cy="777240"/>
              <a:chOff x="2817000" y="4233240"/>
              <a:chExt cx="1040040" cy="777240"/>
            </a:xfrm>
          </p:grpSpPr>
          <p:sp>
            <p:nvSpPr>
              <p:cNvPr id="130" name=""/>
              <p:cNvSpPr/>
              <p:nvPr/>
            </p:nvSpPr>
            <p:spPr>
              <a:xfrm rot="20837400">
                <a:off x="2869920" y="4328640"/>
                <a:ext cx="93384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19600">
                <a:off x="3176640" y="4486680"/>
                <a:ext cx="47664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026720" y="5151240"/>
              <a:ext cx="1049400" cy="798840"/>
              <a:chOff x="1026720" y="5151240"/>
              <a:chExt cx="1049400" cy="798840"/>
            </a:xfrm>
          </p:grpSpPr>
          <p:sp>
            <p:nvSpPr>
              <p:cNvPr id="133" name=""/>
              <p:cNvSpPr/>
              <p:nvPr/>
            </p:nvSpPr>
            <p:spPr>
              <a:xfrm rot="861000">
                <a:off x="1084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143800">
                <a:off x="1388160" y="5452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760" y="4158360"/>
              <a:ext cx="1099080" cy="955440"/>
              <a:chOff x="527760" y="4158360"/>
              <a:chExt cx="1099080" cy="955440"/>
            </a:xfrm>
          </p:grpSpPr>
          <p:sp>
            <p:nvSpPr>
              <p:cNvPr id="136" name=""/>
              <p:cNvSpPr/>
              <p:nvPr/>
            </p:nvSpPr>
            <p:spPr>
              <a:xfrm rot="19921200">
                <a:off x="610560" y="43430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203400">
                <a:off x="911520" y="4480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844280" y="4628520"/>
              <a:ext cx="1039680" cy="777240"/>
              <a:chOff x="1844280" y="4628520"/>
              <a:chExt cx="1039680" cy="777240"/>
            </a:xfrm>
          </p:grpSpPr>
          <p:sp>
            <p:nvSpPr>
              <p:cNvPr id="139" name=""/>
              <p:cNvSpPr/>
              <p:nvPr/>
            </p:nvSpPr>
            <p:spPr>
              <a:xfrm rot="20837400">
                <a:off x="1897200" y="47239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19600">
                <a:off x="2203920" y="488232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527480" y="3371400"/>
              <a:ext cx="1432800" cy="1239120"/>
              <a:chOff x="1527480" y="3371400"/>
              <a:chExt cx="1432800" cy="1239120"/>
            </a:xfrm>
          </p:grpSpPr>
          <p:sp>
            <p:nvSpPr>
              <p:cNvPr id="142" name=""/>
              <p:cNvSpPr/>
              <p:nvPr/>
            </p:nvSpPr>
            <p:spPr>
              <a:xfrm rot="1654200">
                <a:off x="1634400" y="3610080"/>
                <a:ext cx="121860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37000">
                <a:off x="2025720" y="38631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937000">
                <a:off x="1836000" y="38858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54200">
                <a:off x="2260080" y="372276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54200">
                <a:off x="2345760" y="384480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687400">
                <a:off x="2115000" y="408528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53400" y="5162040"/>
              <a:ext cx="1039320" cy="776880"/>
              <a:chOff x="2453400" y="5162040"/>
              <a:chExt cx="1039320" cy="776880"/>
            </a:xfrm>
          </p:grpSpPr>
          <p:sp>
            <p:nvSpPr>
              <p:cNvPr id="149" name=""/>
              <p:cNvSpPr/>
              <p:nvPr/>
            </p:nvSpPr>
            <p:spPr>
              <a:xfrm rot="20837400">
                <a:off x="2506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19600">
                <a:off x="2813040" y="541584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590560" y="1523880"/>
            <a:ext cx="5962680" cy="4326120"/>
            <a:chOff x="2590560" y="1523880"/>
            <a:chExt cx="5962680" cy="4326120"/>
          </a:xfrm>
        </p:grpSpPr>
        <p:sp>
          <p:nvSpPr>
            <p:cNvPr id="152" name=""/>
            <p:cNvSpPr/>
            <p:nvPr/>
          </p:nvSpPr>
          <p:spPr>
            <a:xfrm>
              <a:off x="4707720" y="1523880"/>
              <a:ext cx="384552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2920" y="4884840"/>
              <a:ext cx="2197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omin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590560" y="3084480"/>
              <a:ext cx="2265840" cy="1140120"/>
              <a:chOff x="2590560" y="3084480"/>
              <a:chExt cx="2265840" cy="1140120"/>
            </a:xfrm>
          </p:grpSpPr>
          <p:sp>
            <p:nvSpPr>
              <p:cNvPr id="155" name=""/>
              <p:cNvSpPr/>
              <p:nvPr/>
            </p:nvSpPr>
            <p:spPr>
              <a:xfrm>
                <a:off x="2590560" y="3673440"/>
                <a:ext cx="2265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osición 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ntimicrobianos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2640" y="3084480"/>
                <a:ext cx="1969920" cy="538200"/>
              </a:xfrm>
              <a:custGeom>
                <a:avLst/>
                <a:gdLst>
                  <a:gd name="textAreaLeft" fmla="*/ 307800 w 1969920"/>
                  <a:gd name="textAreaRight" fmla="*/ 1723680 w 1969920"/>
                  <a:gd name="textAreaTop" fmla="*/ 134640 h 538200"/>
                  <a:gd name="textAreaBottom" fmla="*/ 4039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13440" y="2149920"/>
              <a:ext cx="1421640" cy="1370880"/>
              <a:chOff x="6913440" y="2149920"/>
              <a:chExt cx="1421640" cy="1370880"/>
            </a:xfrm>
          </p:grpSpPr>
          <p:sp>
            <p:nvSpPr>
              <p:cNvPr id="158" name=""/>
              <p:cNvSpPr/>
              <p:nvPr/>
            </p:nvSpPr>
            <p:spPr>
              <a:xfrm rot="2429400">
                <a:off x="7014600" y="245412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711600">
                <a:off x="7396920" y="2727720"/>
                <a:ext cx="62172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711600">
                <a:off x="7225920" y="26668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429400">
                <a:off x="7703280" y="26208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429400">
                <a:off x="7758720" y="27345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3463200">
                <a:off x="7466040" y="2928240"/>
                <a:ext cx="27036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65920" y="1955520"/>
              <a:ext cx="1159560" cy="1527480"/>
              <a:chOff x="5065920" y="1955520"/>
              <a:chExt cx="1159560" cy="1527480"/>
            </a:xfrm>
          </p:grpSpPr>
          <p:sp>
            <p:nvSpPr>
              <p:cNvPr id="165" name=""/>
              <p:cNvSpPr/>
              <p:nvPr/>
            </p:nvSpPr>
            <p:spPr>
              <a:xfrm rot="6781200">
                <a:off x="4959720" y="238068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8063400">
                <a:off x="5264280" y="2683440"/>
                <a:ext cx="699840" cy="2844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8063400">
                <a:off x="5517720" y="2326680"/>
                <a:ext cx="279360" cy="170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781200">
                <a:off x="5584320" y="26902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81200">
                <a:off x="5454000" y="28054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814400">
                <a:off x="5370120" y="2715840"/>
                <a:ext cx="304920" cy="676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868440" y="3936600"/>
              <a:ext cx="1235160" cy="788040"/>
              <a:chOff x="6868440" y="3936600"/>
              <a:chExt cx="1235160" cy="788040"/>
            </a:xfrm>
          </p:grpSpPr>
          <p:sp>
            <p:nvSpPr>
              <p:cNvPr id="172" name=""/>
              <p:cNvSpPr/>
              <p:nvPr/>
            </p:nvSpPr>
            <p:spPr>
              <a:xfrm rot="75000">
                <a:off x="6876360" y="394956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357200">
                <a:off x="7273440" y="41583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357200">
                <a:off x="7103880" y="43520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75000">
                <a:off x="7421760" y="40212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5000">
                <a:off x="7554600" y="40986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108200">
                <a:off x="7415640" y="440820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41440" y="1665360"/>
              <a:ext cx="1212480" cy="1529640"/>
              <a:chOff x="5941440" y="1665360"/>
              <a:chExt cx="1212480" cy="1529640"/>
            </a:xfrm>
          </p:grpSpPr>
          <p:sp>
            <p:nvSpPr>
              <p:cNvPr id="179" name=""/>
              <p:cNvSpPr/>
              <p:nvPr/>
            </p:nvSpPr>
            <p:spPr>
              <a:xfrm rot="14631600">
                <a:off x="5861880" y="209124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5914400">
                <a:off x="6137640" y="2193840"/>
                <a:ext cx="700200" cy="28512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5914400">
                <a:off x="6632640" y="2554560"/>
                <a:ext cx="279360" cy="17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4631600">
                <a:off x="6251400" y="228492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4631600">
                <a:off x="6236280" y="21207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665400">
                <a:off x="6453000" y="2283480"/>
                <a:ext cx="304920" cy="67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115600" y="3614760"/>
              <a:ext cx="1317960" cy="933120"/>
              <a:chOff x="5115600" y="3614760"/>
              <a:chExt cx="1317960" cy="933120"/>
            </a:xfrm>
          </p:grpSpPr>
          <p:sp>
            <p:nvSpPr>
              <p:cNvPr id="186" name=""/>
              <p:cNvSpPr/>
              <p:nvPr/>
            </p:nvSpPr>
            <p:spPr>
              <a:xfrm rot="21091800">
                <a:off x="5164920" y="370044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74000">
                <a:off x="5558040" y="389232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774000">
                <a:off x="5415480" y="41446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091800">
                <a:off x="5673960" y="37674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091800">
                <a:off x="5821920" y="38289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25000">
                <a:off x="5722200" y="414612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86320" y="3134880"/>
              <a:ext cx="1039680" cy="776880"/>
              <a:chOff x="6286320" y="3134880"/>
              <a:chExt cx="1039680" cy="776880"/>
            </a:xfrm>
          </p:grpSpPr>
          <p:sp>
            <p:nvSpPr>
              <p:cNvPr id="193" name=""/>
              <p:cNvSpPr/>
              <p:nvPr/>
            </p:nvSpPr>
            <p:spPr>
              <a:xfrm rot="20837400">
                <a:off x="6339240" y="3230280"/>
                <a:ext cx="93384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19600">
                <a:off x="6645960" y="3388320"/>
                <a:ext cx="47664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ección de cepas resistentes a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2800" y="2344680"/>
          <a:ext cx="787068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44680"/>
                    <a:ext cx="7870680" cy="3768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080" y="-1495800"/>
            <a:ext cx="8264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o reciente de antimicrobianos- infección por cepas no sensibles d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pneumoni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331600" y="6195960"/>
            <a:ext cx="347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ell, Am Fam Phys 1997;55:16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349360"/>
            <a:ext cx="2735280" cy="374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36560" y="809640"/>
            <a:ext cx="5862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784080"/>
            <a:ext cx="586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6600" y="1955880"/>
            <a:ext cx="1180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960" y="2076480"/>
            <a:ext cx="11451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2720" y="1422360"/>
            <a:ext cx="115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62640" y="1541520"/>
            <a:ext cx="1186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7400" y="2303640"/>
            <a:ext cx="880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1950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9360" y="1803240"/>
            <a:ext cx="216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8200" y="1922400"/>
            <a:ext cx="170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6440" y="2917800"/>
            <a:ext cx="685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2440" y="4229280"/>
            <a:ext cx="1844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33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volución de resistencia 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. aure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897200" y="2133720"/>
            <a:ext cx="87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7760" y="1422360"/>
            <a:ext cx="3574440" cy="1397520"/>
            <a:chOff x="5027760" y="1422360"/>
            <a:chExt cx="3574440" cy="1397520"/>
          </a:xfrm>
        </p:grpSpPr>
        <p:sp>
          <p:nvSpPr>
            <p:cNvPr id="216" name=""/>
            <p:cNvSpPr/>
            <p:nvPr/>
          </p:nvSpPr>
          <p:spPr>
            <a:xfrm>
              <a:off x="5027760" y="1422360"/>
              <a:ext cx="12654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9200" y="1803240"/>
              <a:ext cx="2280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7320" y="1541520"/>
              <a:ext cx="1158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Meticil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520" y="2303640"/>
              <a:ext cx="880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970s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6960" y="1905120"/>
              <a:ext cx="223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. aur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icilina-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RS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4960" y="2133720"/>
              <a:ext cx="88056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1400" y="1752480"/>
              <a:ext cx="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03640" y="1752480"/>
            <a:ext cx="0" cy="304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862600" y="2666880"/>
            <a:ext cx="3000600" cy="2417760"/>
            <a:chOff x="5862600" y="2666880"/>
            <a:chExt cx="3000600" cy="2417760"/>
          </a:xfrm>
        </p:grpSpPr>
        <p:sp>
          <p:nvSpPr>
            <p:cNvPr id="225" name=""/>
            <p:cNvSpPr/>
            <p:nvPr/>
          </p:nvSpPr>
          <p:spPr>
            <a:xfrm>
              <a:off x="5862600" y="4229280"/>
              <a:ext cx="25142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2520" y="2666880"/>
              <a:ext cx="2920680" cy="2291400"/>
              <a:chOff x="5942520" y="2666880"/>
              <a:chExt cx="2920680" cy="2291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351560" y="3570120"/>
                <a:ext cx="78840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42520" y="4348080"/>
                <a:ext cx="2007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ococc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a 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42600" y="4729320"/>
                <a:ext cx="86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52720" y="3048120"/>
                <a:ext cx="141048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Vancomic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9000" y="3753000"/>
                <a:ext cx="88020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0s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45200" y="2666880"/>
                <a:ext cx="0" cy="99072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45200" y="3505320"/>
                <a:ext cx="0" cy="68580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112880" y="3124080"/>
                <a:ext cx="271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843360" y="3200400"/>
            <a:ext cx="3200040" cy="2976840"/>
            <a:chOff x="3843360" y="3200400"/>
            <a:chExt cx="3200040" cy="2976840"/>
          </a:xfrm>
        </p:grpSpPr>
        <p:sp>
          <p:nvSpPr>
            <p:cNvPr id="236" name=""/>
            <p:cNvSpPr/>
            <p:nvPr/>
          </p:nvSpPr>
          <p:spPr>
            <a:xfrm>
              <a:off x="4605120" y="3505320"/>
              <a:ext cx="0" cy="6858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843360" y="3200400"/>
              <a:ext cx="3200040" cy="2976840"/>
              <a:chOff x="3843360" y="3200400"/>
              <a:chExt cx="3200040" cy="2976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212440" y="3200400"/>
                <a:ext cx="7383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6960" y="4348080"/>
                <a:ext cx="1568880" cy="18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intermed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43360" y="4729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43800" y="5014800"/>
                <a:ext cx="10630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sis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40920" y="5302080"/>
                <a:ext cx="11451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S.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VIS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5120" y="3505320"/>
                <a:ext cx="24382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0" y="3398760"/>
            <a:ext cx="3690720" cy="2817720"/>
            <a:chOff x="0" y="3398760"/>
            <a:chExt cx="3690720" cy="2817720"/>
          </a:xfrm>
        </p:grpSpPr>
        <p:sp>
          <p:nvSpPr>
            <p:cNvPr id="245" name=""/>
            <p:cNvSpPr/>
            <p:nvPr/>
          </p:nvSpPr>
          <p:spPr>
            <a:xfrm>
              <a:off x="54720" y="3463920"/>
              <a:ext cx="3108240" cy="2752560"/>
            </a:xfrm>
            <a:custGeom>
              <a:avLst/>
              <a:gdLst/>
              <a:ahLst/>
              <a:rect l="l" t="t" r="r" b="b"/>
              <a:pathLst>
                <a:path w="5682" h="4992">
                  <a:moveTo>
                    <a:pt x="0" y="2261"/>
                  </a:moveTo>
                  <a:lnTo>
                    <a:pt x="1598" y="2096"/>
                  </a:lnTo>
                  <a:lnTo>
                    <a:pt x="681" y="1402"/>
                  </a:lnTo>
                  <a:lnTo>
                    <a:pt x="1809" y="1648"/>
                  </a:lnTo>
                  <a:lnTo>
                    <a:pt x="436" y="266"/>
                  </a:lnTo>
                  <a:lnTo>
                    <a:pt x="2187" y="1321"/>
                  </a:lnTo>
                  <a:lnTo>
                    <a:pt x="1906" y="155"/>
                  </a:lnTo>
                  <a:lnTo>
                    <a:pt x="2564" y="1185"/>
                  </a:lnTo>
                  <a:lnTo>
                    <a:pt x="2760" y="0"/>
                  </a:lnTo>
                  <a:lnTo>
                    <a:pt x="3047" y="1173"/>
                  </a:lnTo>
                  <a:lnTo>
                    <a:pt x="3780" y="194"/>
                  </a:lnTo>
                  <a:lnTo>
                    <a:pt x="3423" y="1321"/>
                  </a:lnTo>
                  <a:lnTo>
                    <a:pt x="5267" y="211"/>
                  </a:lnTo>
                  <a:lnTo>
                    <a:pt x="3799" y="1631"/>
                  </a:lnTo>
                  <a:lnTo>
                    <a:pt x="5382" y="1340"/>
                  </a:lnTo>
                  <a:lnTo>
                    <a:pt x="4051" y="2151"/>
                  </a:lnTo>
                  <a:lnTo>
                    <a:pt x="5682" y="2418"/>
                  </a:lnTo>
                  <a:lnTo>
                    <a:pt x="4051" y="2696"/>
                  </a:lnTo>
                  <a:lnTo>
                    <a:pt x="5137" y="3427"/>
                  </a:lnTo>
                  <a:lnTo>
                    <a:pt x="3799" y="3229"/>
                  </a:lnTo>
                  <a:lnTo>
                    <a:pt x="5473" y="4366"/>
                  </a:lnTo>
                  <a:lnTo>
                    <a:pt x="3464" y="3526"/>
                  </a:lnTo>
                  <a:lnTo>
                    <a:pt x="3780" y="4503"/>
                  </a:lnTo>
                  <a:lnTo>
                    <a:pt x="3047" y="3677"/>
                  </a:lnTo>
                  <a:lnTo>
                    <a:pt x="2783" y="4992"/>
                  </a:lnTo>
                  <a:lnTo>
                    <a:pt x="2564" y="3677"/>
                  </a:lnTo>
                  <a:lnTo>
                    <a:pt x="1755" y="4466"/>
                  </a:lnTo>
                  <a:lnTo>
                    <a:pt x="2118" y="3526"/>
                  </a:lnTo>
                  <a:lnTo>
                    <a:pt x="533" y="4422"/>
                  </a:lnTo>
                  <a:lnTo>
                    <a:pt x="1772" y="3146"/>
                  </a:lnTo>
                  <a:lnTo>
                    <a:pt x="543" y="3260"/>
                  </a:lnTo>
                  <a:lnTo>
                    <a:pt x="1582" y="2639"/>
                  </a:lnTo>
                  <a:lnTo>
                    <a:pt x="0" y="2261"/>
                  </a:lnTo>
                  <a:lnTo>
                    <a:pt x="0" y="226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398760"/>
              <a:ext cx="3106800" cy="2754360"/>
            </a:xfrm>
            <a:custGeom>
              <a:avLst/>
              <a:gdLst/>
              <a:ahLst/>
              <a:rect l="l" t="t" r="r" b="b"/>
              <a:pathLst>
                <a:path w="5680" h="4994">
                  <a:moveTo>
                    <a:pt x="0" y="2263"/>
                  </a:moveTo>
                  <a:lnTo>
                    <a:pt x="1596" y="2097"/>
                  </a:lnTo>
                  <a:lnTo>
                    <a:pt x="679" y="1402"/>
                  </a:lnTo>
                  <a:lnTo>
                    <a:pt x="1807" y="1650"/>
                  </a:lnTo>
                  <a:lnTo>
                    <a:pt x="432" y="270"/>
                  </a:lnTo>
                  <a:lnTo>
                    <a:pt x="2184" y="1323"/>
                  </a:lnTo>
                  <a:lnTo>
                    <a:pt x="1900" y="155"/>
                  </a:lnTo>
                  <a:lnTo>
                    <a:pt x="2560" y="1185"/>
                  </a:lnTo>
                  <a:lnTo>
                    <a:pt x="2756" y="0"/>
                  </a:lnTo>
                  <a:lnTo>
                    <a:pt x="3041" y="1173"/>
                  </a:lnTo>
                  <a:lnTo>
                    <a:pt x="3776" y="194"/>
                  </a:lnTo>
                  <a:lnTo>
                    <a:pt x="3417" y="1323"/>
                  </a:lnTo>
                  <a:lnTo>
                    <a:pt x="5263" y="213"/>
                  </a:lnTo>
                  <a:lnTo>
                    <a:pt x="3795" y="1635"/>
                  </a:lnTo>
                  <a:lnTo>
                    <a:pt x="5378" y="1342"/>
                  </a:lnTo>
                  <a:lnTo>
                    <a:pt x="4045" y="2153"/>
                  </a:lnTo>
                  <a:lnTo>
                    <a:pt x="5680" y="2418"/>
                  </a:lnTo>
                  <a:lnTo>
                    <a:pt x="4045" y="2696"/>
                  </a:lnTo>
                  <a:lnTo>
                    <a:pt x="5133" y="3429"/>
                  </a:lnTo>
                  <a:lnTo>
                    <a:pt x="3795" y="3231"/>
                  </a:lnTo>
                  <a:lnTo>
                    <a:pt x="5471" y="4370"/>
                  </a:lnTo>
                  <a:lnTo>
                    <a:pt x="3462" y="3526"/>
                  </a:lnTo>
                  <a:lnTo>
                    <a:pt x="3776" y="4507"/>
                  </a:lnTo>
                  <a:lnTo>
                    <a:pt x="3041" y="3677"/>
                  </a:lnTo>
                  <a:lnTo>
                    <a:pt x="2779" y="4994"/>
                  </a:lnTo>
                  <a:lnTo>
                    <a:pt x="2560" y="3677"/>
                  </a:lnTo>
                  <a:lnTo>
                    <a:pt x="1755" y="4467"/>
                  </a:lnTo>
                  <a:lnTo>
                    <a:pt x="2114" y="3526"/>
                  </a:lnTo>
                  <a:lnTo>
                    <a:pt x="533" y="4424"/>
                  </a:lnTo>
                  <a:lnTo>
                    <a:pt x="1771" y="3146"/>
                  </a:lnTo>
                  <a:lnTo>
                    <a:pt x="543" y="3260"/>
                  </a:lnTo>
                  <a:lnTo>
                    <a:pt x="1579" y="2642"/>
                  </a:lnTo>
                  <a:lnTo>
                    <a:pt x="0" y="2263"/>
                  </a:lnTo>
                  <a:lnTo>
                    <a:pt x="0" y="2263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448000" y="4476600"/>
              <a:ext cx="1028880" cy="474480"/>
              <a:chOff x="2448000" y="4476600"/>
              <a:chExt cx="102888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48000" y="4476600"/>
                <a:ext cx="638640" cy="47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28280" y="4595760"/>
                <a:ext cx="948600" cy="228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 2002 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759400" y="4971960"/>
              <a:ext cx="931320" cy="0"/>
            </a:xfrm>
            <a:prstGeom prst="line">
              <a:avLst/>
            </a:prstGeom>
            <a:ln w="57240">
              <a:solidFill>
                <a:srgbClr val="ffff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376880"/>
              <a:ext cx="1757880" cy="1020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aureus R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ncomic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-61740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¿Cómo racionalizar uso antimicrobiano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25840" y="2666880"/>
            <a:ext cx="381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48320" y="2209680"/>
            <a:ext cx="3954240" cy="2285640"/>
            <a:chOff x="4648320" y="2209680"/>
            <a:chExt cx="3954240" cy="22856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0" t="31171" r="0" b="52852"/>
            <a:stretch/>
          </p:blipFill>
          <p:spPr>
            <a:xfrm>
              <a:off x="4648320" y="3532680"/>
              <a:ext cx="395424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rcRect l="0" t="0" r="0" b="75611"/>
            <a:stretch/>
          </p:blipFill>
          <p:spPr>
            <a:xfrm>
              <a:off x="4648320" y="2209680"/>
              <a:ext cx="395424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20000" t="0" r="31114" b="0"/>
          <a:stretch/>
        </p:blipFill>
        <p:spPr>
          <a:xfrm>
            <a:off x="5181480" y="4572000"/>
            <a:ext cx="22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1993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etap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 preveni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stencia a  antibiótic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407880" y="3413160"/>
            <a:ext cx="9555840" cy="3431880"/>
            <a:chOff x="-407880" y="3413160"/>
            <a:chExt cx="9555840" cy="3431880"/>
          </a:xfrm>
        </p:grpSpPr>
        <p:grpSp>
          <p:nvGrpSpPr>
            <p:cNvPr id="262" name=""/>
            <p:cNvGrpSpPr/>
            <p:nvPr/>
          </p:nvGrpSpPr>
          <p:grpSpPr>
            <a:xfrm>
              <a:off x="198720" y="3603600"/>
              <a:ext cx="4907160" cy="2692440"/>
              <a:chOff x="198720" y="3603600"/>
              <a:chExt cx="4907160" cy="269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720" y="6296040"/>
                <a:ext cx="4907160" cy="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040" y="6057720"/>
                <a:ext cx="4695480" cy="180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160" y="5813280"/>
                <a:ext cx="4482360" cy="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878760" y="5568480"/>
                <a:ext cx="4226760" cy="180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1076040" y="5320800"/>
                <a:ext cx="4028040" cy="32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317960" y="5078520"/>
                <a:ext cx="3787920" cy="14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29280" y="4836960"/>
                <a:ext cx="3576240" cy="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28360" y="4578120"/>
                <a:ext cx="3377160" cy="140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4346640"/>
                <a:ext cx="3145680" cy="468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243520" y="4093920"/>
                <a:ext cx="2862000" cy="612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60600" y="3846600"/>
                <a:ext cx="26449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800" y="3603600"/>
                <a:ext cx="24487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-407880" y="3413160"/>
              <a:ext cx="5667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ar  contag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  Aislar 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Detener tratami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  Decir no a la V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No tratar colon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  No tratar contamin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Participación expe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  Uso datos loc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 Control antimicrobi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Actuar directamente sobre el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Sacar catéte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Vacu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6560" y="3635280"/>
              <a:ext cx="400140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"/>
                </a:rPr>
                <a:t>Prevenir transmi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Arial"/>
                </a:rPr>
                <a:t>Uso racional antimicrobi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Diagnóstico y tratamiento efe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</a:rPr>
                <a:t>Prevenir infec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2286000"/>
            <a:ext cx="9144000" cy="736560"/>
            <a:chOff x="0" y="2286000"/>
            <a:chExt cx="9144000" cy="736560"/>
          </a:xfrm>
        </p:grpSpPr>
        <p:sp>
          <p:nvSpPr>
            <p:cNvPr id="278" name=""/>
            <p:cNvSpPr/>
            <p:nvPr/>
          </p:nvSpPr>
          <p:spPr>
            <a:xfrm>
              <a:off x="0" y="2516040"/>
              <a:ext cx="9144000" cy="274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2280" y="2468520"/>
              <a:ext cx="4016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cc"/>
                  </a:solidFill>
                  <a:latin typeface="Arial"/>
                </a:rPr>
                <a:t>12 Steps to Prevent Antimicrobial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84600" y="2286000"/>
              <a:ext cx="661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523880" y="1295280"/>
            <a:ext cx="72392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enters for Disease Control and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ational Center for Infectious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ivision of Healthcare Quality 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y de venta restringida de antimicrobianos (receta médica), 199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infecciosa y no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NC-sulf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rece un milagr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no infecciosa e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ientos de molécu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No le pidamos milagro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enta de antimicrobianos, por grupos, (USD). Chile, 1998 - 2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1981080"/>
          <a:ext cx="8382240" cy="4159440"/>
        </p:xfrm>
        <a:graphic>
          <a:graphicData uri="http://schemas.openxmlformats.org/drawingml/2006/table">
            <a:tbl>
              <a:tblPr/>
              <a:tblGrid>
                <a:gridCol w="3353040"/>
                <a:gridCol w="1752480"/>
                <a:gridCol w="167652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antibió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amplio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747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227.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405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ólidos y simi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63.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448.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553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m-red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2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75.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72.7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falospo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8.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93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4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or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75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15.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392.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trimoxaz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16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7.6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71.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ciclinas y asoci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66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65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ranfeni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5.848.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8.915.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2.141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6248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uente:  IMS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a quié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 personal de salud: los prescript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os period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a población gen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 los niñ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Antimicrobianos: Uno de los avances más importantes en la medicina siglo X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gia...tratar de solucionar todo con e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quilibri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están indicados: perfec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no están indicados: antimicrobianos pueden ser reemplazados por un poco de tiempo, una explicación, un consuelo, una observación estricta, un control médico, un par de exámenes de laborato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76520"/>
            <a:ext cx="9144000" cy="304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ntimicrobianos hoy.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3480" y="59436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05740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   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 de antimicrobi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880" y="2362320"/>
          <a:ext cx="8305920" cy="33163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19320"/>
                <a:gridCol w="129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9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ercado farmacéutico total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tibióticos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3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des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enicilinas amplio espectro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acr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efalosporina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9040" y="220968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141720"/>
            <a:ext cx="8280360" cy="71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¿Cómo medir el consumo de antimicrobiano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nidades de envase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(IMS Healt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ato cuantitativo...pero poco seg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DD/1.000 habs-d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sumo de la dosis diaria definida específica de un antimicrobiano por cada 1.000 habs en un d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DD/1.000 habs-día = 3   “3 habs de cada 1.000 consumen cada día la DDD específica de un antimicrobiano, en la población en estudi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DDD/1000 habs/día, Chile,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1996-19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ntimicrobian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oxicil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4,61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5,57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X-ác clavulánic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57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60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6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la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4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z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03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7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adroxil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2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5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uroxim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15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2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iprofloxa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1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ntimicrobia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484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amb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o Resident Physicians Use Antibiotics Appropiately in Treating Upper Respiratory Infections?. A Survey of 11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lin Infect Dis 2003;37:853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2:44:34Z</dcterms:created>
  <dc:creator>mariela</dc:creator>
  <dc:description/>
  <dc:language>en-US</dc:language>
  <cp:lastModifiedBy>usuario</cp:lastModifiedBy>
  <dcterms:modified xsi:type="dcterms:W3CDTF">2006-04-29T22:45:00Z</dcterms:modified>
  <cp:revision>58</cp:revision>
  <dc:subject/>
  <dc:title>Sociedad Chilena Infectología- Prevención resistencia bacteriana</dc:title>
</cp:coreProperties>
</file>