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ct" ContentType="image/x-pict"/>
  <Override PartName="/ppt/media/image11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884-0F5C-4852-8658-029DF8D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910-ABBB-4FD1-914D-07DFBA4D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622-5004-4DF5-9B0C-423B643D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012-0660-4447-BE35-8BD15B0A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63F9-DCBB-451E-9CF8-94C2056B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004-0983-4FD5-AD40-946536C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C7C-19BE-4010-A434-7DA125DF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3481-3BC8-4E43-8785-93F588E5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DDC-8AE6-4DA0-A044-DD37E142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B9B8-2E08-4333-A2B4-CA0BFCAB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FD0-9C59-46B4-8BE7-C04C342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BE1-ABFC-4D1F-88F3-A513103C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6CD-3747-47F8-86AE-C80070B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B1C3-3BB5-4AA5-9C14-A73BE2E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0B9-B409-4E96-9D56-B079A92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735-FC7C-469D-8A00-A2EE1199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C05F-8412-4348-B661-B8AB144D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0BF-92FF-4B9D-A418-5CB2937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BEB-3DC4-4368-AECE-3D364A9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28B-32D6-45F5-A6E2-99A48E0E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CAF-B2A6-4FF9-9E49-9AA49D37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E9E-FFBF-4AD5-BC6D-EC69398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FFB-CA74-4FF1-8829-2E49ADD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68B-EFA7-49D8-84A6-72D7A32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24C-E0E7-4E13-9C01-6D888D6026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26D-A05F-4B22-B3E4-9C01C2E39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9760" y="1143000"/>
            <a:ext cx="74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SUFICIENCI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ARDIA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7280" y="5410080"/>
            <a:ext cx="51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O CARDIO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FICIENCIA  CARDIA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SIOPATOLOGIA            Sobrecarga de 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63244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16002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520" y="236232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6480" y="4419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8680" y="281952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enosis  valvula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pra o subvalv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artación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4876920"/>
            <a:ext cx="10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1440" y="640080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15328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560" y="295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160" y="905040"/>
            <a:ext cx="81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   Mala CONTRAC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90188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787480"/>
            <a:ext cx="27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lam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póx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ó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gener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diop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676520"/>
            <a:ext cx="853416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19692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RESTRICCION  DIAST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4720" y="190512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55880" y="2948040"/>
            <a:ext cx="43092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RE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C.  CON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P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HIPERTRO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632448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-533520" y="-1676520"/>
          <a:ext cx="1005840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1676520"/>
                    <a:ext cx="1005840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85800" y="990720"/>
            <a:ext cx="7543800" cy="52578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-1447920"/>
          <a:ext cx="10058400" cy="883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7920"/>
                    <a:ext cx="10058400" cy="88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14400" y="533520"/>
            <a:ext cx="7086600" cy="586728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-380880" y="-1143000"/>
          <a:ext cx="105156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1143000"/>
                    <a:ext cx="105156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14400" y="762120"/>
            <a:ext cx="7086600" cy="55623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8480" y="8650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9920" y="121932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6800" y="2236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2693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INA-A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4040" y="345600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4280" y="2879640"/>
            <a:ext cx="19332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95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572000"/>
            <a:ext cx="380880" cy="1371600"/>
          </a:xfrm>
          <a:prstGeom prst="upArrow">
            <a:avLst>
              <a:gd name="adj1" fmla="val 50000"/>
              <a:gd name="adj2" fmla="val 90028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4376880"/>
            <a:ext cx="46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Arteri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tención agua y 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36232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74320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20040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4480" y="817560"/>
            <a:ext cx="71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38840" y="121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5920" y="2614680"/>
            <a:ext cx="453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ILA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Star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HIPERTR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Lapl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133720"/>
          <a:ext cx="28195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28195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1600" y="606600"/>
            <a:ext cx="69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00" y="2101680"/>
            <a:ext cx="4764960" cy="33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am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 Fí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x Tor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O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tudio Hemodin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5840" y="60958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 CARDIOVASCULAR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09560" y="60660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A CARDIA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8520" y="2220840"/>
            <a:ext cx="40042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DI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PAT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PULM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VISC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80" y="5985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HOSP L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219320"/>
            <a:ext cx="365760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93320" y="76320"/>
            <a:ext cx="71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5440" y="1251000"/>
            <a:ext cx="34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0440" y="2286000"/>
            <a:ext cx="460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er DEBI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orde a DEMAN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4640" y="586728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906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90360" y="121932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T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5160" y="457200"/>
            <a:ext cx="69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3200" y="1905120"/>
            <a:ext cx="325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aquicar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li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alid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ud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000" y="609588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343400" cy="3255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71480" y="83808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: 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1480" y="470232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080" y="1905120"/>
            <a:ext cx="4767840" cy="399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 diagnóstic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Congén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diomiopa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ocard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. Pericárd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qu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rritm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8600" y="6324480"/>
            <a:ext cx="71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97880" y="2209680"/>
            <a:ext cx="8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40644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560" y="406440"/>
            <a:ext cx="78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2200" y="13716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TERISMO   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21000" y="623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9760" y="2708280"/>
            <a:ext cx="4484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.  INTERVE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4880" y="608004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CARDIOVASCULAR   HOSP 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82080" y="65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7920" y="120960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014560"/>
            <a:ext cx="6721560" cy="40183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MENTACION  FRACCIONADA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T. ENERGICO INF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HIPERT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O DE 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ION DE LA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70120" y="6001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5720" y="12096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9560" y="1892160"/>
            <a:ext cx="7351200" cy="418932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ARGA  :               DIUR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CARGA :             VASODILA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RACTILIDAD :  INOTRO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EC. CARDIACA :     ANTIARRIT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ARCA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82080" y="38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inotróp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40760" y="213372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ildigoxina  ( Lanitop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MR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3400" y="2919240"/>
            <a:ext cx="387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osis: 5 Gama / Kg / d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895480"/>
            <a:ext cx="403848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895480"/>
            <a:ext cx="304812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44560" y="90504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9160" y="327672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urét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9680" y="198108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 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UROSEMI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0,5-1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2560" y="792000"/>
            <a:ext cx="58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EJO FARMAC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9680" y="434340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horradores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PIRONOLACT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5-3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2608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76520"/>
            <a:ext cx="8382240" cy="4724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25800" y="8380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9720" y="1614600"/>
            <a:ext cx="42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asodilatado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520" y="2666880"/>
            <a:ext cx="7922520" cy="29574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teriales       : Hidralaz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enosos          : Nitr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ixtos            : Captopril, Enala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UFICIENCIA  CARD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20" y="601992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80" y="1812960"/>
            <a:ext cx="823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 aquel estado fisiopatológico y clínico  que  se  produce  cuando  las demandas  de flujo de  los  tejidos no son   satisfechas  adecuadamente,   y  cuando  la  causa de  esta  alteración  esta  a  nivel del coraz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58200" cy="4191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96080" y="1454040"/>
            <a:ext cx="18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TE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760" y="318960"/>
            <a:ext cx="82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 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320" y="624852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8400" y="990720"/>
            <a:ext cx="418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200400" cy="245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40692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6960" y="53341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A-CIV-DUCTUS-CAV-CoAo-FALLOT-TGA 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22320" y="1419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 CORREC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990720"/>
            <a:ext cx="8305920" cy="5181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680" y="306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1960" y="1447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SIMPLE o  C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09720" y="2082960"/>
            <a:ext cx="4591080" cy="337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4495680" y="-1523880"/>
            <a:ext cx="14554080" cy="1070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15480" y="28954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ING  T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9840" y="369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18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" y="4507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0240" y="243828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PAL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8153280" cy="4647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1600" y="3962520"/>
            <a:ext cx="48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 UNICO ANATOMICO O  FUN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OS ESPECIALES  DE  CIV Y C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219320"/>
            <a:ext cx="3505320" cy="4724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240" y="4648320"/>
            <a:ext cx="30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5181480"/>
            <a:ext cx="36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. Diastólic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8960" y="160020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526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880" y="3014640"/>
            <a:ext cx="37119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torac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pericar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t. mu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75452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.   AU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2280" y="52862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 MI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700280"/>
          <a:ext cx="3066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0280"/>
                    <a:ext cx="3066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54600" y="3013200"/>
            <a:ext cx="221400" cy="4377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5200" y="3106800"/>
            <a:ext cx="176040" cy="33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19320"/>
            <a:ext cx="3505320" cy="3657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0560" y="3714840"/>
            <a:ext cx="3359160" cy="1117800"/>
            <a:chOff x="610560" y="3714840"/>
            <a:chExt cx="3359160" cy="1117800"/>
          </a:xfrm>
        </p:grpSpPr>
        <p:sp>
          <p:nvSpPr>
            <p:cNvPr id="116" name=""/>
            <p:cNvSpPr/>
            <p:nvPr/>
          </p:nvSpPr>
          <p:spPr>
            <a:xfrm>
              <a:off x="610560" y="3714840"/>
              <a:ext cx="3052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STCARG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" y="4141800"/>
              <a:ext cx="3356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erza que se op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la eyec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38080" y="5486400"/>
            <a:ext cx="2438280" cy="941400"/>
            <a:chOff x="838080" y="5486400"/>
            <a:chExt cx="2438280" cy="941400"/>
          </a:xfrm>
        </p:grpSpPr>
        <p:sp>
          <p:nvSpPr>
            <p:cNvPr id="119" name=""/>
            <p:cNvSpPr/>
            <p:nvPr/>
          </p:nvSpPr>
          <p:spPr>
            <a:xfrm>
              <a:off x="838080" y="5486400"/>
              <a:ext cx="1069560" cy="941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4760" y="5769000"/>
              <a:ext cx="555840" cy="423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07160" y="5486400"/>
              <a:ext cx="1069200" cy="941400"/>
              <a:chOff x="2207160" y="5486400"/>
              <a:chExt cx="1069200" cy="941400"/>
            </a:xfrm>
          </p:grpSpPr>
          <p:sp>
            <p:nvSpPr>
              <p:cNvPr id="122" name=""/>
              <p:cNvSpPr/>
              <p:nvPr/>
            </p:nvSpPr>
            <p:spPr>
              <a:xfrm>
                <a:off x="2207160" y="5486400"/>
                <a:ext cx="1069200" cy="9414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35320" y="5626440"/>
                <a:ext cx="812520" cy="659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33520" y="4910040"/>
            <a:ext cx="861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PLACE :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nsión en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371600"/>
          <a:ext cx="190512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19051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rot="3172800">
            <a:off x="662400" y="1729800"/>
            <a:ext cx="776160" cy="336600"/>
          </a:xfrm>
          <a:custGeom>
            <a:avLst/>
            <a:gdLst>
              <a:gd name="textAreaLeft" fmla="*/ 96840 w 776160"/>
              <a:gd name="textAreaRight" fmla="*/ 679320 w 77616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8229600" cy="1752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029200"/>
            <a:ext cx="533520" cy="380880"/>
          </a:xfrm>
          <a:custGeom>
            <a:avLst/>
            <a:gdLst>
              <a:gd name="textAreaLeft" fmla="*/ 8316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5697360"/>
            <a:ext cx="5086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. Intracav x Radio 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609588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4280" y="1467000"/>
            <a:ext cx="41432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ion  Intracav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umen Vent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2096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1360" y="25909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.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057400"/>
            <a:ext cx="609480" cy="1371600"/>
          </a:xfrm>
          <a:custGeom>
            <a:avLst/>
            <a:gdLst>
              <a:gd name="textAreaLeft" fmla="*/ 389520 w 609480"/>
              <a:gd name="textAreaRight" fmla="*/ 60984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4400" y="205740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. Pe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act. Ar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172800">
            <a:off x="694080" y="1743840"/>
            <a:ext cx="776520" cy="336600"/>
          </a:xfrm>
          <a:custGeom>
            <a:avLst/>
            <a:gdLst>
              <a:gd name="textAreaLeft" fmla="*/ 96840 w 776520"/>
              <a:gd name="textAreaRight" fmla="*/ 679680 w 77652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609480" y="1219320"/>
            <a:ext cx="2819520" cy="3047760"/>
            <a:chOff x="609480" y="1219320"/>
            <a:chExt cx="2819520" cy="3047760"/>
          </a:xfrm>
        </p:grpSpPr>
        <p:graphicFrame>
          <p:nvGraphicFramePr>
            <p:cNvPr id="139" name=""/>
            <p:cNvGraphicFramePr/>
            <p:nvPr/>
          </p:nvGraphicFramePr>
          <p:xfrm>
            <a:off x="609480" y="1219320"/>
            <a:ext cx="2819520" cy="30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219320"/>
                      <a:ext cx="281952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V="1">
              <a:off x="1473480" y="2809440"/>
              <a:ext cx="432000" cy="39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482200" y="3339360"/>
              <a:ext cx="432000" cy="596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553840" y="2743200"/>
              <a:ext cx="648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1066680"/>
            <a:ext cx="4114800" cy="5181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436248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560" y="492120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elocidad  de  acor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miento de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800" y="247680"/>
            <a:ext cx="87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560" y="1852560"/>
            <a:ext cx="472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p. Intrin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im. adrenér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352680"/>
            <a:ext cx="4038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ecarga ( + 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stcarga ( -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676520"/>
            <a:ext cx="1752840" cy="1295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440" y="60958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" y="22212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560" y="76212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5400" y="7160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brecarga  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8520" y="236232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UNT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7520" y="3038400"/>
            <a:ext cx="299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IA   CIV  Duc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nal 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onco Ateri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íst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1640" y="49212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UF. VALV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6600" y="152388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2:08:43Z</dcterms:created>
  <dc:creator>Ecocardiagrafía</dc:creator>
  <dc:description/>
  <dc:language>en-US</dc:language>
  <cp:lastModifiedBy>José Manuel Guajardo</cp:lastModifiedBy>
  <dcterms:modified xsi:type="dcterms:W3CDTF">2006-06-20T20:29:57Z</dcterms:modified>
  <cp:revision>62</cp:revision>
  <dc:subject/>
  <dc:title>Sin título de diapositiva</dc:title>
</cp:coreProperties>
</file>