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5.jpeg" ContentType="image/jpeg"/>
  <Override PartName="/ppt/media/image26.jpeg" ContentType="image/jpeg"/>
  <Override PartName="/ppt/media/image8.wmf" ContentType="image/x-wmf"/>
  <Override PartName="/ppt/media/image61.jpeg" ContentType="image/jpeg"/>
  <Override PartName="/ppt/media/image32.png" ContentType="image/png"/>
  <Override PartName="/ppt/media/image2.png" ContentType="image/png"/>
  <Override PartName="/ppt/media/image14.png" ContentType="image/png"/>
  <Override PartName="/ppt/media/image21.gif" ContentType="image/gif"/>
  <Override PartName="/ppt/media/image10.jpeg" ContentType="image/jpeg"/>
  <Override PartName="/ppt/media/image25.png" ContentType="image/png"/>
  <Override PartName="/ppt/media/image56.jpeg" ContentType="image/jpeg"/>
  <Override PartName="/ppt/media/image33.png" ContentType="image/png"/>
  <Override PartName="/ppt/media/image29.png" ContentType="image/png"/>
  <Override PartName="/ppt/media/image31.png" ContentType="image/png"/>
  <Override PartName="/ppt/media/image13.png" ContentType="image/png"/>
  <Override PartName="/ppt/media/image1.png" ContentType="image/png"/>
  <Override PartName="/ppt/media/image27.png" ContentType="image/png"/>
  <Override PartName="/ppt/media/image28.jpeg" ContentType="image/jpeg"/>
  <Override PartName="/ppt/media/image22.png" ContentType="image/png"/>
  <Override PartName="/ppt/media/image24.jpeg" ContentType="image/jpeg"/>
  <Override PartName="/ppt/media/image3.png" ContentType="image/png"/>
  <Override PartName="/ppt/media/image15.png" ContentType="image/png"/>
  <Override PartName="/ppt/media/image57.wmf" ContentType="image/x-wmf"/>
  <Override PartName="/ppt/media/image17.png" ContentType="image/png"/>
  <Override PartName="/ppt/media/image19.png" ContentType="image/png"/>
  <Override PartName="/ppt/media/image60.jpeg" ContentType="image/jpeg"/>
  <Override PartName="/ppt/media/image30.png" ContentType="image/png"/>
  <Override PartName="/ppt/media/image16.png" ContentType="image/png"/>
  <Override PartName="/ppt/media/image49.jpeg" ContentType="image/jpeg"/>
  <Override PartName="/ppt/media/image9.png" ContentType="image/png"/>
  <Override PartName="/ppt/media/image7.wmf" ContentType="image/x-wmf"/>
  <Override PartName="/ppt/media/image12.png" ContentType="image/png"/>
  <Override PartName="/ppt/media/image59.jpeg" ContentType="image/jpeg"/>
  <Override PartName="/ppt/media/image6.png" ContentType="image/png"/>
  <Override PartName="/ppt/media/image42.jpeg" ContentType="image/jpeg"/>
  <Override PartName="/ppt/media/image18.png" ContentType="image/png"/>
  <Override PartName="/ppt/media/image58.wmf" ContentType="image/x-wmf"/>
  <Override PartName="/ppt/media/image34.jpeg" ContentType="image/jpeg"/>
  <Override PartName="/ppt/media/image37.png" ContentType="image/png"/>
  <Override PartName="/ppt/media/image35.png" ContentType="image/png"/>
  <Override PartName="/ppt/media/image36.jpeg" ContentType="image/jpeg"/>
  <Override PartName="/ppt/media/image39.wmf" ContentType="image/x-wmf"/>
  <Override PartName="/ppt/media/image40.jpeg" ContentType="image/jpeg"/>
  <Override PartName="/ppt/media/image41.jpeg" ContentType="image/jpeg"/>
  <Override PartName="/ppt/media/image54.png" ContentType="image/png"/>
  <Override PartName="/ppt/media/image43.png" ContentType="image/png"/>
  <Override PartName="/ppt/media/image38.png" ContentType="image/png"/>
  <Override PartName="/ppt/media/image44.jpeg" ContentType="image/jpeg"/>
  <Override PartName="/ppt/media/image45.jpeg" ContentType="image/jpeg"/>
  <Override PartName="/ppt/media/image20.jpeg" ContentType="image/jpeg"/>
  <Override PartName="/ppt/media/image55.png" ContentType="image/png"/>
  <Override PartName="/ppt/media/image46.png" ContentType="image/png"/>
  <Override PartName="/ppt/media/image47.jpeg" ContentType="image/jpeg"/>
  <Override PartName="/ppt/media/image48.jpeg" ContentType="image/jpeg"/>
  <Override PartName="/ppt/media/image50.jpeg" ContentType="image/jpeg"/>
  <Override PartName="/ppt/media/image52.png" ContentType="image/png"/>
  <Override PartName="/ppt/media/image4.jpeg" ContentType="image/jpeg"/>
  <Override PartName="/ppt/media/image51.png" ContentType="image/png"/>
  <Override PartName="/ppt/media/image23.png" ContentType="image/png"/>
  <Override PartName="/ppt/media/image5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1B4B-2FB5-4987-9B97-32607668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3DCC-A25E-40D3-87E0-EA46B7BA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4043-F44B-4054-911F-BD6D94059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BEF5-86E9-45B9-99BB-C6D2C515D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6373-804E-411B-B128-6620F955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D88A-113B-475F-9041-D8355982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4DF9-F333-464E-94AE-5D0A66A4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B31F-BF52-4C67-B147-D6B9834B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2259-6EAF-4A2E-9593-B0017A27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4270-F283-4296-A861-CE56ADC7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F00B-14C3-4233-8A89-CE0E2E16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556C-DA14-425F-B9F0-49078C9C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CFEC-007E-4A74-8131-8653CC1F76C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gif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30.pn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8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380880" y="685800"/>
            <a:ext cx="3837240" cy="5715000"/>
          </a:xfrm>
          <a:prstGeom prst="rect">
            <a:avLst/>
          </a:prstGeom>
          <a:ln w="57240">
            <a:solidFill>
              <a:srgbClr val="cc00ff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4267080" y="2286000"/>
            <a:ext cx="5029200" cy="2135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Dauphin"/>
              </a:rPr>
              <a:t>Cardiopatías Congénitas</a:t>
            </a:r>
            <a:r>
              <a:rPr b="1" i="1" lang="es-ES_tradnl" sz="4000" spc="-1" strike="noStrike">
                <a:solidFill>
                  <a:srgbClr val="009999"/>
                </a:solidFill>
                <a:latin typeface="Dauphi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cc00ff"/>
                </a:solidFill>
                <a:latin typeface="Dauphin"/>
              </a:rPr>
              <a:t>Cianótic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6338880"/>
            <a:ext cx="8458200" cy="5205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Times New Roman"/>
              </a:rPr>
              <a:t>Centro Cardiovascular     Hosp. L Calvo Macke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33520" y="838080"/>
            <a:ext cx="2103480" cy="25909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286000" y="838080"/>
            <a:ext cx="803160" cy="9907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533520" y="3733920"/>
            <a:ext cx="2133360" cy="26971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2362320" y="5410080"/>
            <a:ext cx="853920" cy="9907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2895480" y="2362320"/>
            <a:ext cx="2041560" cy="25146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3656520" y="762120"/>
            <a:ext cx="5022360" cy="106884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Times New Roman"/>
              </a:rPr>
              <a:t>CLASIFICACION  DE 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Times New Roman"/>
              </a:rPr>
              <a:t>            </a:t>
            </a:r>
            <a:r>
              <a:rPr b="1" lang="es-ES_tradnl" sz="3200" spc="-1" strike="noStrike">
                <a:solidFill>
                  <a:srgbClr val="ffff99"/>
                </a:solidFill>
                <a:latin typeface="Times New Roman"/>
              </a:rPr>
              <a:t>CIA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63800" y="2849400"/>
            <a:ext cx="21711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5b8e6"/>
                </a:solidFill>
                <a:latin typeface="Times New Roman"/>
              </a:rPr>
              <a:t>CEN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86760" y="3828960"/>
            <a:ext cx="2713680" cy="581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5b8e6"/>
                </a:solidFill>
                <a:latin typeface="Times New Roman"/>
              </a:rPr>
              <a:t>PERIF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4648320"/>
            <a:ext cx="20574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2362320"/>
            <a:ext cx="2057400" cy="25146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71600" y="9144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LASIFICACION CIA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2438280"/>
            <a:ext cx="2286000" cy="642600"/>
          </a:xfrm>
          <a:prstGeom prst="rect">
            <a:avLst/>
          </a:prstGeom>
          <a:solidFill>
            <a:srgbClr val="be51c1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5b8e6"/>
                </a:solidFill>
                <a:latin typeface="Times New Roman"/>
              </a:rPr>
              <a:t>Perifé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5257800"/>
            <a:ext cx="1905120" cy="642600"/>
          </a:xfrm>
          <a:prstGeom prst="rect">
            <a:avLst/>
          </a:prstGeom>
          <a:solidFill>
            <a:srgbClr val="be51c1"/>
          </a:solidFill>
          <a:ln w="9360">
            <a:solidFill>
              <a:srgbClr val="ffff99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5b8e6"/>
                </a:solidFill>
                <a:latin typeface="Times New Roman"/>
              </a:rPr>
              <a:t>Cent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25840" y="2209680"/>
            <a:ext cx="1731960" cy="4597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5b8e6"/>
                </a:solidFill>
                <a:latin typeface="Times New Roman"/>
              </a:rPr>
              <a:t>Fis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3419640"/>
            <a:ext cx="1828800" cy="4597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5b8e6"/>
                </a:solidFill>
                <a:latin typeface="Times New Roman"/>
              </a:rPr>
              <a:t>Pat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5880" y="3151080"/>
            <a:ext cx="289584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5b8e6"/>
                </a:solidFill>
                <a:latin typeface="Times New Roman"/>
              </a:rPr>
              <a:t>Hipoglic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5b8e6"/>
                </a:solidFill>
                <a:latin typeface="Times New Roman"/>
              </a:rPr>
              <a:t>Hipoter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5b8e6"/>
                </a:solidFill>
                <a:latin typeface="Times New Roman"/>
              </a:rPr>
              <a:t>Sho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5b8e6"/>
                </a:solidFill>
                <a:latin typeface="Times New Roman"/>
              </a:rPr>
              <a:t>Hiperviscos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43600" y="2209680"/>
            <a:ext cx="2209680" cy="4597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5b8e6"/>
                </a:solidFill>
                <a:latin typeface="Times New Roman"/>
              </a:rPr>
              <a:t>   </a:t>
            </a:r>
            <a:r>
              <a:rPr b="1" lang="es-ES_tradnl" sz="2400" spc="-1" strike="noStrike">
                <a:solidFill>
                  <a:srgbClr val="e5b8e6"/>
                </a:solidFill>
                <a:latin typeface="Times New Roman"/>
              </a:rPr>
              <a:t>Vasomo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743200" y="2437920"/>
            <a:ext cx="685800" cy="3812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47440" y="3024360"/>
            <a:ext cx="648720" cy="50292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2971800"/>
            <a:ext cx="2895480" cy="17524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396040" y="2544840"/>
            <a:ext cx="444240" cy="540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4120" y="3657600"/>
            <a:ext cx="45720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5257800"/>
            <a:ext cx="1523880" cy="685800"/>
          </a:xfrm>
          <a:custGeom>
            <a:avLst/>
            <a:gdLst>
              <a:gd name="textAreaLeft" fmla="*/ 190440 w 1523880"/>
              <a:gd name="textAreaRight" fmla="*/ 1333440 w 15238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e51c1"/>
          </a:solidFill>
          <a:ln w="9360">
            <a:solidFill>
              <a:srgbClr val="e5b8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59360" y="5257800"/>
            <a:ext cx="3304800" cy="642600"/>
          </a:xfrm>
          <a:prstGeom prst="rect">
            <a:avLst/>
          </a:prstGeom>
          <a:solidFill>
            <a:srgbClr val="be51c1"/>
          </a:solidFill>
          <a:ln w="9360">
            <a:solidFill>
              <a:srgbClr val="ffff99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5b8e6"/>
                </a:solidFill>
                <a:latin typeface="Times New Roman"/>
              </a:rPr>
              <a:t>PATOLOG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7280" y="304920"/>
            <a:ext cx="44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5b8e6"/>
                </a:solidFill>
                <a:latin typeface="Times New Roman"/>
              </a:rPr>
              <a:t>Cardiopatías  Cianó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rcRect l="11603" t="0" r="0" b="21398"/>
          <a:stretch/>
        </p:blipFill>
        <p:spPr>
          <a:xfrm>
            <a:off x="395280" y="3789360"/>
            <a:ext cx="1943280" cy="2592360"/>
          </a:xfrm>
          <a:prstGeom prst="rect">
            <a:avLst/>
          </a:prstGeom>
          <a:ln w="38160">
            <a:solidFill>
              <a:srgbClr val="d60093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24000" y="1700280"/>
            <a:ext cx="2066760" cy="18669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12280" y="254160"/>
            <a:ext cx="730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c99ff"/>
                </a:solidFill>
                <a:latin typeface="Dauphin"/>
              </a:rPr>
              <a:t>Cardiopatías Congénitas: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ausa mas frecuente de cianosis persist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3203640" y="2205000"/>
            <a:ext cx="482436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140360" y="170028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780160" y="3859200"/>
            <a:ext cx="3045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43760" y="385920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385920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385920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00720" y="4132440"/>
            <a:ext cx="15264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2760" y="3068640"/>
            <a:ext cx="40032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cc66"/>
                </a:solidFill>
                <a:latin typeface="Times New Roman"/>
              </a:rPr>
              <a:t>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30320" y="3083040"/>
            <a:ext cx="34992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cc66"/>
                </a:solidFill>
                <a:latin typeface="Times New Roman"/>
              </a:rPr>
              <a:t>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76920" y="4378320"/>
            <a:ext cx="40032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cc66"/>
                </a:solidFill>
                <a:latin typeface="Times New Roman"/>
              </a:rPr>
              <a:t>V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62360" y="4307040"/>
            <a:ext cx="34992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cc66"/>
                </a:solidFill>
                <a:latin typeface="Times New Roman"/>
              </a:rPr>
              <a:t>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866200" y="3319560"/>
            <a:ext cx="9489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5       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35240" y="3925800"/>
            <a:ext cx="1099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25   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4840" y="260280"/>
            <a:ext cx="83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b8e6"/>
                </a:solidFill>
                <a:latin typeface="Dauphin"/>
              </a:rPr>
              <a:t>Cardiopatías 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-485640" y="1066680"/>
            <a:ext cx="51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Dauphin"/>
              </a:rPr>
              <a:t>Fisiopatología de la cia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24000" y="1916280"/>
            <a:ext cx="323028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3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rcRect l="5202" t="0" r="9712" b="10444"/>
          <a:stretch/>
        </p:blipFill>
        <p:spPr>
          <a:xfrm>
            <a:off x="179280" y="1052640"/>
            <a:ext cx="4103640" cy="53226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77280" y="380880"/>
            <a:ext cx="437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5b8e6"/>
                </a:solidFill>
                <a:latin typeface="Times New Roman"/>
              </a:rPr>
              <a:t>Cardiopatías Cianó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64920" y="2209680"/>
            <a:ext cx="449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Times New Roman"/>
              </a:rPr>
              <a:t>Anomalías Estructu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53480" y="3284640"/>
            <a:ext cx="38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Times New Roman"/>
              </a:rPr>
              <a:t>Factores Fun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9040" y="380880"/>
            <a:ext cx="9067680" cy="703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5b8e6"/>
                </a:solidFill>
                <a:latin typeface="Times New Roman"/>
              </a:rPr>
              <a:t>Clasificación de las Cardiopatías Congénitas</a:t>
            </a:r>
            <a:r>
              <a:rPr b="1" lang="es-ES_tradnl" sz="4000" spc="-1" strike="noStrike">
                <a:solidFill>
                  <a:srgbClr val="e5b8e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2286000"/>
            <a:ext cx="2895480" cy="11912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  <a:effectLst>
            <a:outerShdw dist="52300" dir="45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5b8e6"/>
                </a:solidFill>
                <a:latin typeface="Times New Roman"/>
              </a:rPr>
              <a:t>Con Flujo Pulmon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2438280"/>
            <a:ext cx="0" cy="99072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29200" y="2209680"/>
            <a:ext cx="3048120" cy="119124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5b8e6"/>
                </a:solidFill>
                <a:latin typeface="Times New Roman"/>
              </a:rPr>
              <a:t>Con Flujo Pulmon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17000" y="2287440"/>
            <a:ext cx="86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ff99"/>
                </a:solidFill>
                <a:latin typeface="Arial Narrow"/>
              </a:rPr>
              <a:t>N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926120" y="2819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Courier New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8534520" y="2437920"/>
            <a:ext cx="0" cy="76212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38600" y="939960"/>
            <a:ext cx="3105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66"/>
                </a:solidFill>
                <a:latin typeface="Times New Roman"/>
              </a:rPr>
              <a:t>CIANO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2286000"/>
            <a:ext cx="3886200" cy="1143000"/>
          </a:xfrm>
          <a:prstGeom prst="rect">
            <a:avLst/>
          </a:prstGeom>
          <a:noFill/>
          <a:ln w="28440">
            <a:solidFill>
              <a:srgbClr val="ffff66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71800" y="1676520"/>
            <a:ext cx="1066680" cy="533160"/>
          </a:xfrm>
          <a:prstGeom prst="leftArrow">
            <a:avLst>
              <a:gd name="adj1" fmla="val 50000"/>
              <a:gd name="adj2" fmla="val 50017"/>
            </a:avLst>
          </a:prstGeom>
          <a:noFill/>
          <a:ln w="38160">
            <a:solidFill>
              <a:srgbClr val="e5b8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0800000">
            <a:off x="4495680" y="1676160"/>
            <a:ext cx="1067040" cy="533160"/>
          </a:xfrm>
          <a:prstGeom prst="leftArrow">
            <a:avLst>
              <a:gd name="adj1" fmla="val 50000"/>
              <a:gd name="adj2" fmla="val 50034"/>
            </a:avLst>
          </a:prstGeom>
          <a:noFill/>
          <a:ln w="38160">
            <a:solidFill>
              <a:srgbClr val="e5b8e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7880" y="3979800"/>
            <a:ext cx="3902040" cy="174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T de Fal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Atresia Pulm + C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A.P. SIN  C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C. Complejas </a:t>
            </a:r>
            <a:r>
              <a:rPr b="1" lang="es-ES_tradnl" sz="3200" spc="-1" strike="noStrike">
                <a:solidFill>
                  <a:srgbClr val="ff3399"/>
                </a:solidFill>
                <a:latin typeface="Times New Roman"/>
              </a:rPr>
              <a:t>C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68760" y="4065480"/>
            <a:ext cx="4746600" cy="145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T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DVP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Tronco Arteri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Cardiopatias Complej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99520" y="5410080"/>
            <a:ext cx="34711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99"/>
                </a:solidFill>
                <a:latin typeface="Times New Roman"/>
              </a:rPr>
              <a:t>SIN</a:t>
            </a: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3399"/>
                </a:solidFill>
                <a:latin typeface="Times New Roman"/>
              </a:rPr>
              <a:t>Est. Pulmo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2440" y="5516640"/>
            <a:ext cx="3629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99"/>
                </a:solidFill>
                <a:latin typeface="Times New Roman"/>
              </a:rPr>
              <a:t>Estenosis Pulmo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566000" y="1100160"/>
            <a:ext cx="49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Dauphin"/>
              </a:rPr>
              <a:t>Flujo Pulmonar Disminuí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6000" y="276120"/>
            <a:ext cx="83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b8e6"/>
                </a:solidFill>
                <a:latin typeface="Dauphin"/>
              </a:rPr>
              <a:t>Cardiopatías 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3124080" cy="3657600"/>
          </a:xfrm>
          <a:prstGeom prst="rect">
            <a:avLst/>
          </a:prstGeom>
          <a:ln w="57240">
            <a:solidFill>
              <a:srgbClr val="cc00ff"/>
            </a:solidFill>
            <a:miter/>
          </a:ln>
        </p:spPr>
      </p:pic>
      <p:sp>
        <p:nvSpPr>
          <p:cNvPr id="167" name=""/>
          <p:cNvSpPr/>
          <p:nvPr/>
        </p:nvSpPr>
        <p:spPr>
          <a:xfrm>
            <a:off x="419400" y="5556240"/>
            <a:ext cx="43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cc99ff"/>
                </a:solidFill>
                <a:latin typeface="Dauphin"/>
              </a:rPr>
              <a:t>Tetralogía de Fall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63760" y="4403880"/>
            <a:ext cx="519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13000" y="4159080"/>
            <a:ext cx="519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838080" y="3733560"/>
            <a:ext cx="1295640" cy="685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85800" y="4191120"/>
            <a:ext cx="205740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500720" y="1773360"/>
            <a:ext cx="37432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9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76920" y="5410080"/>
            <a:ext cx="88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5b8e6"/>
                </a:solidFill>
                <a:latin typeface="Dauphin"/>
              </a:rPr>
              <a:t>Atresia Pulmonar sin CIV   (Hipoplasia del V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0560" y="428760"/>
            <a:ext cx="83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b8e6"/>
                </a:solidFill>
                <a:latin typeface="Dauphin"/>
              </a:rPr>
              <a:t>Cardiopatías 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2943000" cy="3657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flipV="1">
            <a:off x="685800" y="4572000"/>
            <a:ext cx="1295280" cy="3808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85800" y="3733560"/>
            <a:ext cx="1295280" cy="1143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52440" y="5958000"/>
            <a:ext cx="40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Dauphin"/>
              </a:rPr>
              <a:t>Ductus depend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3851280" y="1557360"/>
            <a:ext cx="36734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5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659240" y="5410080"/>
            <a:ext cx="427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cc99ff"/>
                </a:solidFill>
                <a:latin typeface="Dauphin"/>
              </a:rPr>
              <a:t>Atresia Tricuspí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9680" y="504720"/>
            <a:ext cx="83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b8e6"/>
                </a:solidFill>
                <a:latin typeface="Dauphin"/>
              </a:rPr>
              <a:t>Cardiopatías 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2853000" cy="3657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454040" y="5958000"/>
            <a:ext cx="487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Dauphin"/>
              </a:rPr>
              <a:t>( Requiere CIA y a/v Ductus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284720" y="1628640"/>
            <a:ext cx="3529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1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284720" y="177336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877680" y="5638680"/>
            <a:ext cx="807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Dauphin"/>
              </a:rPr>
              <a:t>Drenaje Venoso Pulmonar Anomalo To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0560" y="428760"/>
            <a:ext cx="83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b8e6"/>
                </a:solidFill>
                <a:latin typeface="Dauphin"/>
              </a:rPr>
              <a:t>Cardiopatías 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2820960" cy="38862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2743200" y="1752480"/>
            <a:ext cx="1271520" cy="1397160"/>
          </a:xfrm>
          <a:prstGeom prst="rect">
            <a:avLst/>
          </a:prstGeom>
          <a:ln w="9360">
            <a:solidFill>
              <a:srgbClr val="cc00ff"/>
            </a:solidFill>
            <a:miter/>
          </a:ln>
        </p:spPr>
      </p:pic>
      <p:sp>
        <p:nvSpPr>
          <p:cNvPr id="190" name=""/>
          <p:cNvSpPr/>
          <p:nvPr/>
        </p:nvSpPr>
        <p:spPr>
          <a:xfrm>
            <a:off x="1755360" y="4495680"/>
            <a:ext cx="461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V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42960" y="4179960"/>
            <a:ext cx="3909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96760" y="4114800"/>
            <a:ext cx="470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690160" y="3500280"/>
            <a:ext cx="938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VD     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93760" y="2708280"/>
            <a:ext cx="9565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AD    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69200" y="506520"/>
            <a:ext cx="6775200" cy="70344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bbe0e3"/>
                </a:solidFill>
                <a:latin typeface="Times New Roman"/>
              </a:rPr>
              <a:t>CLASIFICACION  GENE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92040" y="1066680"/>
            <a:ext cx="3900960" cy="70344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bbe0e3"/>
                </a:solidFill>
                <a:latin typeface="Times New Roman"/>
              </a:rPr>
              <a:t>CARDIOPAT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8560" y="2743200"/>
            <a:ext cx="3019320" cy="581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Times New Roman"/>
              </a:rPr>
              <a:t>CONGENIT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19080" y="4572000"/>
            <a:ext cx="2805120" cy="581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bbe0e3"/>
                </a:solidFill>
                <a:latin typeface="Times New Roman"/>
              </a:rPr>
              <a:t>ADQUIR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2362320"/>
            <a:ext cx="350532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ff"/>
                </a:solidFill>
                <a:latin typeface="Times New Roman"/>
              </a:rPr>
              <a:t>CIANOTIC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93080" y="3789360"/>
            <a:ext cx="2824920" cy="642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99"/>
                </a:solidFill>
                <a:latin typeface="Times New Roman"/>
              </a:rPr>
              <a:t>ROSADAS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038480" y="2590560"/>
            <a:ext cx="1067040" cy="53316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39200" y="3291840"/>
            <a:ext cx="989640" cy="7318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0640" y="6248520"/>
            <a:ext cx="7178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bbe0e3"/>
                </a:solidFill>
                <a:latin typeface="Times New Roman"/>
              </a:rPr>
              <a:t>Centro Cardiovascular       Hosp. Luis Calvo Macke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96360" y="5715000"/>
            <a:ext cx="807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5b8e6"/>
                </a:solidFill>
                <a:latin typeface="Dauphin"/>
              </a:rPr>
              <a:t>Drenaje Venoso Pulmonar Anomalo To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0560" y="428760"/>
            <a:ext cx="83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b8e6"/>
                </a:solidFill>
                <a:latin typeface="Dauphin"/>
              </a:rPr>
              <a:t>Cardiopatías 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2820960" cy="3886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2743200" y="1752480"/>
            <a:ext cx="1271520" cy="1397160"/>
          </a:xfrm>
          <a:prstGeom prst="rect">
            <a:avLst/>
          </a:prstGeom>
          <a:ln w="9360">
            <a:solidFill>
              <a:srgbClr val="cc00ff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1755360" y="4495680"/>
            <a:ext cx="461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V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42960" y="4179960"/>
            <a:ext cx="3909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96760" y="4114800"/>
            <a:ext cx="470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4419720" y="1828800"/>
            <a:ext cx="3733560" cy="3581280"/>
          </a:xfrm>
          <a:prstGeom prst="rect">
            <a:avLst/>
          </a:prstGeom>
          <a:ln w="57240">
            <a:solidFill>
              <a:srgbClr val="be51c1"/>
            </a:solidFill>
            <a:miter/>
          </a:ln>
          <a:effectLst>
            <a:outerShdw dist="125751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010520" y="5257800"/>
            <a:ext cx="757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e5b8e6"/>
                </a:solidFill>
                <a:latin typeface="Dauphin"/>
              </a:rPr>
              <a:t>Transposición de Grandes Arter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0560" y="428760"/>
            <a:ext cx="83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b8e6"/>
                </a:solidFill>
                <a:latin typeface="Dauphin"/>
              </a:rPr>
              <a:t>Cardiopatías 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44480" y="5791320"/>
            <a:ext cx="50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Dauphin"/>
              </a:rPr>
              <a:t>( Ductus  y  CIA dependiente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838080" y="1371600"/>
            <a:ext cx="2857680" cy="3924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4356000" y="1413000"/>
            <a:ext cx="367668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3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27880" y="1143000"/>
            <a:ext cx="272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99"/>
                </a:solidFill>
                <a:latin typeface="Dauphin"/>
              </a:rPr>
              <a:t>Diagnós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5029200" cy="377208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sp>
        <p:nvSpPr>
          <p:cNvPr id="210" name=""/>
          <p:cNvSpPr/>
          <p:nvPr/>
        </p:nvSpPr>
        <p:spPr>
          <a:xfrm>
            <a:off x="-275400" y="457200"/>
            <a:ext cx="775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9999"/>
                </a:solidFill>
                <a:latin typeface="Dauphin"/>
              </a:rPr>
              <a:t>Cardiopatías Congénitas </a:t>
            </a:r>
            <a:r>
              <a:rPr b="0" lang="es-MX" sz="3600" spc="-1" strike="noStrike">
                <a:solidFill>
                  <a:srgbClr val="cc99ff"/>
                </a:solidFill>
                <a:latin typeface="Dauphin"/>
              </a:rPr>
              <a:t>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11160" y="2058840"/>
            <a:ext cx="3724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Dauphin"/>
              </a:rPr>
              <a:t>His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Dauphin"/>
              </a:rPr>
              <a:t>Examen fís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Dauphin"/>
              </a:rPr>
              <a:t>Gases Arter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Dauphin"/>
              </a:rPr>
              <a:t>R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Dauphin"/>
              </a:rPr>
              <a:t>E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Dauphin"/>
              </a:rPr>
              <a:t>ECO 2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Dauphin"/>
              </a:rPr>
              <a:t>Cateter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0492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99"/>
                </a:solidFill>
                <a:latin typeface="Times New Roman"/>
              </a:rPr>
              <a:t>Diferenciación de los Tipos de Cianos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320" y="1836720"/>
          <a:ext cx="8762760" cy="3801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1836720"/>
                    <a:ext cx="8762760" cy="3801960"/>
                  </a:xfrm>
                  <a:prstGeom prst="rect">
                    <a:avLst/>
                  </a:prstGeom>
                  <a:ln w="9360">
                    <a:solidFill>
                      <a:srgbClr val="ffff99"/>
                    </a:solidFill>
                    <a:miter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3491640" y="1111320"/>
            <a:ext cx="49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ccff"/>
                </a:solidFill>
                <a:latin typeface="Times New Roman"/>
              </a:rPr>
              <a:t>Pulmonar         Cardía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2320" y="204804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ccff"/>
                </a:solidFill>
                <a:latin typeface="Times New Roman"/>
              </a:rPr>
              <a:t>LLA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2320" y="2962440"/>
            <a:ext cx="1747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ccff"/>
                </a:solidFill>
                <a:latin typeface="Times New Roman"/>
              </a:rPr>
              <a:t>ADM.  O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5040" y="3876840"/>
            <a:ext cx="2643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ccff"/>
                </a:solidFill>
                <a:latin typeface="Times New Roman"/>
              </a:rPr>
              <a:t>T. HIPEROX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0880" y="4768920"/>
            <a:ext cx="1602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ccff"/>
                </a:solidFill>
                <a:latin typeface="Times New Roman"/>
              </a:rPr>
              <a:t>PaCO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7391520" y="1981080"/>
            <a:ext cx="0" cy="53352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267080" y="2057400"/>
            <a:ext cx="0" cy="53352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92000" y="308916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Times New Roman"/>
              </a:rPr>
              <a:t>CORRI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23520" y="3089160"/>
            <a:ext cx="27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Times New Roman"/>
              </a:rPr>
              <a:t>NO  NORMALI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4114800" y="3809880"/>
            <a:ext cx="0" cy="53352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973600" y="3886200"/>
            <a:ext cx="10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Times New Roman"/>
              </a:rPr>
              <a:t>PaO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91120" y="396540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Times New Roman"/>
              </a:rPr>
              <a:t>20-30mm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477120" y="3886200"/>
            <a:ext cx="0" cy="53352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629040" y="3886200"/>
            <a:ext cx="163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Times New Roman"/>
              </a:rPr>
              <a:t>&lt; a 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70360" y="49435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191120" y="4800240"/>
            <a:ext cx="0" cy="60948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673320" y="4830840"/>
            <a:ext cx="117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Arial"/>
              </a:rPr>
              <a:t>N  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924680" y="4800600"/>
            <a:ext cx="0" cy="53352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5840" y="6110280"/>
            <a:ext cx="79088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ccff"/>
                </a:solidFill>
                <a:latin typeface="Times New Roman"/>
              </a:rPr>
              <a:t>CENTRO CARDIOVASCULAR   HOSP LUIS CALVO MACKEN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79560" y="482760"/>
            <a:ext cx="82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5b8e6"/>
                </a:solidFill>
                <a:latin typeface="Dauphin"/>
              </a:rPr>
              <a:t>Cardiopatias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48240" y="1093680"/>
            <a:ext cx="703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Dauphin"/>
              </a:rPr>
              <a:t>Diagnóstico: Examen Fís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3505320" cy="381024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5257800" y="1752480"/>
            <a:ext cx="3086280" cy="411480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762120" y="22096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4267080" y="4648320"/>
            <a:ext cx="2819520" cy="1600200"/>
          </a:xfrm>
          <a:prstGeom prst="rect">
            <a:avLst/>
          </a:prstGeom>
          <a:ln w="9360">
            <a:solidFill>
              <a:srgbClr val="cc00ff"/>
            </a:solidFill>
            <a:miter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4343400" y="2057400"/>
            <a:ext cx="2590920" cy="24321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79560" y="380880"/>
            <a:ext cx="82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5b8e6"/>
                </a:solidFill>
                <a:latin typeface="Dauphin"/>
              </a:rPr>
              <a:t>Cardiopatias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5880" y="1066680"/>
            <a:ext cx="319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Dauphin"/>
              </a:rPr>
              <a:t>Diagnó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838080" y="4419720"/>
            <a:ext cx="274320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981080" y="1600200"/>
            <a:ext cx="5181840" cy="4376880"/>
          </a:xfrm>
          <a:prstGeom prst="rect">
            <a:avLst/>
          </a:prstGeom>
          <a:ln w="9360">
            <a:solidFill>
              <a:srgbClr val="ffff6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45" name=""/>
          <p:cNvSpPr/>
          <p:nvPr/>
        </p:nvSpPr>
        <p:spPr>
          <a:xfrm>
            <a:off x="1186200" y="380880"/>
            <a:ext cx="807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b8e6"/>
                </a:solidFill>
                <a:latin typeface="Dauphin"/>
              </a:rPr>
              <a:t>Cardiopatías Ductus Dependi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981880" y="934920"/>
            <a:ext cx="22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Dauphin"/>
              </a:rPr>
              <a:t>Diagnós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80640" y="431784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99"/>
                </a:solidFill>
                <a:latin typeface="Dauphin"/>
              </a:rPr>
              <a:t>AD            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48480" y="3174840"/>
            <a:ext cx="11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99"/>
                </a:solidFill>
                <a:latin typeface="Dauphin"/>
              </a:rPr>
              <a:t>VD        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0960" y="6031080"/>
            <a:ext cx="86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5b8e6"/>
                </a:solidFill>
                <a:latin typeface="Dauphin"/>
              </a:rPr>
              <a:t>Centro Cardiovascular  Hosp. Luis Calvo Macke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458200" cy="6343560"/>
          </a:xfrm>
          <a:prstGeom prst="rect">
            <a:avLst/>
          </a:prstGeom>
          <a:ln w="9360">
            <a:solidFill>
              <a:srgbClr val="33cccc"/>
            </a:solidFill>
            <a:miter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8458200" cy="6346800"/>
          </a:xfrm>
          <a:prstGeom prst="rect">
            <a:avLst/>
          </a:prstGeom>
          <a:ln w="57240">
            <a:solidFill>
              <a:srgbClr val="be51c1"/>
            </a:solidFill>
            <a:miter/>
          </a:ln>
        </p:spPr>
      </p:pic>
      <p:sp>
        <p:nvSpPr>
          <p:cNvPr id="252" name=""/>
          <p:cNvSpPr/>
          <p:nvPr/>
        </p:nvSpPr>
        <p:spPr>
          <a:xfrm>
            <a:off x="676800" y="1249200"/>
            <a:ext cx="7939440" cy="7642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b8e6"/>
                </a:solidFill>
                <a:latin typeface="Dauphin"/>
              </a:rPr>
              <a:t>Tratamiento             CIRU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13320" y="167652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40320" y="2462040"/>
            <a:ext cx="5873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Dauphin"/>
              </a:rPr>
              <a:t>Manejo pre-quirúrg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22520" y="3335400"/>
            <a:ext cx="60372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5b8e6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5b8e6"/>
                </a:solidFill>
                <a:latin typeface="Dauphin"/>
              </a:rPr>
              <a:t> </a:t>
            </a:r>
            <a:r>
              <a:rPr b="1" lang="es-MX" sz="4000" spc="-1" strike="noStrike">
                <a:solidFill>
                  <a:srgbClr val="e5b8e6"/>
                </a:solidFill>
                <a:latin typeface="Dauphin"/>
              </a:rPr>
              <a:t>Ductus dependie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5b8e6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5b8e6"/>
                </a:solidFill>
                <a:latin typeface="Dauphin"/>
              </a:rPr>
              <a:t> </a:t>
            </a:r>
            <a:r>
              <a:rPr b="1" lang="es-MX" sz="4000" spc="-1" strike="noStrike">
                <a:solidFill>
                  <a:srgbClr val="e5b8e6"/>
                </a:solidFill>
                <a:latin typeface="Dauphin"/>
              </a:rPr>
              <a:t>CIA dependie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0960" y="6031080"/>
            <a:ext cx="86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Dauphin"/>
              </a:rPr>
              <a:t>Centro Cardiovascular  Hosp. Luis Calvo Macke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16000" y="177840"/>
            <a:ext cx="8254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Dauphin"/>
              </a:rPr>
              <a:t>Cardiopatías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62120" y="743040"/>
            <a:ext cx="8381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66"/>
                </a:solidFill>
                <a:latin typeface="Dauphin"/>
              </a:rPr>
              <a:t>Ductus Dependient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80360" y="2913120"/>
            <a:ext cx="430272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5b8e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5b8e6"/>
                </a:solidFill>
                <a:latin typeface="Dauphin"/>
              </a:rPr>
              <a:t>T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5b8e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5b8e6"/>
                </a:solidFill>
                <a:latin typeface="Dauphin"/>
              </a:rPr>
              <a:t>Cardiopatías c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5b8e6"/>
                </a:solidFill>
                <a:latin typeface="Dauphin"/>
              </a:rPr>
              <a:t>Atresia Pulmon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3520" y="6033960"/>
            <a:ext cx="86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Dauphin"/>
              </a:rPr>
              <a:t>Centro Cardiovascular  Hosp. Luis Calvo Macke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2084400" cy="25909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2590920" y="2819520"/>
            <a:ext cx="203832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962520" y="2133720"/>
            <a:ext cx="4038480" cy="3028680"/>
          </a:xfrm>
          <a:prstGeom prst="rect">
            <a:avLst/>
          </a:prstGeom>
          <a:ln w="28440">
            <a:solidFill>
              <a:srgbClr val="be51c1"/>
            </a:solidFill>
            <a:miter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762120" y="1295280"/>
            <a:ext cx="2921040" cy="3886200"/>
          </a:xfrm>
          <a:prstGeom prst="rect">
            <a:avLst/>
          </a:prstGeom>
          <a:ln w="38160">
            <a:solidFill>
              <a:srgbClr val="be51c1"/>
            </a:solidFill>
            <a:miter/>
          </a:ln>
        </p:spPr>
      </p:pic>
      <p:sp>
        <p:nvSpPr>
          <p:cNvPr id="265" name=""/>
          <p:cNvSpPr/>
          <p:nvPr/>
        </p:nvSpPr>
        <p:spPr>
          <a:xfrm>
            <a:off x="26640" y="533520"/>
            <a:ext cx="72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Dauphin"/>
              </a:rPr>
              <a:t>Cardiopatías Ductus Depend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051440" y="1371600"/>
            <a:ext cx="42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Dauphin"/>
              </a:rPr>
              <a:t>Manejo Pre-Quirúr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43000" y="5562720"/>
            <a:ext cx="6636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b8e6"/>
                </a:solidFill>
                <a:latin typeface="Arial"/>
              </a:rPr>
              <a:t>PGE1 en Infusión : 0.01mcg/Kg/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09480" y="1828800"/>
            <a:ext cx="8077320" cy="60166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bbe0e3"/>
                </a:solidFill>
                <a:latin typeface="Dauphin"/>
              </a:rPr>
              <a:t>Son aquellas Cardiopatías congénit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bbe0e3"/>
                </a:solidFill>
                <a:latin typeface="Dauphin"/>
              </a:rPr>
              <a:t>cuya característica principal es la </a:t>
            </a:r>
            <a:r>
              <a:rPr b="1" lang="es-ES_tradnl" sz="3600" spc="-1" strike="noStrike">
                <a:solidFill>
                  <a:srgbClr val="e5b8e6"/>
                </a:solidFill>
                <a:latin typeface="Dauphin"/>
              </a:rPr>
              <a:t>CIANOSIS</a:t>
            </a:r>
            <a:r>
              <a:rPr b="0" lang="es-ES_tradnl" sz="3600" spc="-1" strike="noStrike">
                <a:solidFill>
                  <a:srgbClr val="e5b8e6"/>
                </a:solidFill>
                <a:latin typeface="Dauphin"/>
              </a:rPr>
              <a:t> </a:t>
            </a:r>
            <a:r>
              <a:rPr b="0" lang="es-ES_tradnl" sz="3600" spc="-1" strike="noStrike">
                <a:solidFill>
                  <a:srgbClr val="bbe0e3"/>
                </a:solidFill>
                <a:latin typeface="Dauphin"/>
              </a:rPr>
              <a:t>de piel y mucosas y/o la </a:t>
            </a:r>
            <a:r>
              <a:rPr b="1" lang="es-ES_tradnl" sz="3600" spc="-1" strike="noStrike">
                <a:solidFill>
                  <a:srgbClr val="e5b8e6"/>
                </a:solidFill>
                <a:latin typeface="Dauphin"/>
              </a:rPr>
              <a:t>INSATURACION</a:t>
            </a:r>
            <a:r>
              <a:rPr b="1" lang="es-ES_tradnl" sz="3600" spc="-1" strike="noStrike">
                <a:solidFill>
                  <a:srgbClr val="bbe0e3"/>
                </a:solidFill>
                <a:latin typeface="Dauphin"/>
              </a:rPr>
              <a:t> </a:t>
            </a:r>
            <a:r>
              <a:rPr b="0" lang="es-ES_tradnl" sz="3600" spc="-1" strike="noStrike">
                <a:solidFill>
                  <a:srgbClr val="bbe0e3"/>
                </a:solidFill>
                <a:latin typeface="Dauphin"/>
              </a:rPr>
              <a:t>de la sangre arterial  producto de la mezcla de sangre arterial y venosa dentro del corazó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bbe0e3"/>
                </a:solidFill>
                <a:latin typeface="Dauphin"/>
              </a:rPr>
              <a:t> </a:t>
            </a:r>
            <a:r>
              <a:rPr b="0" lang="es-ES_tradnl" sz="3600" spc="-1" strike="noStrike">
                <a:solidFill>
                  <a:srgbClr val="bbe0e3"/>
                </a:solidFill>
                <a:latin typeface="Dauphin"/>
              </a:rPr>
              <a:t>( cortocircuito o shunt D-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496080" y="480960"/>
            <a:ext cx="9150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cc99ff"/>
                </a:solidFill>
                <a:latin typeface="Dauphin"/>
              </a:rPr>
              <a:t>Cardiopatías Congénitas Cianót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97560" y="487440"/>
            <a:ext cx="729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Dauphin"/>
              </a:rPr>
              <a:t>Cardiopatías que necesitan 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9480" y="1066680"/>
            <a:ext cx="619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66"/>
                </a:solidFill>
                <a:latin typeface="Dauphin"/>
              </a:rPr>
              <a:t>Manejo Pre-Quirúr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2286000" cy="2895480"/>
          </a:xfrm>
          <a:prstGeom prst="rect">
            <a:avLst/>
          </a:prstGeom>
          <a:ln w="9360">
            <a:solidFill>
              <a:srgbClr val="be51c1"/>
            </a:solidFill>
            <a:miter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3505320" y="2895480"/>
            <a:ext cx="2259000" cy="2895840"/>
          </a:xfrm>
          <a:prstGeom prst="rect">
            <a:avLst/>
          </a:prstGeom>
          <a:ln w="9360">
            <a:solidFill>
              <a:srgbClr val="be51c1"/>
            </a:solidFill>
            <a:miter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6303960" y="2057400"/>
            <a:ext cx="2165400" cy="2971800"/>
          </a:xfrm>
          <a:prstGeom prst="rect">
            <a:avLst/>
          </a:prstGeom>
          <a:ln w="9360">
            <a:solidFill>
              <a:srgbClr val="be51c1"/>
            </a:solidFill>
            <a:miter/>
          </a:ln>
        </p:spPr>
      </p:pic>
      <p:sp>
        <p:nvSpPr>
          <p:cNvPr id="273" name=""/>
          <p:cNvSpPr/>
          <p:nvPr/>
        </p:nvSpPr>
        <p:spPr>
          <a:xfrm>
            <a:off x="464760" y="6019920"/>
            <a:ext cx="86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Dauphin"/>
              </a:rPr>
              <a:t>Centro Cardiovascular  Hosp. Luis Calvo Macke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42120" y="5116680"/>
            <a:ext cx="18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5b8e6"/>
                </a:solidFill>
                <a:latin typeface="Dauphin"/>
              </a:rPr>
              <a:t>Hipop. 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736080" y="2286000"/>
            <a:ext cx="157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5b8e6"/>
                </a:solidFill>
                <a:latin typeface="Dauphin"/>
              </a:rPr>
              <a:t>Atr. Tr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67360" y="510552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5b8e6"/>
                </a:solidFill>
                <a:latin typeface="Dauphin"/>
              </a:rPr>
              <a:t>T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80240" y="457200"/>
            <a:ext cx="820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Dauphin"/>
              </a:rPr>
              <a:t>Septostomía Auricular de Rashk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7000" y="4762440"/>
            <a:ext cx="399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5b8e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5b8e6"/>
                </a:solidFill>
                <a:latin typeface="Dauphin"/>
              </a:rPr>
              <a:t>  </a:t>
            </a:r>
            <a:r>
              <a:rPr b="0" lang="es-MX" sz="2400" spc="-1" strike="noStrike">
                <a:solidFill>
                  <a:srgbClr val="e5b8e6"/>
                </a:solidFill>
                <a:latin typeface="Dauphin"/>
              </a:rPr>
              <a:t>TGA –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5b8e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5b8e6"/>
                </a:solidFill>
                <a:latin typeface="Dauphin"/>
              </a:rPr>
              <a:t>  </a:t>
            </a:r>
            <a:r>
              <a:rPr b="0" lang="es-MX" sz="2400" spc="-1" strike="noStrike">
                <a:solidFill>
                  <a:srgbClr val="e5b8e6"/>
                </a:solidFill>
                <a:latin typeface="Dauphin"/>
              </a:rPr>
              <a:t>Atresia Tricuspí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5b8e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5b8e6"/>
                </a:solidFill>
                <a:latin typeface="Dauphin"/>
              </a:rPr>
              <a:t>  </a:t>
            </a:r>
            <a:r>
              <a:rPr b="0" lang="es-MX" sz="2400" spc="-1" strike="noStrike">
                <a:solidFill>
                  <a:srgbClr val="e5b8e6"/>
                </a:solidFill>
                <a:latin typeface="Dauphin"/>
              </a:rPr>
              <a:t>Atresia Pulmonar sin C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468360" y="1557360"/>
          <a:ext cx="2943000" cy="30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557360"/>
                    <a:ext cx="2943000" cy="309564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3780000" y="1484280"/>
            <a:ext cx="48956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5380200" y="1676520"/>
            <a:ext cx="25444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3399"/>
                </a:solidFill>
                <a:latin typeface="Dauphin"/>
              </a:rPr>
              <a:t>CIRUGÍA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5960" y="6019920"/>
            <a:ext cx="8228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ENTRO CARDIOVASCULAR       HOSP. LUIS CALVO MACKEN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163840" y="2432160"/>
            <a:ext cx="3188520" cy="170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e5b8e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b8e6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e5b8e6"/>
                </a:solidFill>
                <a:latin typeface="Times New Roman"/>
              </a:rPr>
              <a:t>Pali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e5b8e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b8e6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e5b8e6"/>
                </a:solidFill>
                <a:latin typeface="Times New Roman"/>
              </a:rPr>
              <a:t>Correct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47000" y="272880"/>
            <a:ext cx="7192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Cardiopatías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16560" y="942840"/>
            <a:ext cx="2917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66"/>
                </a:solidFill>
                <a:latin typeface="Times New Roman"/>
              </a:rPr>
              <a:t>Tratam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685800" y="2057400"/>
            <a:ext cx="3962520" cy="2971800"/>
          </a:xfrm>
          <a:prstGeom prst="rect">
            <a:avLst/>
          </a:prstGeom>
          <a:ln w="38160">
            <a:solidFill>
              <a:srgbClr val="be51c1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81480" y="736560"/>
            <a:ext cx="3566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irugía Correct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40160" y="203040"/>
            <a:ext cx="6427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5b8e6"/>
                </a:solidFill>
                <a:latin typeface="Times New Roman"/>
              </a:rPr>
              <a:t>Cardiopatías Congénitas Cianó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4789440" y="1447920"/>
            <a:ext cx="3657600" cy="4267080"/>
          </a:xfrm>
          <a:prstGeom prst="rect">
            <a:avLst/>
          </a:prstGeom>
          <a:ln w="57240">
            <a:solidFill>
              <a:srgbClr val="be51c1"/>
            </a:solidFill>
            <a:miter/>
          </a:ln>
        </p:spPr>
      </p:pic>
      <p:sp>
        <p:nvSpPr>
          <p:cNvPr id="291" name=""/>
          <p:cNvSpPr/>
          <p:nvPr/>
        </p:nvSpPr>
        <p:spPr>
          <a:xfrm>
            <a:off x="6427800" y="1565280"/>
            <a:ext cx="1520640" cy="3524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372360" y="1447920"/>
            <a:ext cx="1904760" cy="685800"/>
          </a:xfrm>
          <a:prstGeom prst="rect">
            <a:avLst/>
          </a:prstGeom>
          <a:solidFill>
            <a:srgbClr val="e5b8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</a:rPr>
              <a:t>TETRALOG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</a:rPr>
              <a:t>FAL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746240" y="5195880"/>
            <a:ext cx="1727640" cy="3682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99"/>
                </a:solidFill>
                <a:latin typeface="Times New Roman"/>
              </a:rPr>
              <a:t>REPAR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533520" y="1600200"/>
            <a:ext cx="3579840" cy="4191120"/>
          </a:xfrm>
          <a:prstGeom prst="rect">
            <a:avLst/>
          </a:prstGeom>
          <a:ln w="57240">
            <a:solidFill>
              <a:srgbClr val="be51c1"/>
            </a:solidFill>
            <a:miter/>
          </a:ln>
        </p:spPr>
      </p:pic>
      <p:sp>
        <p:nvSpPr>
          <p:cNvPr id="295" name=""/>
          <p:cNvSpPr/>
          <p:nvPr/>
        </p:nvSpPr>
        <p:spPr>
          <a:xfrm>
            <a:off x="3276720" y="4038480"/>
            <a:ext cx="914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0" y="1600200"/>
            <a:ext cx="1752480" cy="380880"/>
          </a:xfrm>
          <a:prstGeom prst="rect">
            <a:avLst/>
          </a:prstGeom>
          <a:solidFill>
            <a:srgbClr val="e5b8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3367080" cy="4392720"/>
          </a:xfrm>
          <a:prstGeom prst="rect">
            <a:avLst/>
          </a:prstGeom>
          <a:ln w="38160">
            <a:solidFill>
              <a:srgbClr val="be51c1"/>
            </a:solidFill>
            <a:miter/>
          </a:ln>
        </p:spPr>
      </p:pic>
      <p:sp>
        <p:nvSpPr>
          <p:cNvPr id="298" name=""/>
          <p:cNvSpPr/>
          <p:nvPr/>
        </p:nvSpPr>
        <p:spPr>
          <a:xfrm>
            <a:off x="4500720" y="2205000"/>
            <a:ext cx="352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e5b8e6"/>
                </a:solidFill>
                <a:latin typeface="Times New Roman"/>
              </a:rPr>
              <a:t>Ventrículo Unic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e5b8e6"/>
                </a:solidFill>
                <a:latin typeface="Times New Roman"/>
              </a:rPr>
              <a:t>    </a:t>
            </a:r>
            <a:r>
              <a:rPr b="0" lang="es-MX" sz="3600" spc="-1" strike="noStrike">
                <a:solidFill>
                  <a:srgbClr val="e5b8e6"/>
                </a:solidFill>
                <a:latin typeface="Times New Roman"/>
              </a:rPr>
              <a:t>-Anatóm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e5b8e6"/>
                </a:solidFill>
                <a:latin typeface="Times New Roman"/>
              </a:rPr>
              <a:t>    </a:t>
            </a:r>
            <a:r>
              <a:rPr b="0" lang="es-MX" sz="3600" spc="-1" strike="noStrike">
                <a:solidFill>
                  <a:srgbClr val="e5b8e6"/>
                </a:solidFill>
                <a:latin typeface="Times New Roman"/>
              </a:rPr>
              <a:t>-Fun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5920" y="461880"/>
            <a:ext cx="355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5b8e6"/>
                </a:solidFill>
                <a:latin typeface="Arial"/>
              </a:rPr>
              <a:t>CIRUGIA PALI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838080" y="1905120"/>
            <a:ext cx="3429000" cy="3657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0" y="1905120"/>
            <a:ext cx="3505320" cy="3657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1295280" y="2209680"/>
            <a:ext cx="2664000" cy="289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3" name=""/>
          <p:cNvGraphicFramePr/>
          <p:nvPr/>
        </p:nvGraphicFramePr>
        <p:xfrm>
          <a:off x="5029200" y="2133720"/>
          <a:ext cx="282420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2133720"/>
                    <a:ext cx="28242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1300680" y="5105520"/>
            <a:ext cx="5653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BANDING   TAP                      BLA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851480" y="911160"/>
            <a:ext cx="553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Times New Roman"/>
              </a:rPr>
              <a:t>CIRUGIA  PALIA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91040" y="324000"/>
            <a:ext cx="6427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5b8e6"/>
                </a:solidFill>
                <a:latin typeface="Times New Roman"/>
              </a:rPr>
              <a:t>Cardiopatías Congénitas Cianó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226440" y="349200"/>
            <a:ext cx="7751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Dauphin"/>
              </a:rPr>
              <a:t>Cardiopatías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1840" y="934920"/>
            <a:ext cx="615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Dauphin"/>
              </a:rPr>
              <a:t>Manejo Médico - Recién Nac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640" y="2209680"/>
            <a:ext cx="9637200" cy="399348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5b8e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 </a:t>
            </a: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Frente a la sospecha de CCC debe intenta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  </a:t>
            </a: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corroborar  y precisar dg con la mayor prontit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5b8e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 </a:t>
            </a: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Estabilización del paciente : Respira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                              </a:t>
            </a: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Cardiovas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                              </a:t>
            </a: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Metab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5b8e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 </a:t>
            </a: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Uso racional del O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5b8e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 </a:t>
            </a: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Infusión de PGE1 ( CC  ductus dependien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5b8e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 </a:t>
            </a: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Traslado a Centro Quirúrg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9360">
            <a:solidFill>
              <a:srgbClr val="be51c1"/>
            </a:solidFill>
            <a:miter/>
          </a:ln>
        </p:spPr>
      </p:pic>
      <p:sp>
        <p:nvSpPr>
          <p:cNvPr id="312" name=""/>
          <p:cNvSpPr/>
          <p:nvPr/>
        </p:nvSpPr>
        <p:spPr>
          <a:xfrm>
            <a:off x="-42480" y="5589720"/>
            <a:ext cx="8453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99cc"/>
                </a:solidFill>
                <a:latin typeface="BrushScrD"/>
              </a:rPr>
              <a:t>Un esfuerzo que vale la pe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20360" y="69228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99cc"/>
                </a:solidFill>
                <a:latin typeface="Arial"/>
              </a:rPr>
              <a:t>JLL    TGA ope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8088120" cy="6127920"/>
          </a:xfrm>
          <a:prstGeom prst="rect">
            <a:avLst/>
          </a:prstGeom>
          <a:ln w="57240">
            <a:solidFill>
              <a:srgbClr val="be51c1"/>
            </a:solidFill>
            <a:miter/>
          </a:ln>
        </p:spPr>
      </p:pic>
      <p:sp>
        <p:nvSpPr>
          <p:cNvPr id="315" name=""/>
          <p:cNvSpPr/>
          <p:nvPr/>
        </p:nvSpPr>
        <p:spPr>
          <a:xfrm rot="20729400">
            <a:off x="-282240" y="4530240"/>
            <a:ext cx="923796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ff99cc"/>
                </a:solidFill>
                <a:latin typeface="BrushScrD"/>
              </a:rPr>
              <a:t>Hacia donde queremos ir..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5854680" cy="5079960"/>
          </a:xfrm>
          <a:prstGeom prst="rect">
            <a:avLst/>
          </a:prstGeom>
          <a:ln w="9360">
            <a:solidFill>
              <a:srgbClr val="be51c1"/>
            </a:solidFill>
            <a:miter/>
          </a:ln>
        </p:spPr>
      </p:pic>
      <p:sp>
        <p:nvSpPr>
          <p:cNvPr id="317" name=""/>
          <p:cNvSpPr/>
          <p:nvPr/>
        </p:nvSpPr>
        <p:spPr>
          <a:xfrm>
            <a:off x="6301080" y="5516640"/>
            <a:ext cx="160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5400" spc="-1" strike="noStrike">
                <a:solidFill>
                  <a:srgbClr val="e5b8e6"/>
                </a:solidFill>
                <a:latin typeface="BrushScrD"/>
              </a:rPr>
              <a:t>Fin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-36360" y="-27000"/>
          <a:ext cx="9180360" cy="708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6360" y="-27000"/>
                    <a:ext cx="918036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-471960" y="620640"/>
            <a:ext cx="1005624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b8e6"/>
                </a:solidFill>
                <a:latin typeface="Dauphin"/>
              </a:rPr>
              <a:t>Cardiopatías Congénitas Cianó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5480" y="1447920"/>
            <a:ext cx="73573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99"/>
                </a:solidFill>
                <a:latin typeface="Dauphin"/>
              </a:rPr>
              <a:t>Que  es  la  Cianosis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2971800"/>
            <a:ext cx="4670640" cy="2531880"/>
          </a:xfrm>
          <a:prstGeom prst="rect">
            <a:avLst/>
          </a:prstGeom>
          <a:noFill/>
          <a:ln w="9360">
            <a:solidFill>
              <a:srgbClr val="e5b8e6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3399"/>
                </a:solidFill>
                <a:latin typeface="Dauphin"/>
              </a:rPr>
              <a:t>CIANOSIS</a:t>
            </a:r>
            <a:r>
              <a:rPr b="1" lang="es-ES_tradnl" sz="4000" spc="-1" strike="noStrike">
                <a:solidFill>
                  <a:srgbClr val="009999"/>
                </a:solidFill>
                <a:latin typeface="Dauphin"/>
              </a:rPr>
              <a:t> </a:t>
            </a:r>
            <a:r>
              <a:rPr b="1" lang="es-ES_tradnl" sz="4000" spc="-1" strike="noStrike">
                <a:solidFill>
                  <a:srgbClr val="e5b8e6"/>
                </a:solidFill>
                <a:latin typeface="Dauphin"/>
              </a:rPr>
              <a:t>: es  la  coloración azulada  de  piel  y/o mucos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81720" y="5867280"/>
            <a:ext cx="9190440" cy="6426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99"/>
                </a:solidFill>
                <a:latin typeface="Dauphin"/>
              </a:rPr>
              <a:t>+ de 5g de Hb  reducida en sangre veno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>
            <a:lum contrast="24000"/>
          </a:blip>
          <a:stretch/>
        </p:blipFill>
        <p:spPr>
          <a:xfrm>
            <a:off x="876240" y="2590920"/>
            <a:ext cx="2476440" cy="3124080"/>
          </a:xfrm>
          <a:prstGeom prst="rect">
            <a:avLst/>
          </a:prstGeom>
          <a:ln w="9360">
            <a:solidFill>
              <a:srgbClr val="cc99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6629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92280" y="1905120"/>
            <a:ext cx="3270240" cy="3740040"/>
          </a:xfrm>
          <a:prstGeom prst="rect">
            <a:avLst/>
          </a:prstGeom>
          <a:ln w="76320">
            <a:solidFill>
              <a:srgbClr val="ffff99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sp>
        <p:nvSpPr>
          <p:cNvPr id="66" name=""/>
          <p:cNvSpPr/>
          <p:nvPr/>
        </p:nvSpPr>
        <p:spPr>
          <a:xfrm>
            <a:off x="-289440" y="762120"/>
            <a:ext cx="6389640" cy="703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99"/>
                </a:solidFill>
                <a:latin typeface="Dauphin"/>
              </a:rPr>
              <a:t>Cardiopatías Congénit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75160" y="2743200"/>
            <a:ext cx="5761440" cy="19227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99"/>
                </a:solidFill>
                <a:latin typeface="Dauphin"/>
              </a:rPr>
              <a:t>Porqué somo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99"/>
                </a:solidFill>
                <a:latin typeface="Dauphin"/>
              </a:rPr>
              <a:t>rosados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2560" y="5973840"/>
            <a:ext cx="818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99"/>
                </a:solidFill>
                <a:latin typeface="Dauphin"/>
              </a:rPr>
              <a:t>Centro Cardiovascular Hospital Luis Calvo Macke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10640" y="6019920"/>
            <a:ext cx="77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5b8e6"/>
                </a:solidFill>
                <a:latin typeface="Dauphin"/>
              </a:rPr>
              <a:t>Centro Cardiovascular Hosp. Luis Calvo Macke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19320" y="47242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99"/>
                </a:solidFill>
                <a:latin typeface="Monotype Corsiva"/>
              </a:rPr>
              <a:t> </a:t>
            </a:r>
            <a:r>
              <a:rPr b="0" lang="es-ES_tradnl" sz="3600" spc="-1" strike="noStrike">
                <a:solidFill>
                  <a:srgbClr val="ffff99"/>
                </a:solidFill>
                <a:latin typeface="Monotype Corsiva"/>
              </a:rPr>
              <a:t>15g Hb                   3.5g Hb reducida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117880" y="3867120"/>
          <a:ext cx="102708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17880" y="3867120"/>
                    <a:ext cx="102708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1866960" y="2550960"/>
          <a:ext cx="5408640" cy="175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66960" y="2550960"/>
                    <a:ext cx="540864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2891880" y="2743200"/>
            <a:ext cx="3582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99"/>
                </a:solidFill>
                <a:latin typeface="Times New Roman"/>
              </a:rPr>
              <a:t>Extracción de O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96120" y="533520"/>
            <a:ext cx="588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b8e6"/>
                </a:solidFill>
                <a:latin typeface="Dauphin"/>
              </a:rPr>
              <a:t>Cardiopatías Congénit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1403280" y="1413000"/>
            <a:ext cx="61912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0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2117880" y="3867120"/>
          <a:ext cx="102708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17880" y="3867120"/>
                    <a:ext cx="102708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011240" y="2340000"/>
          <a:ext cx="2484360" cy="94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11240" y="2340000"/>
                    <a:ext cx="248436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380880" y="2000160"/>
            <a:ext cx="3124440" cy="2571840"/>
          </a:xfrm>
          <a:prstGeom prst="rect">
            <a:avLst/>
          </a:prstGeom>
          <a:ln w="76320">
            <a:solidFill>
              <a:srgbClr val="ff3399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</p:pic>
      <p:sp>
        <p:nvSpPr>
          <p:cNvPr id="83" name=""/>
          <p:cNvSpPr/>
          <p:nvPr/>
        </p:nvSpPr>
        <p:spPr>
          <a:xfrm>
            <a:off x="261720" y="4687920"/>
            <a:ext cx="308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Dauphin"/>
              </a:rPr>
              <a:t>Piel y mucos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96960" y="4648320"/>
            <a:ext cx="58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Dauphin"/>
              </a:rPr>
              <a:t>Mucho flujo y poca extr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75600" y="1447920"/>
            <a:ext cx="496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99"/>
                </a:solidFill>
                <a:latin typeface="Dauphin"/>
              </a:rPr>
              <a:t>Porque  somos rosado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960" y="685800"/>
            <a:ext cx="51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5b8e6"/>
                </a:solidFill>
                <a:latin typeface="Dauphin"/>
              </a:rPr>
              <a:t>Cardiopatías Congéni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3780000" y="2133720"/>
            <a:ext cx="482436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50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28080" y="6095880"/>
            <a:ext cx="73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Dauphin"/>
              </a:rPr>
              <a:t>Centro Cardiovascular Hosp. Luis Calvo Macke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28440" y="3803760"/>
            <a:ext cx="4813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66"/>
                </a:solidFill>
                <a:latin typeface="Dauphin"/>
              </a:rPr>
              <a:t>Hipoperfusión Tis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66"/>
                </a:solidFill>
                <a:latin typeface="Dauphin"/>
              </a:rPr>
              <a:t> </a:t>
            </a:r>
            <a:r>
              <a:rPr b="0" lang="es-ES_tradnl" sz="3600" spc="-1" strike="noStrike">
                <a:solidFill>
                  <a:srgbClr val="ffff66"/>
                </a:solidFill>
                <a:latin typeface="Dauphin"/>
              </a:rPr>
              <a:t>Hipoter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66"/>
                </a:solidFill>
                <a:latin typeface="Dauphin"/>
              </a:rPr>
              <a:t> </a:t>
            </a:r>
            <a:r>
              <a:rPr b="0" lang="es-ES_tradnl" sz="3600" spc="-1" strike="noStrike">
                <a:solidFill>
                  <a:srgbClr val="ffff66"/>
                </a:solidFill>
                <a:latin typeface="Dauphin"/>
              </a:rPr>
              <a:t>Sh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90920" y="3809880"/>
            <a:ext cx="4583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66"/>
                </a:solidFill>
                <a:latin typeface="Dauphin"/>
              </a:rPr>
              <a:t>Insaturación Arte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66"/>
                </a:solidFill>
                <a:latin typeface="Dauphin"/>
              </a:rPr>
              <a:t> </a:t>
            </a:r>
            <a:r>
              <a:rPr b="0" lang="es-ES_tradnl" sz="3600" spc="-1" strike="noStrike">
                <a:solidFill>
                  <a:srgbClr val="ffff66"/>
                </a:solidFill>
                <a:latin typeface="Dauphin"/>
              </a:rPr>
              <a:t>Cardía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66"/>
                </a:solidFill>
                <a:latin typeface="Dauphin"/>
              </a:rPr>
              <a:t> </a:t>
            </a:r>
            <a:r>
              <a:rPr b="0" lang="es-ES_tradnl" sz="3600" spc="-1" strike="noStrike">
                <a:solidFill>
                  <a:srgbClr val="ffff66"/>
                </a:solidFill>
                <a:latin typeface="Dauphin"/>
              </a:rPr>
              <a:t>Pulmon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0560" y="428760"/>
            <a:ext cx="83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Dauphin"/>
              </a:rPr>
              <a:t>Cardiopatías 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12200" y="907920"/>
            <a:ext cx="62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cc99ff"/>
                </a:solidFill>
                <a:latin typeface="Dauphin"/>
              </a:rPr>
              <a:t>Fisiopatología de la Ciano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3456000" cy="1729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859280" y="1989000"/>
            <a:ext cx="352908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5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2500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-109800" y="314280"/>
            <a:ext cx="944820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b8e6"/>
                </a:solidFill>
                <a:latin typeface="Dauphin"/>
              </a:rPr>
              <a:t>Cardiopatías Congénitas Cianó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1773360"/>
            <a:ext cx="5638680" cy="6426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99"/>
                </a:solidFill>
                <a:latin typeface="Dauphin"/>
              </a:rPr>
              <a:t>Porque  somos  rosado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1676520"/>
            <a:ext cx="3429000" cy="4190760"/>
          </a:xfrm>
          <a:prstGeom prst="rect">
            <a:avLst/>
          </a:prstGeom>
          <a:solidFill>
            <a:srgbClr val="000000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62120" y="2133720"/>
            <a:ext cx="2700360" cy="3352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25960" y="2844720"/>
            <a:ext cx="6082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99"/>
                </a:solidFill>
                <a:latin typeface="Dauphin"/>
              </a:rPr>
              <a:t> </a:t>
            </a:r>
            <a:r>
              <a:rPr b="0" lang="es-ES_tradnl" sz="3600" spc="-1" strike="noStrike">
                <a:solidFill>
                  <a:srgbClr val="ffff99"/>
                </a:solidFill>
                <a:latin typeface="Dauphin"/>
              </a:rPr>
              <a:t>Oxigen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99"/>
                </a:solidFill>
                <a:latin typeface="Dauphin"/>
              </a:rPr>
              <a:t> </a:t>
            </a:r>
            <a:r>
              <a:rPr b="0" lang="es-ES_tradnl" sz="3600" spc="-1" strike="noStrike">
                <a:solidFill>
                  <a:srgbClr val="ffff99"/>
                </a:solidFill>
                <a:latin typeface="Dauphin"/>
              </a:rPr>
              <a:t>Débito Adecu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99"/>
                </a:solidFill>
                <a:latin typeface="Dauphin"/>
              </a:rPr>
              <a:t> </a:t>
            </a:r>
            <a:r>
              <a:rPr b="0" lang="es-ES_tradnl" sz="3600" spc="-1" strike="noStrike">
                <a:solidFill>
                  <a:srgbClr val="ffff99"/>
                </a:solidFill>
                <a:latin typeface="Dauphin"/>
              </a:rPr>
              <a:t>Distribución del Débi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99"/>
                </a:solidFill>
                <a:latin typeface="Dauphin"/>
              </a:rPr>
              <a:t> </a:t>
            </a:r>
            <a:r>
              <a:rPr b="0" lang="es-ES_tradnl" sz="3600" spc="-1" strike="noStrike">
                <a:solidFill>
                  <a:srgbClr val="ffff99"/>
                </a:solidFill>
                <a:latin typeface="Dauphin"/>
              </a:rPr>
              <a:t>Ausencia de Shunts D-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99"/>
                </a:solidFill>
                <a:latin typeface="Dauphin"/>
              </a:rPr>
              <a:t>  </a:t>
            </a:r>
            <a:r>
              <a:rPr b="0" lang="es-ES_tradnl" sz="3600" spc="-1" strike="noStrike">
                <a:solidFill>
                  <a:srgbClr val="ffff99"/>
                </a:solidFill>
                <a:latin typeface="Dauphin"/>
              </a:rPr>
              <a:t>cardíacos y/o pulmonar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23:11:38Z</dcterms:created>
  <dc:creator> Monica</dc:creator>
  <dc:description/>
  <dc:language>en-US</dc:language>
  <cp:lastModifiedBy> Monica</cp:lastModifiedBy>
  <dcterms:modified xsi:type="dcterms:W3CDTF">2006-05-25T17:03:35Z</dcterms:modified>
  <cp:revision>15</cp:revision>
  <dc:subject/>
  <dc:title>Diapositiva 1</dc:title>
</cp:coreProperties>
</file>