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5.jpeg" ContentType="image/jpeg"/>
  <Override PartName="/ppt/media/image26.jpeg" ContentType="image/jpeg"/>
  <Override PartName="/ppt/media/image8.wmf" ContentType="image/x-wmf"/>
  <Override PartName="/ppt/media/image61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5.png" ContentType="image/png"/>
  <Override PartName="/ppt/media/image56.jpeg" ContentType="image/jpeg"/>
  <Override PartName="/ppt/media/image33.png" ContentType="image/png"/>
  <Override PartName="/ppt/media/image29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27.png" ContentType="image/png"/>
  <Override PartName="/ppt/media/image28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57.wmf" ContentType="image/x-wmf"/>
  <Override PartName="/ppt/media/image17.png" ContentType="image/png"/>
  <Override PartName="/ppt/media/image19.png" ContentType="image/png"/>
  <Override PartName="/ppt/media/image60.jpeg" ContentType="image/jpeg"/>
  <Override PartName="/ppt/media/image30.png" ContentType="image/png"/>
  <Override PartName="/ppt/media/image16.png" ContentType="image/png"/>
  <Override PartName="/ppt/media/image49.jpeg" ContentType="image/jpeg"/>
  <Override PartName="/ppt/media/image9.png" ContentType="image/png"/>
  <Override PartName="/ppt/media/image7.wmf" ContentType="image/x-wmf"/>
  <Override PartName="/ppt/media/image12.png" ContentType="image/png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6.jpeg" ContentType="image/jpeg"/>
  <Override PartName="/ppt/media/image39.wmf" ContentType="image/x-wmf"/>
  <Override PartName="/ppt/media/image40.jpeg" ContentType="image/jpeg"/>
  <Override PartName="/ppt/media/image41.jpeg" ContentType="image/jpeg"/>
  <Override PartName="/ppt/media/image54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0D7-D832-4171-8254-4ADD64BE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7A9-BB51-481D-91E9-4FE2A2A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B99-EB6E-41BC-96B4-E469F328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008-36E7-4055-A71E-6BA4FC0E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98E-95E7-4AFB-8D3B-BE92711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01D-C877-4547-B262-6799AD8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2EC-900E-492C-8BB9-517DD43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E66-5001-4293-94F5-F687714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1D0-1EBD-421C-9731-0059A97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45A-8E5B-4A96-AFCC-2A92DEE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F6A-620A-4993-BEFA-46DF6C4C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807-EB18-4F29-933A-ED9DBAD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A056-8DF6-4760-B952-A2A064CB49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3837240" cy="57150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267080" y="2286000"/>
            <a:ext cx="5029200" cy="213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Dauphin"/>
              </a:rPr>
              <a:t>Cardiopatías Congénitas</a:t>
            </a:r>
            <a:r>
              <a:rPr b="1" i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cc00ff"/>
                </a:solidFill>
                <a:latin typeface="Dauphin"/>
              </a:rPr>
              <a:t>Cianót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38880"/>
            <a:ext cx="84582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Centro Cardiovascular     Hosp. L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2103480" cy="2590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0" y="838080"/>
            <a:ext cx="80316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2133360" cy="26971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362320" y="5410080"/>
            <a:ext cx="85392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895480" y="2362320"/>
            <a:ext cx="2041560" cy="25146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656520" y="762120"/>
            <a:ext cx="5022360" cy="10688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LASIFICACION 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3800" y="2849400"/>
            <a:ext cx="217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760" y="3828960"/>
            <a:ext cx="27136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PERIF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648320"/>
            <a:ext cx="2057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362320"/>
            <a:ext cx="2057400" cy="2514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ON 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438280"/>
            <a:ext cx="22860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erifé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257800"/>
            <a:ext cx="190512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25840" y="2209680"/>
            <a:ext cx="173196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419640"/>
            <a:ext cx="182880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Pat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151080"/>
            <a:ext cx="28958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gli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ervisco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209680"/>
            <a:ext cx="220968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Vaso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2437920"/>
            <a:ext cx="685800" cy="381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7440" y="3024360"/>
            <a:ext cx="648720" cy="502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971800"/>
            <a:ext cx="2895480" cy="1752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96040" y="2544840"/>
            <a:ext cx="444240" cy="54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257800"/>
            <a:ext cx="1523880" cy="68580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e51c1"/>
          </a:solidFill>
          <a:ln w="93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9360" y="5257800"/>
            <a:ext cx="33048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AT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7280" y="304920"/>
            <a:ext cx="44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Times New Roman"/>
              </a:rPr>
              <a:t>Cardiopatías 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1603" t="0" r="0" b="21398"/>
          <a:stretch/>
        </p:blipFill>
        <p:spPr>
          <a:xfrm>
            <a:off x="395280" y="3789360"/>
            <a:ext cx="1943280" cy="259236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06676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2280" y="25416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99ff"/>
                </a:solidFill>
                <a:latin typeface="Dauphin"/>
              </a:rPr>
              <a:t>Cardiopatías Congénita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usa mas frecuente de cianosis pers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80160" y="38592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376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5920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13244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2760" y="306864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30320" y="3083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6920" y="437832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62360" y="4307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6200" y="3319560"/>
            <a:ext cx="948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35240" y="3925800"/>
            <a:ext cx="109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5  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840" y="26028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85640" y="10666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Dauphin"/>
              </a:rPr>
              <a:t>Fisiopatología de la ci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2302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rcRect l="5202" t="0" r="9712" b="10444"/>
          <a:stretch/>
        </p:blipFill>
        <p:spPr>
          <a:xfrm>
            <a:off x="179280" y="1052640"/>
            <a:ext cx="4103640" cy="5322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7280" y="3808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920" y="2209680"/>
            <a:ext cx="44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Anomalía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3480" y="328464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Factore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9040" y="380880"/>
            <a:ext cx="906768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lasificación de las Cardiopatías Congénitas</a:t>
            </a:r>
            <a:r>
              <a:rPr b="1" lang="es-ES_tradnl" sz="4000" spc="-1" strike="noStrike">
                <a:solidFill>
                  <a:srgbClr val="e5b8e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286000"/>
            <a:ext cx="289548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0" cy="990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304812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7000" y="2287440"/>
            <a:ext cx="86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99"/>
                </a:solidFill>
                <a:latin typeface="Arial Narrow"/>
              </a:rPr>
              <a:t>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612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34520" y="2437920"/>
            <a:ext cx="0" cy="7621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38600" y="939960"/>
            <a:ext cx="310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Times New Roman"/>
              </a:rPr>
              <a:t>CIANO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2286000"/>
            <a:ext cx="3886200" cy="114300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1676520"/>
            <a:ext cx="1066680" cy="533160"/>
          </a:xfrm>
          <a:prstGeom prst="leftArrow">
            <a:avLst>
              <a:gd name="adj1" fmla="val 50000"/>
              <a:gd name="adj2" fmla="val 50017"/>
            </a:avLst>
          </a:prstGeom>
          <a:noFill/>
          <a:ln w="381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4495680" y="1676160"/>
            <a:ext cx="1067040" cy="533160"/>
          </a:xfrm>
          <a:prstGeom prst="leftArrow">
            <a:avLst>
              <a:gd name="adj1" fmla="val 50000"/>
              <a:gd name="adj2" fmla="val 50034"/>
            </a:avLst>
          </a:prstGeom>
          <a:noFill/>
          <a:ln w="38160">
            <a:solidFill>
              <a:srgbClr val="e5b8e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880" y="3979800"/>
            <a:ext cx="3902040" cy="17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 de F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tresia Pulm +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.P. SIN 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. Complejas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C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4065480"/>
            <a:ext cx="4746600" cy="14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DV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ronco Arter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ardiopatias Complej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9520" y="5410080"/>
            <a:ext cx="3471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SIN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.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440" y="5516640"/>
            <a:ext cx="362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enosis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66000" y="110016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Dauphin"/>
              </a:rPr>
              <a:t>Flujo Pulmonar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00" y="2761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36576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19400" y="555624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Tetralogía de F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3760" y="44038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13000" y="41590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3733560"/>
            <a:ext cx="129564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4191120"/>
            <a:ext cx="2057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6920" y="5410080"/>
            <a:ext cx="88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Atresia Pulmonar sin CIV   (Hipoplasia del 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94300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685800" y="4572000"/>
            <a:ext cx="129528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85800" y="3733560"/>
            <a:ext cx="12952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52440" y="5958000"/>
            <a:ext cx="40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uctus 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59240" y="5410080"/>
            <a:ext cx="42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Atresia Tricusp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680" y="5047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54040" y="59580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Requiere CIA y a/v Ductu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7680" y="563868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90160" y="3500280"/>
            <a:ext cx="93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    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93760" y="2708280"/>
            <a:ext cx="956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    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9200" y="506520"/>
            <a:ext cx="677520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LASIFICACION 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2040" y="1066680"/>
            <a:ext cx="390096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ARDIOPAT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743200"/>
            <a:ext cx="30193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ONGENI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9080" y="4572000"/>
            <a:ext cx="28051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be0e3"/>
                </a:solidFill>
                <a:latin typeface="Times New Roman"/>
              </a:rPr>
              <a:t>ADQUIR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362320"/>
            <a:ext cx="35053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ff"/>
                </a:solidFill>
                <a:latin typeface="Times New Roman"/>
              </a:rPr>
              <a:t>CIANOTI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3080" y="3789360"/>
            <a:ext cx="282492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99"/>
                </a:solidFill>
                <a:latin typeface="Times New Roman"/>
              </a:rPr>
              <a:t>ROSADA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038480" y="2590560"/>
            <a:ext cx="1067040" cy="5331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9200" y="3291840"/>
            <a:ext cx="989640" cy="7318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0640" y="6248520"/>
            <a:ext cx="717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bbe0e3"/>
                </a:solidFill>
                <a:latin typeface="Times New Roman"/>
              </a:rPr>
              <a:t>Centro Cardiovascular      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6360" y="571500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3733560" cy="3581280"/>
          </a:xfrm>
          <a:prstGeom prst="rect">
            <a:avLst/>
          </a:prstGeom>
          <a:ln w="57240">
            <a:solidFill>
              <a:srgbClr val="be51c1"/>
            </a:solidFill>
            <a:miter/>
          </a:ln>
          <a:effectLst>
            <a:outerShdw dist="125751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0520" y="5257800"/>
            <a:ext cx="75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Dauphin"/>
              </a:rPr>
              <a:t>Transposición de Grandes Arte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44480" y="5791320"/>
            <a:ext cx="50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Ductus  y  CIA dependient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857680" cy="3924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7880" y="11430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5029200" cy="3772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-275400" y="457200"/>
            <a:ext cx="77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99"/>
                </a:solidFill>
                <a:latin typeface="Dauphin"/>
              </a:rPr>
              <a:t>Cardiopatías Congénitas </a:t>
            </a: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1160" y="2058840"/>
            <a:ext cx="3724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xamen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Gases Ar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O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Catete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Diferenciación de los Tipos de Ciano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320" y="1836720"/>
          <a:ext cx="8762760" cy="38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836720"/>
                    <a:ext cx="8762760" cy="3801960"/>
                  </a:xfrm>
                  <a:prstGeom prst="rect">
                    <a:avLst/>
                  </a:prstGeom>
                  <a:ln w="9360">
                    <a:solidFill>
                      <a:srgbClr val="ffff99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91640" y="11113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ulmonar         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2320" y="204804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LL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2320" y="2962440"/>
            <a:ext cx="174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ADM. 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40" y="3876840"/>
            <a:ext cx="26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T. HIPER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0880" y="4768920"/>
            <a:ext cx="160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aC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91520" y="19810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0574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000" y="30891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CORR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23520" y="30891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NO  NORM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114800" y="38098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3600" y="388620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Times New Roman"/>
              </a:rPr>
              <a:t>Pa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9654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20-30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77120" y="38862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040" y="38862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&lt;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0360" y="494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91120" y="4800240"/>
            <a:ext cx="0" cy="6094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73320" y="483084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N  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48006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5840" y="6110280"/>
            <a:ext cx="790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ccff"/>
                </a:solidFill>
                <a:latin typeface="Times New Roman"/>
              </a:rPr>
              <a:t>CENTRO CARDIOVASCULAR   HOSP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9560" y="48276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48240" y="1093680"/>
            <a:ext cx="70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: Examen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505320" cy="38102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308628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67080" y="4648320"/>
            <a:ext cx="2819520" cy="160020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343400" y="2057400"/>
            <a:ext cx="2590920" cy="2432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9560" y="3808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5880" y="106668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838080" y="4419720"/>
            <a:ext cx="2743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181840" cy="437688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1186200" y="380880"/>
            <a:ext cx="80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Ductus Depend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1880" y="93492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80640" y="43178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AD           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48480" y="31748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VD       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5b8e6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8458200" cy="634680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676800" y="1249200"/>
            <a:ext cx="7939440" cy="764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b8e6"/>
                </a:solidFill>
                <a:latin typeface="Dauphin"/>
              </a:rPr>
              <a:t>Tratamiento             CIRU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3320" y="167652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40320" y="2462040"/>
            <a:ext cx="58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22520" y="3335400"/>
            <a:ext cx="6037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Ductus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CIA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6000" y="177840"/>
            <a:ext cx="825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74304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Dauphin"/>
              </a:rPr>
              <a:t>Ductus Dependien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0360" y="2913120"/>
            <a:ext cx="4302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ías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Atresia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3520" y="603396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84400" cy="2590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203832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038480" cy="3028680"/>
          </a:xfrm>
          <a:prstGeom prst="rect">
            <a:avLst/>
          </a:prstGeom>
          <a:ln w="28440">
            <a:solidFill>
              <a:srgbClr val="be51c1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921040" cy="388620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6640" y="5335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Dauphin"/>
              </a:rPr>
              <a:t>Cardiopatías Ductus Depen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51440" y="137160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562720"/>
            <a:ext cx="6636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Arial"/>
              </a:rPr>
              <a:t>PGE1 en Infusión : 0.01mcg/Kg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828800"/>
            <a:ext cx="8077320" cy="6016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Son aquellas 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cuya característica principal es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IANOSIS</a:t>
            </a:r>
            <a:r>
              <a:rPr b="0" lang="es-ES_tradnl" sz="36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piel y mucosas y/o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INSATURACION</a:t>
            </a:r>
            <a:r>
              <a:rPr b="1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la sangre arterial  producto de la mezcla de sangre arterial y venosa dentro del coraz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( cortocircuito o shunt D-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96080" y="480960"/>
            <a:ext cx="915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99ff"/>
                </a:solidFill>
                <a:latin typeface="Dauphin"/>
              </a:rPr>
              <a:t>Cardiopatías Congénitas Cianó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560" y="48744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que necesitan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06668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Dauphin"/>
              </a:rPr>
              <a:t>Manejo Pre-Quirú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286000" cy="289548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2259000" cy="28958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03960" y="2057400"/>
            <a:ext cx="2165400" cy="297180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464760" y="601992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42120" y="511668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Hipop. 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6080" y="22860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Atr. 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7360" y="51055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0240" y="457200"/>
            <a:ext cx="82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Septostomía Auricular de Rash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7000" y="4762440"/>
            <a:ext cx="39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TGA –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Tricuspí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Pulmonar sin C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8360" y="1557360"/>
          <a:ext cx="294300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2943000" cy="309564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80200" y="1676520"/>
            <a:ext cx="2544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RUGÍA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960" y="6019920"/>
            <a:ext cx="8228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NTRO CARDIOVASCULAR       HOSP.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63840" y="2432160"/>
            <a:ext cx="318852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Pali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Corr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7000" y="272880"/>
            <a:ext cx="71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6560" y="942840"/>
            <a:ext cx="291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66"/>
                </a:solidFill>
                <a:latin typeface="Times New Roman"/>
              </a:rPr>
              <a:t>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962520" cy="2971800"/>
          </a:xfrm>
          <a:prstGeom prst="rect">
            <a:avLst/>
          </a:prstGeom>
          <a:ln w="38160">
            <a:solidFill>
              <a:srgbClr val="be51c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1480" y="736560"/>
            <a:ext cx="356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irugía Corr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0160" y="20304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789440" y="1447920"/>
            <a:ext cx="3657600" cy="426708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6427800" y="1565280"/>
            <a:ext cx="1520640" cy="352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72360" y="1447920"/>
            <a:ext cx="1904760" cy="68580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TETRALO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F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46240" y="5195880"/>
            <a:ext cx="17276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99"/>
                </a:solidFill>
                <a:latin typeface="Times New Roman"/>
              </a:rPr>
              <a:t>REPA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33520" y="1600200"/>
            <a:ext cx="3579840" cy="41911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3276720" y="40384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1600200"/>
            <a:ext cx="1752480" cy="38088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367080" cy="439272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500720" y="2205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Ventrículo Un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Anató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Fun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920" y="4618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Arial"/>
              </a:rPr>
              <a:t>CIRUGIA PAL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38080" y="1905120"/>
            <a:ext cx="342900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905120"/>
            <a:ext cx="350532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664000" cy="28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5029200" y="2133720"/>
          <a:ext cx="28242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2824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300680" y="5105520"/>
            <a:ext cx="56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BANDING   TAP                      BLA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51480" y="911160"/>
            <a:ext cx="55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imes New Roman"/>
              </a:rPr>
              <a:t>CIRUGIA  PALI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1040" y="32400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6440" y="349200"/>
            <a:ext cx="775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1840" y="93492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Dauphin"/>
              </a:rPr>
              <a:t>Manejo Médico - Recién Na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" y="2209680"/>
            <a:ext cx="9637200" cy="3993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Frente a la sospecha de CCC debe inten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orroborar  y precisar dg con la mayor pron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Estabilización del paciente :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Me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Uso racional del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Infusión de PGE1 ( CC  ductus depend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Traslado a Centro Quirúrg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-42480" y="5589720"/>
            <a:ext cx="8453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99cc"/>
                </a:solidFill>
                <a:latin typeface="BrushScrD"/>
              </a:rPr>
              <a:t>Un esfuerzo que vale la pe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20360" y="692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99cc"/>
                </a:solidFill>
                <a:latin typeface="Arial"/>
              </a:rPr>
              <a:t>JLL    TGA o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88120" cy="61279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315" name=""/>
          <p:cNvSpPr/>
          <p:nvPr/>
        </p:nvSpPr>
        <p:spPr>
          <a:xfrm rot="20729400">
            <a:off x="-282240" y="4530240"/>
            <a:ext cx="9237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99cc"/>
                </a:solidFill>
                <a:latin typeface="BrushScrD"/>
              </a:rPr>
              <a:t>Hacia donde queremos ir.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854680" cy="507996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6301080" y="5516640"/>
            <a:ext cx="16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e5b8e6"/>
                </a:solidFill>
                <a:latin typeface="BrushScrD"/>
              </a:rPr>
              <a:t>Fin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-36360" y="-27000"/>
          <a:ext cx="918036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27000"/>
                    <a:ext cx="91803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-471960" y="620640"/>
            <a:ext cx="100562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5480" y="1447920"/>
            <a:ext cx="73573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99"/>
                </a:solidFill>
                <a:latin typeface="Dauphin"/>
              </a:rPr>
              <a:t>Que  es  la  Cianosi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971800"/>
            <a:ext cx="4670640" cy="2531880"/>
          </a:xfrm>
          <a:prstGeom prst="rect">
            <a:avLst/>
          </a:prstGeom>
          <a:noFill/>
          <a:ln w="9360">
            <a:solidFill>
              <a:srgbClr val="e5b8e6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ANOSIS</a:t>
            </a:r>
            <a:r>
              <a:rPr b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r>
              <a:rPr b="1" lang="es-ES_tradnl" sz="4000" spc="-1" strike="noStrike">
                <a:solidFill>
                  <a:srgbClr val="e5b8e6"/>
                </a:solidFill>
                <a:latin typeface="Dauphin"/>
              </a:rPr>
              <a:t>: es  la  coloración azulada  de  piel  y/o mu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81720" y="5867280"/>
            <a:ext cx="919044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+ de 5g de Hb  reducida en sangre v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876240" y="2590920"/>
            <a:ext cx="2476440" cy="3124080"/>
          </a:xfrm>
          <a:prstGeom prst="rect">
            <a:avLst/>
          </a:prstGeom>
          <a:ln w="9360">
            <a:solidFill>
              <a:srgbClr val="cc99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2280" y="1905120"/>
            <a:ext cx="3270240" cy="3740040"/>
          </a:xfrm>
          <a:prstGeom prst="rect">
            <a:avLst/>
          </a:prstGeom>
          <a:ln w="76320">
            <a:solidFill>
              <a:srgbClr val="ffff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-289440" y="762120"/>
            <a:ext cx="6389640" cy="703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99"/>
                </a:solidFill>
                <a:latin typeface="Dauphin"/>
              </a:rPr>
              <a:t>Cardiopatías Congéni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75160" y="2743200"/>
            <a:ext cx="5761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Porqué somo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rosado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5973840"/>
            <a:ext cx="818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99"/>
                </a:solidFill>
                <a:latin typeface="Dauphin"/>
              </a:rPr>
              <a:t>Centro Cardiovascular Hospital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10640" y="601992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15g Hb                   3.5g Hb reducida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66960" y="2550960"/>
          <a:ext cx="5408640" cy="175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6960" y="2550960"/>
                    <a:ext cx="54086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891880" y="2743200"/>
            <a:ext cx="358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Extracción de 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6120" y="53352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619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11240" y="2340000"/>
          <a:ext cx="2484360" cy="94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1240" y="2340000"/>
                    <a:ext cx="2484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80880" y="2000160"/>
            <a:ext cx="3124440" cy="2571840"/>
          </a:xfrm>
          <a:prstGeom prst="rect">
            <a:avLst/>
          </a:prstGeom>
          <a:ln w="76320">
            <a:solidFill>
              <a:srgbClr val="ff3399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261720" y="468792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Piel y muco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6960" y="464832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Mucho flujo y poca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5600" y="144792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Dauphin"/>
              </a:rPr>
              <a:t>Porque  somos rosado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960" y="685800"/>
            <a:ext cx="51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Dauphin"/>
              </a:rPr>
              <a:t>Cardiopatías Congé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780000" y="2133720"/>
            <a:ext cx="48243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8080" y="609588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440" y="3803760"/>
            <a:ext cx="481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perfusión Tis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ter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S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3809880"/>
            <a:ext cx="45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Insaturación Ar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200" y="90792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Fisiopatología de la Cia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456000" cy="172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5290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5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09800" y="314280"/>
            <a:ext cx="9448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77336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99"/>
                </a:solidFill>
                <a:latin typeface="Dauphin"/>
              </a:rPr>
              <a:t>Porque  somos  rosa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76520"/>
            <a:ext cx="3429000" cy="419076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70036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25960" y="2844720"/>
            <a:ext cx="608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Oxige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ébito Adec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istribución del Déb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Ausencia de Shunts D-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cardíacos y/o pulmon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23:11:38Z</dcterms:created>
  <dc:creator> Monica</dc:creator>
  <dc:description/>
  <dc:language>en-US</dc:language>
  <cp:lastModifiedBy> Monica</cp:lastModifiedBy>
  <dcterms:modified xsi:type="dcterms:W3CDTF">2006-05-25T17:03:35Z</dcterms:modified>
  <cp:revision>15</cp:revision>
  <dc:subject/>
  <dc:title>Diapositiva 1</dc:title>
</cp:coreProperties>
</file>