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5.jpeg" ContentType="image/jpeg"/>
  <Override PartName="/ppt/media/image26.jpeg" ContentType="image/jpeg"/>
  <Override PartName="/ppt/media/image8.wmf" ContentType="image/x-wmf"/>
  <Override PartName="/ppt/media/image61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5.png" ContentType="image/png"/>
  <Override PartName="/ppt/media/image56.jpeg" ContentType="image/jpeg"/>
  <Override PartName="/ppt/media/image33.png" ContentType="image/png"/>
  <Override PartName="/ppt/media/image29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27.png" ContentType="image/png"/>
  <Override PartName="/ppt/media/image28.jpeg" ContentType="image/jpeg"/>
  <Override PartName="/ppt/media/image22.png" ContentType="image/png"/>
  <Override PartName="/ppt/media/image24.jpeg" ContentType="image/jpeg"/>
  <Override PartName="/ppt/media/image3.png" ContentType="image/png"/>
  <Override PartName="/ppt/media/image15.png" ContentType="image/png"/>
  <Override PartName="/ppt/media/image57.wmf" ContentType="image/x-wmf"/>
  <Override PartName="/ppt/media/image17.png" ContentType="image/png"/>
  <Override PartName="/ppt/media/image19.png" ContentType="image/png"/>
  <Override PartName="/ppt/media/image60.jpeg" ContentType="image/jpeg"/>
  <Override PartName="/ppt/media/image30.png" ContentType="image/png"/>
  <Override PartName="/ppt/media/image16.png" ContentType="image/png"/>
  <Override PartName="/ppt/media/image49.jpeg" ContentType="image/jpeg"/>
  <Override PartName="/ppt/media/image9.png" ContentType="image/png"/>
  <Override PartName="/ppt/media/image7.wmf" ContentType="image/x-wmf"/>
  <Override PartName="/ppt/media/image12.png" ContentType="image/png"/>
  <Override PartName="/ppt/media/image59.jpeg" ContentType="image/jpeg"/>
  <Override PartName="/ppt/media/image6.png" ContentType="image/png"/>
  <Override PartName="/ppt/media/image42.jpeg" ContentType="image/jpeg"/>
  <Override PartName="/ppt/media/image18.png" ContentType="image/png"/>
  <Override PartName="/ppt/media/image58.wmf" ContentType="image/x-wmf"/>
  <Override PartName="/ppt/media/image34.jpeg" ContentType="image/jpeg"/>
  <Override PartName="/ppt/media/image37.png" ContentType="image/png"/>
  <Override PartName="/ppt/media/image35.png" ContentType="image/png"/>
  <Override PartName="/ppt/media/image36.jpeg" ContentType="image/jpeg"/>
  <Override PartName="/ppt/media/image39.wmf" ContentType="image/x-wmf"/>
  <Override PartName="/ppt/media/image40.jpeg" ContentType="image/jpeg"/>
  <Override PartName="/ppt/media/image41.jpeg" ContentType="image/jpeg"/>
  <Override PartName="/ppt/media/image54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4.jpeg" ContentType="image/jpeg"/>
  <Override PartName="/ppt/media/image51.png" ContentType="image/pn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9EF-BC9E-4573-8ABF-B83C1EAE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3C7C-9C21-4683-868A-2EA2EAD7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BDD-DE5A-4877-90A8-872C6C19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150-445C-42CD-9C90-025EAB94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9356-36D6-4A80-8B6E-D43D3013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E87-00F2-4C58-8264-AD162335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2E8-2EF2-401C-987D-A3E012DA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7C9-19FE-4577-B56B-E838E8B7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A050-0114-4690-9E06-E0288865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3F5-69EE-416D-A66E-4EF04322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DEA-4056-4DD7-A490-DFAFE308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AE2-A0C2-4D5A-8C0B-DFED34A0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65DF-CD50-4AF0-9302-48EEF5A582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image" Target="../media/image30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80880" y="685800"/>
            <a:ext cx="3837240" cy="57150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267080" y="2286000"/>
            <a:ext cx="5029200" cy="2135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Dauphin"/>
              </a:rPr>
              <a:t>Cardiopatías Congénitas</a:t>
            </a:r>
            <a:r>
              <a:rPr b="1" i="1" lang="es-ES_tradnl" sz="4000" spc="-1" strike="noStrike">
                <a:solidFill>
                  <a:srgbClr val="009999"/>
                </a:solidFill>
                <a:latin typeface="Dauphi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cc00ff"/>
                </a:solidFill>
                <a:latin typeface="Dauphin"/>
              </a:rPr>
              <a:t>Cianót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338880"/>
            <a:ext cx="845820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Centro Cardiovascular     Hosp. L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2103480" cy="25909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86000" y="838080"/>
            <a:ext cx="803160" cy="99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3733920"/>
            <a:ext cx="2133360" cy="26971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362320" y="5410080"/>
            <a:ext cx="853920" cy="99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895480" y="2362320"/>
            <a:ext cx="2041560" cy="25146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656520" y="762120"/>
            <a:ext cx="5022360" cy="10688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LASIFICACION  D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I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3800" y="2849400"/>
            <a:ext cx="21711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760" y="3828960"/>
            <a:ext cx="271368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PERIF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4648320"/>
            <a:ext cx="2057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362320"/>
            <a:ext cx="2057400" cy="2514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9144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LASIFICACION CIA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438280"/>
            <a:ext cx="228600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Perifé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5257800"/>
            <a:ext cx="190512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25840" y="2209680"/>
            <a:ext cx="173196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Fisi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419640"/>
            <a:ext cx="182880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Pat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3151080"/>
            <a:ext cx="28958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ogli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ot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Sh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5b8e6"/>
                </a:solidFill>
                <a:latin typeface="Times New Roman"/>
              </a:rPr>
              <a:t>Hipervisco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209680"/>
            <a:ext cx="2209680" cy="4597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   </a:t>
            </a:r>
            <a:r>
              <a:rPr b="1" lang="es-ES_tradnl" sz="2400" spc="-1" strike="noStrike">
                <a:solidFill>
                  <a:srgbClr val="e5b8e6"/>
                </a:solidFill>
                <a:latin typeface="Times New Roman"/>
              </a:rPr>
              <a:t>Vasomo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743200" y="2437920"/>
            <a:ext cx="685800" cy="38124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47440" y="3024360"/>
            <a:ext cx="648720" cy="50292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2971800"/>
            <a:ext cx="2895480" cy="1752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396040" y="2544840"/>
            <a:ext cx="444240" cy="54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3657600"/>
            <a:ext cx="457200" cy="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257800"/>
            <a:ext cx="1523880" cy="68580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e51c1"/>
          </a:solidFill>
          <a:ln w="9360">
            <a:solidFill>
              <a:srgbClr val="e5b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9360" y="5257800"/>
            <a:ext cx="3304800" cy="642600"/>
          </a:xfrm>
          <a:prstGeom prst="rect">
            <a:avLst/>
          </a:prstGeom>
          <a:solidFill>
            <a:srgbClr val="be51c1"/>
          </a:soli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PATOLO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7280" y="304920"/>
            <a:ext cx="44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5b8e6"/>
                </a:solidFill>
                <a:latin typeface="Times New Roman"/>
              </a:rPr>
              <a:t>Cardiopatías 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11603" t="0" r="0" b="21398"/>
          <a:stretch/>
        </p:blipFill>
        <p:spPr>
          <a:xfrm>
            <a:off x="395280" y="3789360"/>
            <a:ext cx="1943280" cy="2592360"/>
          </a:xfrm>
          <a:prstGeom prst="rect">
            <a:avLst/>
          </a:prstGeom>
          <a:ln w="38160">
            <a:solidFill>
              <a:srgbClr val="d60093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4000" y="1700280"/>
            <a:ext cx="206676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12280" y="25416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99ff"/>
                </a:solidFill>
                <a:latin typeface="Dauphin"/>
              </a:rPr>
              <a:t>Cardiopatías Congénita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usa mas frecuente de cianosis pers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203640" y="2205000"/>
            <a:ext cx="482436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80160" y="3859200"/>
            <a:ext cx="304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3760" y="385920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3859200"/>
            <a:ext cx="3049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3859200"/>
            <a:ext cx="2286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132440"/>
            <a:ext cx="15264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2760" y="3068640"/>
            <a:ext cx="4003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30320" y="3083040"/>
            <a:ext cx="349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76920" y="4378320"/>
            <a:ext cx="4003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62360" y="4307040"/>
            <a:ext cx="3499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cc66"/>
                </a:solidFill>
                <a:latin typeface="Times New Roman"/>
              </a:rPr>
              <a:t>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66200" y="3319560"/>
            <a:ext cx="948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5   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35240" y="3925800"/>
            <a:ext cx="1099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5    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4840" y="26028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485640" y="1066680"/>
            <a:ext cx="51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Dauphin"/>
              </a:rPr>
              <a:t>Fisiopatología de la cia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23028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rcRect l="5202" t="0" r="9712" b="10444"/>
          <a:stretch/>
        </p:blipFill>
        <p:spPr>
          <a:xfrm>
            <a:off x="179280" y="1052640"/>
            <a:ext cx="4103640" cy="53226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7280" y="3808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64920" y="2209680"/>
            <a:ext cx="44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Anomalías Estru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3480" y="328464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Factore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9040" y="380880"/>
            <a:ext cx="906768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lasificación de las Cardiopatías Congénitas</a:t>
            </a:r>
            <a:r>
              <a:rPr b="1" lang="es-ES_tradnl" sz="4000" spc="-1" strike="noStrike">
                <a:solidFill>
                  <a:srgbClr val="e5b8e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286000"/>
            <a:ext cx="2895480" cy="11912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on Flujo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438280"/>
            <a:ext cx="0" cy="9907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09680"/>
            <a:ext cx="3048120" cy="119124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Times New Roman"/>
              </a:rPr>
              <a:t>Con Flujo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7000" y="2287440"/>
            <a:ext cx="86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600" spc="-1" strike="noStrike">
                <a:solidFill>
                  <a:srgbClr val="ffff99"/>
                </a:solidFill>
                <a:latin typeface="Arial Narrow"/>
              </a:rPr>
              <a:t>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26120" y="2819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Courier New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8534520" y="2437920"/>
            <a:ext cx="0" cy="7621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38600" y="939960"/>
            <a:ext cx="3105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Times New Roman"/>
              </a:rPr>
              <a:t>CIANO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2286000"/>
            <a:ext cx="3886200" cy="114300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1676520"/>
            <a:ext cx="1066680" cy="533160"/>
          </a:xfrm>
          <a:prstGeom prst="leftArrow">
            <a:avLst>
              <a:gd name="adj1" fmla="val 50000"/>
              <a:gd name="adj2" fmla="val 50017"/>
            </a:avLst>
          </a:prstGeom>
          <a:noFill/>
          <a:ln w="38160">
            <a:solidFill>
              <a:srgbClr val="e5b8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4495680" y="1676160"/>
            <a:ext cx="1067040" cy="533160"/>
          </a:xfrm>
          <a:prstGeom prst="leftArrow">
            <a:avLst>
              <a:gd name="adj1" fmla="val 50000"/>
              <a:gd name="adj2" fmla="val 50034"/>
            </a:avLst>
          </a:prstGeom>
          <a:noFill/>
          <a:ln w="38160">
            <a:solidFill>
              <a:srgbClr val="e5b8e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7880" y="3979800"/>
            <a:ext cx="3902040" cy="17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 de F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Atresia Pulm + C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A.P. SIN  C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C. Complejas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C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4065480"/>
            <a:ext cx="4746600" cy="145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DV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Tronco Arteri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Cardiopatias Complej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9520" y="5410080"/>
            <a:ext cx="3471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SIN</a:t>
            </a:r>
            <a:r>
              <a:rPr b="1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Est.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2440" y="5516640"/>
            <a:ext cx="3629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Estenosis Pulmo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66000" y="1100160"/>
            <a:ext cx="49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Dauphin"/>
              </a:rPr>
              <a:t>Flujo Pulmonar Disminuí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6000" y="27612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3124080" cy="3657600"/>
          </a:xfrm>
          <a:prstGeom prst="rect">
            <a:avLst/>
          </a:prstGeom>
          <a:ln w="57240">
            <a:solidFill>
              <a:srgbClr val="cc00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419400" y="5556240"/>
            <a:ext cx="43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Tetralogía de F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3760" y="4403880"/>
            <a:ext cx="51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13000" y="4159080"/>
            <a:ext cx="519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38080" y="3733560"/>
            <a:ext cx="1295640" cy="6858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4191120"/>
            <a:ext cx="2057400" cy="3808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00720" y="177336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76920" y="5410080"/>
            <a:ext cx="88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b8e6"/>
                </a:solidFill>
                <a:latin typeface="Dauphin"/>
              </a:rPr>
              <a:t>Atresia Pulmonar sin CIV   (Hipoplasia del 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294300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685800" y="4572000"/>
            <a:ext cx="129528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85800" y="3733560"/>
            <a:ext cx="1295280" cy="1143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52440" y="5958000"/>
            <a:ext cx="40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Ductus depend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59240" y="5410080"/>
            <a:ext cx="42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Atresia Tricuspí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9680" y="50472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28530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54040" y="595800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Dauphin"/>
              </a:rPr>
              <a:t>( Requiere CIA y a/v Ductu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77680" y="563868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Drenaje Venoso Pulmonar Anomalo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282096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2743200" y="1752480"/>
            <a:ext cx="1271520" cy="1397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1755360" y="4495680"/>
            <a:ext cx="461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42960" y="4179960"/>
            <a:ext cx="390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6760" y="4114800"/>
            <a:ext cx="47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90160" y="3500280"/>
            <a:ext cx="938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     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93760" y="2708280"/>
            <a:ext cx="956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    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9200" y="506520"/>
            <a:ext cx="6775200" cy="703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bbe0e3"/>
                </a:solidFill>
                <a:latin typeface="Times New Roman"/>
              </a:rPr>
              <a:t>CLASIFICACION  GEN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2040" y="1066680"/>
            <a:ext cx="3900960" cy="7034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bbe0e3"/>
                </a:solidFill>
                <a:latin typeface="Times New Roman"/>
              </a:rPr>
              <a:t>CARDIOPAT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743200"/>
            <a:ext cx="30193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CONGENI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9080" y="4572000"/>
            <a:ext cx="280512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be0e3"/>
                </a:solidFill>
                <a:latin typeface="Times New Roman"/>
              </a:rPr>
              <a:t>ADQUIR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2362320"/>
            <a:ext cx="350532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ff"/>
                </a:solidFill>
                <a:latin typeface="Times New Roman"/>
              </a:rPr>
              <a:t>CIANOTIC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3080" y="3789360"/>
            <a:ext cx="2824920" cy="642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99"/>
                </a:solidFill>
                <a:latin typeface="Times New Roman"/>
              </a:rPr>
              <a:t>ROSADAS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038480" y="2590560"/>
            <a:ext cx="1067040" cy="5331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9200" y="3291840"/>
            <a:ext cx="989640" cy="7318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0640" y="6248520"/>
            <a:ext cx="7178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bbe0e3"/>
                </a:solidFill>
                <a:latin typeface="Times New Roman"/>
              </a:rPr>
              <a:t>Centro Cardiovascular      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6360" y="5715000"/>
            <a:ext cx="80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b8e6"/>
                </a:solidFill>
                <a:latin typeface="Dauphin"/>
              </a:rPr>
              <a:t>Drenaje Venoso Pulmonar Anomalo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2820960" cy="3886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743200" y="1752480"/>
            <a:ext cx="1271520" cy="139716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1755360" y="4495680"/>
            <a:ext cx="461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42960" y="4179960"/>
            <a:ext cx="390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6760" y="4114800"/>
            <a:ext cx="47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omic Sans MS"/>
              </a:rPr>
              <a:t>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419720" y="1828800"/>
            <a:ext cx="3733560" cy="3581280"/>
          </a:xfrm>
          <a:prstGeom prst="rect">
            <a:avLst/>
          </a:prstGeom>
          <a:ln w="57240">
            <a:solidFill>
              <a:srgbClr val="be51c1"/>
            </a:solidFill>
            <a:miter/>
          </a:ln>
          <a:effectLst>
            <a:outerShdw dist="125751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0520" y="5257800"/>
            <a:ext cx="75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Dauphin"/>
              </a:rPr>
              <a:t>Transposición de Grandes Arte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44480" y="5791320"/>
            <a:ext cx="50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99"/>
                </a:solidFill>
                <a:latin typeface="Dauphin"/>
              </a:rPr>
              <a:t>( Ductus  y  CIA dependient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2857680" cy="3924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356000" y="1413000"/>
            <a:ext cx="3676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7880" y="11430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99"/>
                </a:solidFill>
                <a:latin typeface="Dauphin"/>
              </a:rPr>
              <a:t>Diagnó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5029200" cy="37720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-275400" y="457200"/>
            <a:ext cx="77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9999"/>
                </a:solidFill>
                <a:latin typeface="Dauphin"/>
              </a:rPr>
              <a:t>Cardiopatías Congénitas </a:t>
            </a: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1160" y="2058840"/>
            <a:ext cx="3724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xamen fí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Gases Arte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ECO 2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99"/>
                </a:solidFill>
                <a:latin typeface="Dauphin"/>
              </a:rPr>
              <a:t>Catete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Diferenciación de los Tipos de Cianos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320" y="1836720"/>
          <a:ext cx="8762760" cy="380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836720"/>
                    <a:ext cx="8762760" cy="3801960"/>
                  </a:xfrm>
                  <a:prstGeom prst="rect">
                    <a:avLst/>
                  </a:prstGeom>
                  <a:ln w="9360">
                    <a:solidFill>
                      <a:srgbClr val="ffff99"/>
                    </a:solidFill>
                    <a:miter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491640" y="1111320"/>
            <a:ext cx="49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ccff"/>
                </a:solidFill>
                <a:latin typeface="Times New Roman"/>
              </a:rPr>
              <a:t>Pulmonar         Cardí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2320" y="204804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LL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2320" y="2962440"/>
            <a:ext cx="174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ADM.  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5040" y="3876840"/>
            <a:ext cx="264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ccff"/>
                </a:solidFill>
                <a:latin typeface="Times New Roman"/>
              </a:rPr>
              <a:t>T. HIPEROX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0880" y="4768920"/>
            <a:ext cx="1602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66ccff"/>
                </a:solidFill>
                <a:latin typeface="Times New Roman"/>
              </a:rPr>
              <a:t>PaC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391520" y="198108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20574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000" y="30891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CORR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23520" y="30891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NO  NORM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114800" y="380988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3600" y="388620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Times New Roman"/>
              </a:rPr>
              <a:t>Pa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39654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20-30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477120" y="38862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040" y="388620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&lt; a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70360" y="49435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191120" y="4800240"/>
            <a:ext cx="0" cy="60948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73320" y="483084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N  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4800600"/>
            <a:ext cx="0" cy="53352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5840" y="6110280"/>
            <a:ext cx="7908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ccff"/>
                </a:solidFill>
                <a:latin typeface="Times New Roman"/>
              </a:rPr>
              <a:t>CENTRO CARDIOVASCULAR   HOSP LUIS CALVO MACK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9560" y="48276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i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48240" y="1093680"/>
            <a:ext cx="703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Dauphin"/>
              </a:rPr>
              <a:t>Diagnóstico: Examen Fís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505320" cy="38102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257800" y="1752480"/>
            <a:ext cx="3086280" cy="411480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267080" y="4648320"/>
            <a:ext cx="2819520" cy="1600200"/>
          </a:xfrm>
          <a:prstGeom prst="rect">
            <a:avLst/>
          </a:prstGeom>
          <a:ln w="9360">
            <a:solidFill>
              <a:srgbClr val="cc00ff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4343400" y="2057400"/>
            <a:ext cx="2590920" cy="24321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9560" y="38088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i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5880" y="1066680"/>
            <a:ext cx="31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Dauphin"/>
              </a:rPr>
              <a:t>Diagnó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838080" y="4419720"/>
            <a:ext cx="27432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5181840" cy="4376880"/>
          </a:xfrm>
          <a:prstGeom prst="rect">
            <a:avLst/>
          </a:prstGeom>
          <a:ln w="9360">
            <a:solidFill>
              <a:srgbClr val="ffff6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45" name=""/>
          <p:cNvSpPr/>
          <p:nvPr/>
        </p:nvSpPr>
        <p:spPr>
          <a:xfrm>
            <a:off x="1186200" y="380880"/>
            <a:ext cx="80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Ductus Depend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1880" y="93492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Dauphin"/>
              </a:rPr>
              <a:t>Diagnó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80640" y="431784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99"/>
                </a:solidFill>
                <a:latin typeface="Dauphin"/>
              </a:rPr>
              <a:t>AD            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48480" y="317484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99"/>
                </a:solidFill>
                <a:latin typeface="Dauphin"/>
              </a:rPr>
              <a:t>VD        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0960" y="603108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5b8e6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8458200" cy="634680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676800" y="1249200"/>
            <a:ext cx="7939440" cy="764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b8e6"/>
                </a:solidFill>
                <a:latin typeface="Dauphin"/>
              </a:rPr>
              <a:t>Tratamiento             CIRU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3320" y="167652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40320" y="2462040"/>
            <a:ext cx="5873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Dauphin"/>
              </a:rPr>
              <a:t>Manejo pre-quirúrg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22520" y="3335400"/>
            <a:ext cx="6037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Ductus de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1" lang="es-MX" sz="4000" spc="-1" strike="noStrike">
                <a:solidFill>
                  <a:srgbClr val="e5b8e6"/>
                </a:solidFill>
                <a:latin typeface="Dauphin"/>
              </a:rPr>
              <a:t>CIA dependi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0960" y="603108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6000" y="177840"/>
            <a:ext cx="8254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Dauphi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74304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Dauphin"/>
              </a:rPr>
              <a:t>Ductus Dependien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80360" y="2913120"/>
            <a:ext cx="43027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T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ardiopatías c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Atresia 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3520" y="603396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084400" cy="2590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590920" y="2819520"/>
            <a:ext cx="203832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038480" cy="3028680"/>
          </a:xfrm>
          <a:prstGeom prst="rect">
            <a:avLst/>
          </a:prstGeom>
          <a:ln w="28440">
            <a:solidFill>
              <a:srgbClr val="be51c1"/>
            </a:solidFill>
            <a:miter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2120" y="1295280"/>
            <a:ext cx="2921040" cy="3886200"/>
          </a:xfrm>
          <a:prstGeom prst="rect">
            <a:avLst/>
          </a:prstGeom>
          <a:ln w="38160">
            <a:solidFill>
              <a:srgbClr val="be51c1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26640" y="533520"/>
            <a:ext cx="72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Dauphin"/>
              </a:rPr>
              <a:t>Cardiopatías Ductus Depend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51440" y="1371600"/>
            <a:ext cx="42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Dauphin"/>
              </a:rPr>
              <a:t>Manejo Pre-Quirúr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5562720"/>
            <a:ext cx="6636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Arial"/>
              </a:rPr>
              <a:t>PGE1 en Infusión : 0.01mcg/Kg/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828800"/>
            <a:ext cx="8077320" cy="6016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Son aquellas Cardiopatías congéni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cuya característica principal es la </a:t>
            </a: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CIANOSIS</a:t>
            </a:r>
            <a:r>
              <a:rPr b="0" lang="es-ES_tradnl" sz="36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de piel y mucosas y/o la </a:t>
            </a:r>
            <a:r>
              <a:rPr b="1" lang="es-ES_tradnl" sz="3600" spc="-1" strike="noStrike">
                <a:solidFill>
                  <a:srgbClr val="e5b8e6"/>
                </a:solidFill>
                <a:latin typeface="Dauphin"/>
              </a:rPr>
              <a:t>INSATURACION</a:t>
            </a:r>
            <a:r>
              <a:rPr b="1" lang="es-ES_tradnl" sz="3600" spc="-1" strike="noStrike">
                <a:solidFill>
                  <a:srgbClr val="bbe0e3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de la sangre arterial  producto de la mezcla de sangre arterial y venosa dentro del coraz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bbe0e3"/>
                </a:solidFill>
                <a:latin typeface="Dauphin"/>
              </a:rPr>
              <a:t>( cortocircuito o shunt D-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496080" y="480960"/>
            <a:ext cx="9150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cc99ff"/>
                </a:solidFill>
                <a:latin typeface="Dauphin"/>
              </a:rPr>
              <a:t>Cardiopatías Congénitas Cianó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7560" y="487440"/>
            <a:ext cx="72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Cardiopatías que necesitan 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1066680"/>
            <a:ext cx="61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66"/>
                </a:solidFill>
                <a:latin typeface="Dauphin"/>
              </a:rPr>
              <a:t>Manejo Pre-Quirúr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2286000" cy="289548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505320" y="2895480"/>
            <a:ext cx="2259000" cy="289584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03960" y="2057400"/>
            <a:ext cx="2165400" cy="297180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464760" y="6019920"/>
            <a:ext cx="86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Dauphin"/>
              </a:rPr>
              <a:t>Centro Cardiovascular  Hosp. Luis Calvo Mack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42120" y="5116680"/>
            <a:ext cx="18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Hipop. 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6080" y="228600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Atr. 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7360" y="510552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Dauphin"/>
              </a:rPr>
              <a:t>T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0240" y="457200"/>
            <a:ext cx="82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Septostomía Auricular de Rash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7000" y="4762440"/>
            <a:ext cx="399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TGA –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Atresia Tricuspí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MX" sz="2400" spc="-1" strike="noStrike">
                <a:solidFill>
                  <a:srgbClr val="e5b8e6"/>
                </a:solidFill>
                <a:latin typeface="Dauphin"/>
              </a:rPr>
              <a:t>Atresia Pulmonar sin C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68360" y="1557360"/>
          <a:ext cx="2943000" cy="30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57360"/>
                    <a:ext cx="2943000" cy="309564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3780000" y="1484280"/>
            <a:ext cx="4895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80200" y="1676520"/>
            <a:ext cx="2544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99"/>
                </a:solidFill>
                <a:latin typeface="Dauphin"/>
              </a:rPr>
              <a:t>CIRUGÍA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5960" y="6019920"/>
            <a:ext cx="8228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ENTRO CARDIOVASCULAR       HOSP. LUIS CALVO MACKEN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63840" y="2432160"/>
            <a:ext cx="3188520" cy="170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e5b8e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Pali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e5b8e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e5b8e6"/>
                </a:solidFill>
                <a:latin typeface="Times New Roman"/>
              </a:rPr>
              <a:t>Correc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47000" y="272880"/>
            <a:ext cx="719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6560" y="942840"/>
            <a:ext cx="2917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66"/>
                </a:solidFill>
                <a:latin typeface="Times New Roman"/>
              </a:rPr>
              <a:t>Tra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962520" cy="2971800"/>
          </a:xfrm>
          <a:prstGeom prst="rect">
            <a:avLst/>
          </a:prstGeom>
          <a:ln w="38160">
            <a:solidFill>
              <a:srgbClr val="be51c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1480" y="736560"/>
            <a:ext cx="35668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irugía Correc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0160" y="203040"/>
            <a:ext cx="642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ongénit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789440" y="1447920"/>
            <a:ext cx="3657600" cy="426708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6427800" y="1565280"/>
            <a:ext cx="1520640" cy="3524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72360" y="1447920"/>
            <a:ext cx="1904760" cy="685800"/>
          </a:xfrm>
          <a:prstGeom prst="rect">
            <a:avLst/>
          </a:prstGeom>
          <a:solidFill>
            <a:srgbClr val="e5b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TETRALOG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</a:rPr>
              <a:t>F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46240" y="5195880"/>
            <a:ext cx="172764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99"/>
                </a:solidFill>
                <a:latin typeface="Times New Roman"/>
              </a:rPr>
              <a:t>REPA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33520" y="1600200"/>
            <a:ext cx="3579840" cy="419112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3276720" y="403848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1600200"/>
            <a:ext cx="1752480" cy="380880"/>
          </a:xfrm>
          <a:prstGeom prst="rect">
            <a:avLst/>
          </a:prstGeom>
          <a:solidFill>
            <a:srgbClr val="e5b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3367080" cy="4392720"/>
          </a:xfrm>
          <a:prstGeom prst="rect">
            <a:avLst/>
          </a:prstGeom>
          <a:ln w="38160">
            <a:solidFill>
              <a:srgbClr val="be51c1"/>
            </a:solidFill>
            <a:miter/>
          </a:ln>
        </p:spPr>
      </p:pic>
      <p:sp>
        <p:nvSpPr>
          <p:cNvPr id="298" name=""/>
          <p:cNvSpPr/>
          <p:nvPr/>
        </p:nvSpPr>
        <p:spPr>
          <a:xfrm>
            <a:off x="4500720" y="2205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Ventrículo Un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-Anató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e5b8e6"/>
                </a:solidFill>
                <a:latin typeface="Times New Roman"/>
              </a:rPr>
              <a:t>-Fun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5920" y="46188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5b8e6"/>
                </a:solidFill>
                <a:latin typeface="Arial"/>
              </a:rPr>
              <a:t>CIRUGIA PAL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38080" y="1905120"/>
            <a:ext cx="342900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1905120"/>
            <a:ext cx="3505320" cy="3657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664000" cy="289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5029200" y="2133720"/>
          <a:ext cx="282420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2133720"/>
                    <a:ext cx="2824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1300680" y="5105520"/>
            <a:ext cx="565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BANDING   TAP                      BLA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51480" y="911160"/>
            <a:ext cx="55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cc"/>
                </a:solidFill>
                <a:latin typeface="Times New Roman"/>
              </a:rPr>
              <a:t>CIRUGIA  PALI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91040" y="324000"/>
            <a:ext cx="6427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b8e6"/>
                </a:solidFill>
                <a:latin typeface="Times New Roman"/>
              </a:rPr>
              <a:t>Cardiopatías Congénitas Cianó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6440" y="349200"/>
            <a:ext cx="775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Dauphin"/>
              </a:rPr>
              <a:t>Cardiopatías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1840" y="934920"/>
            <a:ext cx="61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Dauphin"/>
              </a:rPr>
              <a:t>Manejo Médico - Recién Nac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640" y="2209680"/>
            <a:ext cx="9637200" cy="39934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Frente a la sospecha de CCC debe intenta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corroborar  y precisar dg con la mayor pront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Estabilización del paciente : Respir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                          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Cardiova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                            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Metabó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Uso racional del 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Infusión de PGE1 ( CC  ductus dependi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5b8e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 </a:t>
            </a:r>
            <a:r>
              <a:rPr b="0" lang="es-ES_tradnl" sz="3200" spc="-1" strike="noStrike">
                <a:solidFill>
                  <a:srgbClr val="e5b8e6"/>
                </a:solidFill>
                <a:latin typeface="Dauphin"/>
              </a:rPr>
              <a:t>Traslado a Centro Quirúrg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-42480" y="5589720"/>
            <a:ext cx="8453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99cc"/>
                </a:solidFill>
                <a:latin typeface="BrushScrD"/>
              </a:rPr>
              <a:t>Un esfuerzo que vale la pe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20360" y="6922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99cc"/>
                </a:solidFill>
                <a:latin typeface="Arial"/>
              </a:rPr>
              <a:t>JLL    TGA ope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088120" cy="6127920"/>
          </a:xfrm>
          <a:prstGeom prst="rect">
            <a:avLst/>
          </a:prstGeom>
          <a:ln w="57240">
            <a:solidFill>
              <a:srgbClr val="be51c1"/>
            </a:solidFill>
            <a:miter/>
          </a:ln>
        </p:spPr>
      </p:pic>
      <p:sp>
        <p:nvSpPr>
          <p:cNvPr id="315" name=""/>
          <p:cNvSpPr/>
          <p:nvPr/>
        </p:nvSpPr>
        <p:spPr>
          <a:xfrm rot="20729400">
            <a:off x="-282240" y="4530240"/>
            <a:ext cx="92379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99cc"/>
                </a:solidFill>
                <a:latin typeface="BrushScrD"/>
              </a:rPr>
              <a:t>Hacia donde queremos ir.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854680" cy="5079960"/>
          </a:xfrm>
          <a:prstGeom prst="rect">
            <a:avLst/>
          </a:prstGeom>
          <a:ln w="9360">
            <a:solidFill>
              <a:srgbClr val="be51c1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6301080" y="5516640"/>
            <a:ext cx="160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5400" spc="-1" strike="noStrike">
                <a:solidFill>
                  <a:srgbClr val="e5b8e6"/>
                </a:solidFill>
                <a:latin typeface="BrushScrD"/>
              </a:rPr>
              <a:t>Fin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-36360" y="-27000"/>
          <a:ext cx="9180360" cy="708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-27000"/>
                    <a:ext cx="918036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-471960" y="620640"/>
            <a:ext cx="1005624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b8e6"/>
                </a:solidFill>
                <a:latin typeface="Dauphin"/>
              </a:rPr>
              <a:t>Cardiopatías Congénitas Cian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5480" y="1447920"/>
            <a:ext cx="73573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99"/>
                </a:solidFill>
                <a:latin typeface="Dauphin"/>
              </a:rPr>
              <a:t>Que  es  la  Cianosi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971800"/>
            <a:ext cx="4670640" cy="2531880"/>
          </a:xfrm>
          <a:prstGeom prst="rect">
            <a:avLst/>
          </a:prstGeom>
          <a:noFill/>
          <a:ln w="9360">
            <a:solidFill>
              <a:srgbClr val="e5b8e6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3399"/>
                </a:solidFill>
                <a:latin typeface="Dauphin"/>
              </a:rPr>
              <a:t>CIANOSIS</a:t>
            </a:r>
            <a:r>
              <a:rPr b="1" lang="es-ES_tradnl" sz="4000" spc="-1" strike="noStrike">
                <a:solidFill>
                  <a:srgbClr val="009999"/>
                </a:solidFill>
                <a:latin typeface="Dauphin"/>
              </a:rPr>
              <a:t> </a:t>
            </a:r>
            <a:r>
              <a:rPr b="1" lang="es-ES_tradnl" sz="4000" spc="-1" strike="noStrike">
                <a:solidFill>
                  <a:srgbClr val="e5b8e6"/>
                </a:solidFill>
                <a:latin typeface="Dauphin"/>
              </a:rPr>
              <a:t>: es  la  coloración azulada  de  piel  y/o muc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81720" y="5867280"/>
            <a:ext cx="9190440" cy="642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+ de 5g de Hb  reducida en sangre ven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876240" y="2590920"/>
            <a:ext cx="2476440" cy="3124080"/>
          </a:xfrm>
          <a:prstGeom prst="rect">
            <a:avLst/>
          </a:prstGeom>
          <a:ln w="9360">
            <a:solidFill>
              <a:srgbClr val="cc99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92280" y="1905120"/>
            <a:ext cx="3270240" cy="3740040"/>
          </a:xfrm>
          <a:prstGeom prst="rect">
            <a:avLst/>
          </a:prstGeom>
          <a:ln w="76320">
            <a:solidFill>
              <a:srgbClr val="ffff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66" name=""/>
          <p:cNvSpPr/>
          <p:nvPr/>
        </p:nvSpPr>
        <p:spPr>
          <a:xfrm>
            <a:off x="-289440" y="762120"/>
            <a:ext cx="6389640" cy="703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99"/>
                </a:solidFill>
                <a:latin typeface="Dauphin"/>
              </a:rPr>
              <a:t>Cardiopatías Congéni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75160" y="2743200"/>
            <a:ext cx="5761440" cy="19227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99"/>
                </a:solidFill>
                <a:latin typeface="Dauphin"/>
              </a:rPr>
              <a:t>Porqué somo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99"/>
                </a:solidFill>
                <a:latin typeface="Dauphin"/>
              </a:rPr>
              <a:t>rosado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2560" y="5973840"/>
            <a:ext cx="8184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99"/>
                </a:solidFill>
                <a:latin typeface="Dauphin"/>
              </a:rPr>
              <a:t>Centro Cardiovascular Hospital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10640" y="6019920"/>
            <a:ext cx="77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5b8e6"/>
                </a:solidFill>
                <a:latin typeface="Dauphin"/>
              </a:rPr>
              <a:t>Centro Cardiovascular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Monotype Corsiva"/>
              </a:rPr>
              <a:t>15g Hb                   3.5g Hb reducida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17880" y="3867120"/>
          <a:ext cx="102708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7880" y="3867120"/>
                    <a:ext cx="1027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66960" y="2550960"/>
          <a:ext cx="5408640" cy="175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6960" y="2550960"/>
                    <a:ext cx="540864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2891880" y="2743200"/>
            <a:ext cx="358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Times New Roman"/>
              </a:rPr>
              <a:t>Extracción de O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6120" y="533520"/>
            <a:ext cx="58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b8e6"/>
                </a:solidFill>
                <a:latin typeface="Dauphin"/>
              </a:rPr>
              <a:t>Cardiopatías Congénit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6191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2117880" y="3867120"/>
          <a:ext cx="102708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17880" y="3867120"/>
                    <a:ext cx="10270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011240" y="2340000"/>
          <a:ext cx="2484360" cy="94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11240" y="2340000"/>
                    <a:ext cx="248436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80880" y="2000160"/>
            <a:ext cx="3124440" cy="2571840"/>
          </a:xfrm>
          <a:prstGeom prst="rect">
            <a:avLst/>
          </a:prstGeom>
          <a:ln w="76320">
            <a:solidFill>
              <a:srgbClr val="ff3399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83" name=""/>
          <p:cNvSpPr/>
          <p:nvPr/>
        </p:nvSpPr>
        <p:spPr>
          <a:xfrm>
            <a:off x="261720" y="468792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Dauphin"/>
              </a:rPr>
              <a:t>Piel y mucos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96960" y="4648320"/>
            <a:ext cx="58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Dauphin"/>
              </a:rPr>
              <a:t>Mucho flujo y poca ex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75600" y="144792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Dauphin"/>
              </a:rPr>
              <a:t>Porque  somos rosado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960" y="685800"/>
            <a:ext cx="51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5b8e6"/>
                </a:solidFill>
                <a:latin typeface="Dauphin"/>
              </a:rPr>
              <a:t>Cardiopatías Congén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780000" y="2133720"/>
            <a:ext cx="482436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28080" y="609588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Dauphin"/>
              </a:rPr>
              <a:t>Centro Cardiovascular Hosp. Luis Calvo Macke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8440" y="3803760"/>
            <a:ext cx="481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Hipoperfusión Tis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Hipoter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Sh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90920" y="3809880"/>
            <a:ext cx="45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Insaturación Ar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Cardí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66"/>
                </a:solidFill>
                <a:latin typeface="Dauphin"/>
              </a:rPr>
              <a:t>Pulmo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560" y="428760"/>
            <a:ext cx="83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Dauphin"/>
              </a:rPr>
              <a:t>Cardiopatías  Congénitas Cianó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12200" y="907920"/>
            <a:ext cx="62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cc99ff"/>
                </a:solidFill>
                <a:latin typeface="Dauphin"/>
              </a:rPr>
              <a:t>Fisiopatología de la Cia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3456000" cy="172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859280" y="1989000"/>
            <a:ext cx="352908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5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5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09800" y="314280"/>
            <a:ext cx="94482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b8e6"/>
                </a:solidFill>
                <a:latin typeface="Dauphin"/>
              </a:rPr>
              <a:t>Cardiopatías Congénitas Cianó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773360"/>
            <a:ext cx="5638680" cy="6426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99"/>
                </a:solidFill>
                <a:latin typeface="Dauphin"/>
              </a:rPr>
              <a:t>Porque  somos  rosado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676520"/>
            <a:ext cx="3429000" cy="4190760"/>
          </a:xfrm>
          <a:prstGeom prst="rect">
            <a:avLst/>
          </a:prstGeom>
          <a:solidFill>
            <a:srgbClr val="000000"/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2700360" cy="335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25960" y="2844720"/>
            <a:ext cx="6082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Oxige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Débito Adecu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Distribución del Déb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Ausencia de Shunts D-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  </a:t>
            </a:r>
            <a:r>
              <a:rPr b="0" lang="es-ES_tradnl" sz="3600" spc="-1" strike="noStrike">
                <a:solidFill>
                  <a:srgbClr val="ffff99"/>
                </a:solidFill>
                <a:latin typeface="Dauphin"/>
              </a:rPr>
              <a:t>cardíacos y/o pulmon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23:11:38Z</dcterms:created>
  <dc:creator> Monica</dc:creator>
  <dc:description/>
  <dc:language>en-US</dc:language>
  <cp:lastModifiedBy> Monica</cp:lastModifiedBy>
  <dcterms:modified xsi:type="dcterms:W3CDTF">2006-05-25T17:03:35Z</dcterms:modified>
  <cp:revision>15</cp:revision>
  <dc:subject/>
  <dc:title>Diapositiva 1</dc:title>
</cp:coreProperties>
</file>