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5.wmf" ContentType="image/x-wmf"/>
  <Override PartName="/ppt/media/image6.jpeg" ContentType="image/jpeg"/>
  <Override PartName="/ppt/media/image8.wmf" ContentType="image/x-wmf"/>
  <Override PartName="/ppt/media/image10.jpeg" ContentType="image/jpe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3335-967A-4A49-B148-9C30A49F8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odos los estudios demuestran que los niños paran una parte importante del tiempo viendo televisión y que dedican muy poco tiempo a los juegos activos, que implican un mayor gasto de energí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a información de la JUNAEB, obtenida en niños de primero básico muestra la misma tendencia, con una baja prevalencia y decreciente de déficit nutricional y una alta prevalencia y creciente de obesida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l sobrepeso y obesidad compromete a más del 30% de los preescolares,  cifra que bordea el 40% en algunos estudios específicos. Estudios prospectivos demuestran que la incidencia anual de sobrepeso, supera el 15% en preescolares normales y que una proporción similar de niños con sobrepeso evoluciona a obes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A2CD-AE87-4E49-AB91-FEDFBFE2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A6D2-0847-4929-ABBF-58DCC907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1EB-D92B-428A-B27B-2660A01F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9AFD-6464-4076-AD51-763B7062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079-D897-4D96-9319-B19A8530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92BF-1181-4190-A51B-AA63B993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071-0C7D-4329-94D8-60E2936E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1AF6-DA5E-42DF-813D-EC66DD0E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E1F4-D4A3-4F04-9A70-F1D9C5AD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3E2-308D-4800-9AA3-539F6CB8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622A-1964-4101-B9F0-65F988CE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98F9-078D-44F6-AB8F-2C4B49FC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DEA4-A220-4020-908C-0359E6E74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OBESIDAD INFANT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ra. Ximena Raimann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trición inf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spital Luis Calvo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an13" descr=""/>
          <p:cNvPicPr/>
          <p:nvPr/>
        </p:nvPicPr>
        <p:blipFill>
          <a:blip r:embed="rId1"/>
          <a:stretch/>
        </p:blipFill>
        <p:spPr>
          <a:xfrm>
            <a:off x="1839960" y="1676520"/>
            <a:ext cx="54640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10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Indicadores para evaluar estado nutricio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10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ón peso para la talla: se asocia más al área mus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dice de masa corporal (IMC): peso/talla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Se correlaciona bien con la masa gra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liegues cutáneos: se correlaciona bien con la masa grasa. Requiere instrumento especial (calip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erímetro braqu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3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Indicadores antropométricos y puntos de corte usados en Chi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52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) En &lt; 6 años se usa P/T, según 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tablas NCHS/OM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 1 DE 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SOBRE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 2 DE 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OB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) En &gt; 6 años se usa IMC (kg/m2)  (CDC/NCH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 p85 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SOBRE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 p95 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OB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www.cdc.gov/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ha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2057400"/>
            <a:ext cx="3962520" cy="34290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2057400"/>
            <a:ext cx="4038480" cy="34290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untos de cor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45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9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fica niños con alta probabilidad de persistencia de obesidad en la adult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adolescentes mayores se ha asociado con PA elevada y perfiles lipídicos que aumentan el riesgo de enfermedades y muertes relacionadas con la obes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85-95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be ser evaluado cuidadosamente con particular atención a las complicaciones secundarias de la ob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grado de cambio de IMC que indica riesgo aún no ha sido definido, pero un aumento de 3 a 4 puntos al año reflejaría un rápido aumento de grasa corporal en la mayoría de los ni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33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¿Por qué se produce la obesid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6629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or un desbalance entre ingesta y gasto energético, en favor de la prime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la ingesta energética excede el gasto en 1% diario, resulta en la ganancia de 1 kg de tejido adiposo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Interaccionan facto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Gené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Bi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sic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ociocul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391520" y="152280"/>
            <a:ext cx="160020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-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Condiciones genéticas: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Obesidad en gemelos criados jun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o separad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Obesidad familiar: fuerte interacción genética y ambiental que influye en el grado de adiposida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i un padre es obeso: OR 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i padre y madre son obesos: OR &gt;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ntes de los 3 años, la obesidad de los padres, es un predictor de obesidad en la adultez más fuerte que el peso del ni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images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90512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37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324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Factores ambiental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brealimentación(desde la lactanci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inicio temprano de lactancia arti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introducción precoz de sól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ábitos (preferencia por alimentos ricos en grasas y azúcares refinado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rarios(comidas a des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ferencias alimentar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 los padr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nor activ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ivel socio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65834" descr=""/>
          <p:cNvPicPr/>
          <p:nvPr/>
        </p:nvPicPr>
        <p:blipFill>
          <a:blip r:embed="rId1"/>
          <a:stretch/>
        </p:blipFill>
        <p:spPr>
          <a:xfrm>
            <a:off x="6095880" y="4248000"/>
            <a:ext cx="27925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Comic Sans MS"/>
              </a:rPr>
              <a:t>Tiempo que los escolares de 5º a 8º básico ven TV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09480" y="1676520"/>
          <a:ext cx="777240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77240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33520" y="61722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Fuente: Olivares S y cols, Rev Chil Nutr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valuación clín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8183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amn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edad de inicio del sobre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hábitos del paciente y su 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valuación diet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valuación de activ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tecedentes famili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amen fís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eso, t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liegues cutáne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estrías, acantosis nigricans, PA, desarrollo pub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signos sugerentes de obesidad secundaria (dismorfias, retraso mental, talla ba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Complicaciones de la obe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Cardiovascul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Hipertensión ar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Hipercolesterol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Endocrin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Hiperinsuli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Insulino-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M tipo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Irregularidades menstr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OBES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40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finición: aumento generalizado del tejido graso, que altera la salud del individuo y lo pone en riesgo de desarrollar una enfermedad cró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 la enfermedad nutricional más prevalente en niños de países industrializ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Psicológ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Baja autoes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e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T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Ortopéd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pifisiolisis de la cabeza fem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fermedad de Blount (tibia va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Pulmon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pnea obstru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Diges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steatosis hep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leliti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onsecuencia más importante a largo plazo de la obesidad infantil es su persistencia en la adult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abilidad de persistencia  en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dulte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25% a los 4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80% en la adolesc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importante la PREVENCION, ya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estudios en reducción de p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n que el 80-90% de los ni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tornan a su percentil de peso orig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0880"/>
            <a:ext cx="7924680" cy="182880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tapa" descr=""/>
          <p:cNvPicPr/>
          <p:nvPr/>
        </p:nvPicPr>
        <p:blipFill>
          <a:blip r:embed="rId1"/>
          <a:stretch/>
        </p:blipFill>
        <p:spPr>
          <a:xfrm>
            <a:off x="6477120" y="22096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trategias para prevenir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 la obes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793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ficar y seguir pa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riesgo (en base a historia famili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cular IMC 1 vez al año en todos los niños y adolesc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ular lactancia ma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ular a la familia a que promuevan hábitos alimentarios saludables ( ej:colaciones: frutas, vegetales y productos lácteos bajos en gra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mover la activ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r horas de TV y video a 1-2 hrs a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frutas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ratamien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83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¿Por qué es tan difícil?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orque necesi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)  apoyo integral ( médic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utricionista, sicólog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)  integración  de la famil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)  cambio de estilo de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)  tiempo y pa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0120" y="685800"/>
            <a:ext cx="1154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Manejo de la obesida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tricción calórica que no comprometa el crecimiento en ta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debe fortalecer la autoestima y ayudar a establecer expectativas realistas respecto a la figura corpo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¡Ojo! con el riesgo de la promoción inadvertida de un trastorno de la conducta aliment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3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Plan de alimentació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porte energético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querimientos calóricos para peso ideal para la ta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minución de ingesta en 500-700 kcal/día (ingesta total &gt; 1000cal/día)           disminución de 0,5 kg/sem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4 comidas y 1-2 col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ieta debe ser nutricionalmente balance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40384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vegetales" descr=""/>
          <p:cNvPicPr/>
          <p:nvPr/>
        </p:nvPicPr>
        <p:blipFill>
          <a:blip r:embed="rId1"/>
          <a:stretch/>
        </p:blipFill>
        <p:spPr>
          <a:xfrm>
            <a:off x="6019920" y="2438280"/>
            <a:ext cx="267480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iario: 30-40 minutos al día: caminar, andar en bicicleta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i se hace un deporte (fútbol, básquetbol, etc), debe ser al menos 3 veces a la sem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caricatura%20deportes" descr=""/>
          <p:cNvPicPr/>
          <p:nvPr/>
        </p:nvPicPr>
        <p:blipFill>
          <a:blip r:embed="rId1"/>
          <a:stretch/>
        </p:blipFill>
        <p:spPr>
          <a:xfrm>
            <a:off x="4648320" y="2092320"/>
            <a:ext cx="38098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Comic Sans MS"/>
              </a:rPr>
              <a:t>Es todo..., por aho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geddes120b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80060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3151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67816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Sobrepeso y obes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23% de menores de 6 años en SN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35% de preescolares en JUN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31% de escolares de 1º Año Básico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 (JUNAEB). 2004: </a:t>
            </a:r>
            <a:r>
              <a:rPr b="0" lang="es-MX" sz="2800" spc="-1" strike="noStrike">
                <a:solidFill>
                  <a:srgbClr val="ff3300"/>
                </a:solidFill>
                <a:latin typeface="Comic Sans MS"/>
              </a:rPr>
              <a:t>17,3% ob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33% de escolares púb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548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Situación nutricional niños 2 años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Años    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Ri desn.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      Desnut.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 SP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4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6.1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.4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7.4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8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5.5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.1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6.1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03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5.3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0.9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15.9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5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Situación nutricional niños 2-5 años (%)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4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2.0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0.4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4.9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5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8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.8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0.4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4.8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7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03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2.2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0.4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15.3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98560" y="5985000"/>
            <a:ext cx="21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IS MIN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2819520"/>
            <a:ext cx="32004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5181480"/>
            <a:ext cx="28195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391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Situación nutricional pre-púberes (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Años         &lt;p10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p10-84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p85-94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&gt;p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86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.3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75.3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.5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5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1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2.3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72.7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5.0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4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3.2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66.5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16.5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13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Situación nutricional púberes (%)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86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0.0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74.9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0.3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4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1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3.0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68.9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5.3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2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4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4.0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62.3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12.8</a:t>
            </a:r>
            <a:r>
              <a:rPr b="0" lang="es-ES_tradnl" sz="3200" spc="-1" strike="noStrike">
                <a:solidFill>
                  <a:srgbClr val="80808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16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6024600"/>
            <a:ext cx="51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uzzo, Cordero, Burrows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2590920"/>
            <a:ext cx="32004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4876920"/>
            <a:ext cx="3124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6782040" cy="5062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06440" y="2286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Comic Sans MS"/>
              </a:rPr>
              <a:t>Tendencia del estado nutricional en escolares de primero básico 1993-2002</a:t>
            </a:r>
            <a:r>
              <a:rPr b="0" lang="es-ES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Comic Sans MS"/>
              </a:rPr>
              <a:t>Percepción de Obes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ercepción de madres, respecto del estado nutritivo de su hijo(a) obe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6,6% lo considera como de peso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7,5% lo encuentra un poco excedido de 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5,9% muy excedido de pe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98,4% cree que es más sano un niño de peso normal y estima que la obesidad puede traer consecuencias negativas para la salud; solo el 1,6% considera que es más sano un niño obe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74600" y="6019920"/>
            <a:ext cx="806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arcela Díaz P. Rev. chil. pediatr. v.71 n.4 Santiago, jul.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457200"/>
            <a:ext cx="5639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¿Cuando diremos que un niño esta sobrepeso y obeso?</a:t>
            </a:r>
            <a:br>
              <a:rPr sz="3600"/>
            </a:b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¿Que parámetro vamos a ocupa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236232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iagnóstico de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 obes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la práctica clínica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ESO CORPORAL, que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cuentra sobre un punto de corte, que se puede expresar en porcentaje, desviación estándar o percentiles (según indicador usado), de acuerdo a un estándar de referencia por sexo y 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 Peso/Talla, Indice de masa corporal (IMC) y los pliegues cutáneos son los que se usan en la práctica clínica.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20574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bascula" descr=""/>
          <p:cNvPicPr/>
          <p:nvPr/>
        </p:nvPicPr>
        <p:blipFill>
          <a:blip r:embed="rId1"/>
          <a:stretch/>
        </p:blipFill>
        <p:spPr>
          <a:xfrm>
            <a:off x="5334120" y="152280"/>
            <a:ext cx="340344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07:45Z</dcterms:created>
  <dc:creator>Crstian</dc:creator>
  <dc:description/>
  <dc:language>en-US</dc:language>
  <cp:lastModifiedBy>Ximena Raimann</cp:lastModifiedBy>
  <dcterms:modified xsi:type="dcterms:W3CDTF">2006-03-27T13:07:27Z</dcterms:modified>
  <cp:revision>27</cp:revision>
  <dc:subject/>
  <dc:title>OBESIDAD INFANTIL</dc:title>
</cp:coreProperties>
</file>