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33DC-539D-4C65-B11C-735133523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D4E2-F3BA-4FE1-A31C-E5DA9DD04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C670-B3A6-4F9E-866E-BE6456E78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E188-EC56-4527-A2D8-152104162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D5F5-D063-476A-A5E2-A6972761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5429-B017-4FDD-BCAF-0E5D69CF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3D07-A7A6-4590-8578-DED8C2F8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1567-3FE3-426C-B795-CFE313BE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68E0-0C0B-4293-80AF-408AEC728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28A7-A6C8-4C03-ABCC-036C9D35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B1EA-4E22-41EB-A497-A416061ED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55F1-C3CB-49D5-AAF3-DB124538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9F06-BB4E-4272-B106-0D1399CF0368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723960" y="-328680"/>
            <a:ext cx="10591920" cy="75153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38080" y="3276720"/>
            <a:ext cx="7391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omic Sans MS"/>
              </a:rPr>
              <a:t>Alimentación del lactante, preescolar y esco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49280" y="4952880"/>
            <a:ext cx="518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ra Ximena Raimann Tamp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utrición infan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spital Luis Calvo Macken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222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304920"/>
            <a:ext cx="883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quivalencias en medidas prácticas de los alimentos usados en las fórmulas lácteas infanti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600200" y="762120"/>
            <a:ext cx="5073480" cy="5217840"/>
            <a:chOff x="1600200" y="762120"/>
            <a:chExt cx="5073480" cy="5217840"/>
          </a:xfrm>
        </p:grpSpPr>
        <p:grpSp>
          <p:nvGrpSpPr>
            <p:cNvPr id="194" name=""/>
            <p:cNvGrpSpPr/>
            <p:nvPr/>
          </p:nvGrpSpPr>
          <p:grpSpPr>
            <a:xfrm>
              <a:off x="1604880" y="766440"/>
              <a:ext cx="5064120" cy="5208120"/>
              <a:chOff x="1604880" y="766440"/>
              <a:chExt cx="5064120" cy="5208120"/>
            </a:xfrm>
          </p:grpSpPr>
          <p:grpSp>
            <p:nvGrpSpPr>
              <p:cNvPr id="195" name=""/>
              <p:cNvGrpSpPr/>
              <p:nvPr/>
            </p:nvGrpSpPr>
            <p:grpSpPr>
              <a:xfrm>
                <a:off x="1604880" y="766440"/>
                <a:ext cx="1644480" cy="821880"/>
                <a:chOff x="1604880" y="766440"/>
                <a:chExt cx="1644480" cy="82188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1673280" y="766440"/>
                  <a:ext cx="150804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1604880" y="766440"/>
                  <a:ext cx="164448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3249360" y="766440"/>
                <a:ext cx="1127160" cy="821880"/>
                <a:chOff x="3249360" y="766440"/>
                <a:chExt cx="1127160" cy="8218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3317760" y="766440"/>
                  <a:ext cx="99072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249360" y="766440"/>
                  <a:ext cx="112716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4376520" y="766440"/>
                <a:ext cx="1146240" cy="821880"/>
                <a:chOff x="4376520" y="766440"/>
                <a:chExt cx="1146240" cy="82188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4444920" y="766440"/>
                  <a:ext cx="100980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edida</a:t>
                  </a:r>
                  <a:r>
                    <a:rPr b="1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376520" y="766440"/>
                  <a:ext cx="114624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5522760" y="766440"/>
                <a:ext cx="1146240" cy="821880"/>
                <a:chOff x="5522760" y="766440"/>
                <a:chExt cx="1146240" cy="82188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5591160" y="766440"/>
                  <a:ext cx="100944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uchara</a:t>
                  </a:r>
                  <a:r>
                    <a:rPr b="1" lang="es-E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ita de té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522760" y="766440"/>
                  <a:ext cx="114624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1604880" y="1588320"/>
                <a:ext cx="1644480" cy="1004760"/>
                <a:chOff x="1604880" y="1588320"/>
                <a:chExt cx="1644480" cy="100476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1673280" y="1588320"/>
                  <a:ext cx="15080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he en polvo no instántane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 Purita Cerea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1604880" y="1588320"/>
                  <a:ext cx="164448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3249360" y="1588320"/>
                <a:ext cx="1127160" cy="1004760"/>
                <a:chOff x="3249360" y="1588320"/>
                <a:chExt cx="1127160" cy="10047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3317760" y="1588320"/>
                  <a:ext cx="99072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249360" y="1588320"/>
                  <a:ext cx="11271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4376520" y="1588320"/>
                <a:ext cx="1146240" cy="1004760"/>
                <a:chOff x="4376520" y="1588320"/>
                <a:chExt cx="1146240" cy="100476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4444920" y="1588320"/>
                  <a:ext cx="10098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376520" y="1588320"/>
                  <a:ext cx="114624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5522760" y="1588320"/>
                <a:ext cx="1146240" cy="1004760"/>
                <a:chOff x="5522760" y="1588320"/>
                <a:chExt cx="1146240" cy="100476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5591160" y="1588320"/>
                  <a:ext cx="10094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522760" y="1588320"/>
                  <a:ext cx="114624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1604880" y="2593440"/>
                <a:ext cx="1644480" cy="821880"/>
                <a:chOff x="1604880" y="2593440"/>
                <a:chExt cx="1644480" cy="82188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1673280" y="2593440"/>
                  <a:ext cx="150804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he en polvo instantáne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1604880" y="2593440"/>
                  <a:ext cx="164448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3249360" y="2593440"/>
                <a:ext cx="1127160" cy="821880"/>
                <a:chOff x="3249360" y="2593440"/>
                <a:chExt cx="1127160" cy="82188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3317760" y="2593440"/>
                  <a:ext cx="99072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3249360" y="2593440"/>
                  <a:ext cx="112716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4376520" y="2593440"/>
                <a:ext cx="1146240" cy="821880"/>
                <a:chOff x="4376520" y="2593440"/>
                <a:chExt cx="1146240" cy="82188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4444920" y="2593440"/>
                  <a:ext cx="100980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4376520" y="2593440"/>
                  <a:ext cx="114624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522760" y="2593440"/>
                <a:ext cx="1146240" cy="821880"/>
                <a:chOff x="5522760" y="2593440"/>
                <a:chExt cx="1146240" cy="82188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591160" y="2593440"/>
                  <a:ext cx="1009440" cy="82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522760" y="2593440"/>
                  <a:ext cx="1146240" cy="82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1604880" y="3415680"/>
                <a:ext cx="1644480" cy="639360"/>
                <a:chOff x="1604880" y="3415680"/>
                <a:chExt cx="1644480" cy="63936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1673280" y="3415680"/>
                  <a:ext cx="150804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ltosa dextrina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1604880" y="3415680"/>
                  <a:ext cx="16444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3249360" y="3415680"/>
                <a:ext cx="1127160" cy="639360"/>
                <a:chOff x="3249360" y="3415680"/>
                <a:chExt cx="1127160" cy="63936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3317760" y="3415680"/>
                  <a:ext cx="99072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3249360" y="3415680"/>
                  <a:ext cx="112716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4376520" y="3415680"/>
                <a:ext cx="1146240" cy="639360"/>
                <a:chOff x="4376520" y="3415680"/>
                <a:chExt cx="1146240" cy="63936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4444920" y="3415680"/>
                  <a:ext cx="100980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376520" y="3415680"/>
                  <a:ext cx="114624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5522760" y="3415680"/>
                <a:ext cx="1146240" cy="639360"/>
                <a:chOff x="5522760" y="3415680"/>
                <a:chExt cx="1146240" cy="63936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5591160" y="3415680"/>
                  <a:ext cx="100944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522760" y="3415680"/>
                  <a:ext cx="114624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1604880" y="4055400"/>
                <a:ext cx="1644480" cy="639360"/>
                <a:chOff x="1604880" y="4055400"/>
                <a:chExt cx="1644480" cy="63936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1673280" y="4055400"/>
                  <a:ext cx="150804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zúca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1604880" y="4055400"/>
                  <a:ext cx="16444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3249360" y="4055400"/>
                <a:ext cx="1127160" cy="639360"/>
                <a:chOff x="3249360" y="4055400"/>
                <a:chExt cx="1127160" cy="6393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3317760" y="4055400"/>
                  <a:ext cx="99072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49360" y="4055400"/>
                  <a:ext cx="112716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4376520" y="4055400"/>
                <a:ext cx="1146240" cy="639360"/>
                <a:chOff x="4376520" y="4055400"/>
                <a:chExt cx="1146240" cy="6393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4444920" y="4055400"/>
                  <a:ext cx="100980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376520" y="4055400"/>
                  <a:ext cx="114624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5522760" y="4055400"/>
                <a:ext cx="1146240" cy="639360"/>
                <a:chOff x="5522760" y="4055400"/>
                <a:chExt cx="1146240" cy="63936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5591160" y="4055400"/>
                  <a:ext cx="100944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522760" y="4055400"/>
                  <a:ext cx="114624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604880" y="4695120"/>
                <a:ext cx="1644480" cy="639360"/>
                <a:chOff x="1604880" y="4695120"/>
                <a:chExt cx="1644480" cy="63936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673280" y="4695120"/>
                  <a:ext cx="150804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ereal precocido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1604880" y="4695120"/>
                  <a:ext cx="164448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3249360" y="4695120"/>
                <a:ext cx="1127160" cy="639360"/>
                <a:chOff x="3249360" y="4695120"/>
                <a:chExt cx="1127160" cy="63936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3317760" y="4695120"/>
                  <a:ext cx="99072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 - 3</a:t>
                  </a:r>
                  <a:r>
                    <a:rPr b="0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49360" y="4695120"/>
                  <a:ext cx="112716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4376520" y="4695120"/>
                <a:ext cx="1146240" cy="639360"/>
                <a:chOff x="4376520" y="4695120"/>
                <a:chExt cx="1146240" cy="63936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4444920" y="4695120"/>
                  <a:ext cx="100980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376520" y="4695120"/>
                  <a:ext cx="114624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5522760" y="4695120"/>
                <a:ext cx="1146240" cy="639360"/>
                <a:chOff x="5522760" y="4695120"/>
                <a:chExt cx="1146240" cy="6393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5591160" y="4695120"/>
                  <a:ext cx="1009440" cy="63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522760" y="4695120"/>
                  <a:ext cx="1146240" cy="639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1604880" y="5334840"/>
                <a:ext cx="1644480" cy="639720"/>
                <a:chOff x="1604880" y="5334840"/>
                <a:chExt cx="1644480" cy="6397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1673280" y="5334840"/>
                  <a:ext cx="15080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eit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1604880" y="5334840"/>
                  <a:ext cx="16444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3249360" y="5334840"/>
                <a:ext cx="1127160" cy="639720"/>
                <a:chOff x="3249360" y="5334840"/>
                <a:chExt cx="1127160" cy="6397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317760" y="5334840"/>
                  <a:ext cx="990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 m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49360" y="5334840"/>
                  <a:ext cx="1127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376520" y="5334840"/>
                <a:ext cx="1146240" cy="639720"/>
                <a:chOff x="4376520" y="5334840"/>
                <a:chExt cx="1146240" cy="63972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444920" y="533484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376520" y="533484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5522760" y="5334840"/>
                <a:ext cx="1146240" cy="639720"/>
                <a:chOff x="5522760" y="5334840"/>
                <a:chExt cx="1146240" cy="6397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591160" y="5334840"/>
                  <a:ext cx="1009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522760" y="533484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9" name=""/>
            <p:cNvSpPr/>
            <p:nvPr/>
          </p:nvSpPr>
          <p:spPr>
            <a:xfrm>
              <a:off x="1600200" y="762120"/>
              <a:ext cx="5073480" cy="5217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1600200" y="5853240"/>
            <a:ext cx="754704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ida la medida como aquella que hace 5 g de leche en polvo no instantán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eal arroz 2 g y otro cereal 3 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444680" y="380880"/>
            <a:ext cx="76993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NewRoman,Bold"/>
                <a:ea typeface="Times New Roman"/>
              </a:rPr>
              <a:t>Preparación del Puré Mixto</a:t>
            </a:r>
            <a:r>
              <a:rPr b="1" lang="es-ES" sz="1800" spc="-1" strike="noStrike">
                <a:solidFill>
                  <a:srgbClr val="000000"/>
                </a:solidFill>
                <a:latin typeface="TimesNewRoman,Bold"/>
                <a:ea typeface="Times New Roman"/>
              </a:rPr>
              <a:t> y</a:t>
            </a:r>
            <a:r>
              <a:rPr b="1" lang="en-US" sz="1800" spc="-1" strike="noStrike">
                <a:solidFill>
                  <a:srgbClr val="000000"/>
                </a:solidFill>
                <a:latin typeface="TimesNewRoman,Bold"/>
                <a:ea typeface="Times New Roman"/>
              </a:rPr>
              <a:t> Puré de Legumino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1447920" y="1219320"/>
            <a:ext cx="6197040" cy="5181120"/>
            <a:chOff x="1447920" y="1219320"/>
            <a:chExt cx="6197040" cy="5181120"/>
          </a:xfrm>
        </p:grpSpPr>
        <p:grpSp>
          <p:nvGrpSpPr>
            <p:cNvPr id="283" name=""/>
            <p:cNvGrpSpPr/>
            <p:nvPr/>
          </p:nvGrpSpPr>
          <p:grpSpPr>
            <a:xfrm>
              <a:off x="1452600" y="1224360"/>
              <a:ext cx="6186600" cy="5169240"/>
              <a:chOff x="1452600" y="1224360"/>
              <a:chExt cx="6186600" cy="5169240"/>
            </a:xfrm>
          </p:grpSpPr>
          <p:grpSp>
            <p:nvGrpSpPr>
              <p:cNvPr id="284" name=""/>
              <p:cNvGrpSpPr/>
              <p:nvPr/>
            </p:nvGrpSpPr>
            <p:grpSpPr>
              <a:xfrm>
                <a:off x="1452600" y="1224360"/>
                <a:ext cx="1258560" cy="709560"/>
                <a:chOff x="1452600" y="1224360"/>
                <a:chExt cx="1258560" cy="70956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1498320" y="1224360"/>
                  <a:ext cx="1166760" cy="70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1452600" y="1224360"/>
                  <a:ext cx="1258560" cy="70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2711520" y="1224360"/>
                <a:ext cx="1331280" cy="709560"/>
                <a:chOff x="2711520" y="1224360"/>
                <a:chExt cx="1331280" cy="70956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2757600" y="1224360"/>
                  <a:ext cx="1239120" cy="70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ntida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711520" y="1224360"/>
                  <a:ext cx="1331280" cy="70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4043520" y="1224360"/>
                <a:ext cx="3595680" cy="709560"/>
                <a:chOff x="4043520" y="1224360"/>
                <a:chExt cx="3595680" cy="70956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4089600" y="1224360"/>
                  <a:ext cx="3503520" cy="70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eparación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043520" y="1224360"/>
                  <a:ext cx="3595680" cy="709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1452600" y="1934280"/>
                <a:ext cx="1258560" cy="3141720"/>
                <a:chOff x="1452600" y="1934280"/>
                <a:chExt cx="1258560" cy="31417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1498320" y="1934280"/>
                  <a:ext cx="1166760" cy="314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ré Mixto</a:t>
                  </a:r>
                  <a:r>
                    <a:rPr b="0" lang="en-US" sz="16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1452600" y="1934280"/>
                  <a:ext cx="1258560" cy="314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2711520" y="1934280"/>
                <a:ext cx="1331280" cy="3141720"/>
                <a:chOff x="2711520" y="1934280"/>
                <a:chExt cx="1331280" cy="314172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2757600" y="1934280"/>
                  <a:ext cx="1239120" cy="314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¾ a 1 taza (200 g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711520" y="1934280"/>
                  <a:ext cx="1331280" cy="314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4043520" y="1934280"/>
                <a:ext cx="3595680" cy="3141720"/>
                <a:chOff x="4043520" y="1934280"/>
                <a:chExt cx="3595680" cy="314172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4089600" y="1934280"/>
                  <a:ext cx="3503520" cy="314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elga o espinaca 15 g (1 hoja regular); zanahoria 25g (1/2 unidad chica);  zapallo 40g (1 trozo chico); fideos ó arroz ó sémola 10g (1 cucharadas soperas); papa 50 g (1 unidad del tamaño de un huevo); carne 20g  (1 cucharada sopera de pollo, pavo sin piel o posta); aceite 1 ½ cucharadita de te (5 mL). Debe licuarse hasta lograr una consistencia de papilla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menzar con una cucharada de puré de verduras e ir aumentando  progresivamente hasta alcanzar  los ¾ a 1 taza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carne puede reemplazarse por 20 g (1 cucharada sopera) de pescado sin  espinas los 10 meses ó ½ huevo  a partir del año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4043520" y="1934280"/>
                  <a:ext cx="3595680" cy="3141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1452600" y="5076360"/>
                <a:ext cx="1258560" cy="1317240"/>
                <a:chOff x="1452600" y="5076360"/>
                <a:chExt cx="1258560" cy="131724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1498320" y="5076360"/>
                  <a:ext cx="1166760" cy="13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ré de Legumino</a:t>
                  </a:r>
                  <a:r>
                    <a:rPr b="0" lang="es-E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a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1452600" y="5076360"/>
                  <a:ext cx="1258560" cy="131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2711520" y="5076360"/>
                <a:ext cx="1331280" cy="1317240"/>
                <a:chOff x="2711520" y="5076360"/>
                <a:chExt cx="1331280" cy="131724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2757600" y="5076360"/>
                  <a:ext cx="1239120" cy="13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¾ a 1 taza (200 g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2711520" y="5076360"/>
                  <a:ext cx="1331280" cy="131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4043520" y="5076360"/>
                <a:ext cx="3595680" cy="1317240"/>
                <a:chOff x="4043520" y="5076360"/>
                <a:chExt cx="3595680" cy="131724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4089600" y="5076360"/>
                  <a:ext cx="3503520" cy="1317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gumbres 3 cucharadas soperas crudas (1/2 taza cocidas equivalente a 70 g), 20 g de zapallo; 10 g de fideos (1 cucharada sopera de fideos crudos), aceite 1 cucharadita de te (2,5 a 3 mL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043520" y="5076360"/>
                  <a:ext cx="3595680" cy="1317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1" name=""/>
            <p:cNvSpPr/>
            <p:nvPr/>
          </p:nvSpPr>
          <p:spPr>
            <a:xfrm>
              <a:off x="1447920" y="1219320"/>
              <a:ext cx="6197040" cy="51811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Primera comida: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según estado nutricional se agrega el arroz o fide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Postre: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½ a 1 fruta  como puré (plátano, manzana, pera, durazno, damasco, pepino dul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Agua: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 ofrecer 20-50 ml 2 a 3 veces al día desde que se inicia la alimentación sól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457200" y="990720"/>
            <a:ext cx="8229600" cy="48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En caso de antecedente familiar de enfermedad celíaca se recomienda posponer la introducción de alimentos con gluten (fideos, sémola y cereales con trigo y avena) en 2-3 m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Comic Sans MS"/>
              </a:rPr>
              <a:t>Segunda comida: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iniciarla 2 meses después de la primera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Comic Sans MS"/>
              </a:rPr>
              <a:t>Legumbres: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iniciarlas a los 8 a 9 meses, pasadas por cedazo,     mezcladas con fideos o arroz, 1 a 2 veces a la seman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Comic Sans MS"/>
              </a:rPr>
              <a:t>Pescado: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introducirlo a los  9-10 me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Comic Sans MS"/>
              </a:rPr>
              <a:t>Huevo: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Comic Sans MS"/>
              </a:rPr>
              <a:t>9-10 meses ( si hay antecedentes de alergia, darlo después del añ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consistencia de la alimentación sólida debe ser totalmente molida hasta los 12 mes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ego se pueden incorporar algunos alimentos picados según la dentición. Esto va asociado a la salida de los primeros molares y al desarrollo de la masticación y deglució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808000"/>
                </a:solidFill>
                <a:latin typeface="Comic Sans MS"/>
              </a:rPr>
              <a:t>Suplementos: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Vitamina 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200 UI desde el mes hasta el año de vida, si están con LM o reciben menos de 500 ml/día de Fórmula de ini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Formas de administr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Oral fraccionada (ideal): 4-5 gotas diarias de los preparados comerci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Golpe vitamínico”: 2 dosis (al mes y 6 meses) de 100.000 UI c/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Hier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1-2 mg/kg/día en niños con LM o fórmulas no fortificadas, desde los 4 meses y hasta el añ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n prematuros o lactantes de bajo peso  comenzar a los 2 meses o cuando dupliquen el peso de nacimi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73240" y="-396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36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Comic Sans MS"/>
              </a:rPr>
              <a:t>12 a 24 me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2-3 mamade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almuerzo y com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- Se puede seguir con leches de continuación 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seguimiento, pero también se puede dar leche ente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leche Purita fortificada 10% con agregado de azúcar (2,5%) y cereal (3-5%) (Nestum, Blevi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- También se puede dar leche fluida, que trae má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materia grasa (32%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- Se recomienda suspender la mamadera noctur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después de los 18 meses para quedar con los 4 horarios definitivos.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volumen de leche debe completar un total de 400 a 500 mL/día, en caso que este volumen no se alcance debe agregarse otro producto lácteo en el día (queso, quesillo, yogurt, etc) que cubra los requerimientos de cal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recomienda incluir a diario frutas, verduras, cereales, aceite de origen vegetal crudo y un alimento proteico, como carnes, una porción de legumbres secas o un hue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s alimentos se pueden presentar separados en el plato para estimular la alimentación del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niñ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con la visión de diferentes colores y forma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rear el hábito de la ensalada desde los 12 meses, progresivamente (inicialmente tomate, betarraga,zanahoria cocida, palt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íquidos: preferir AGUA 200 ml/d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No dar colaciones ni alimentos fuera del horario de comidas princip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2209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0-6 meses:</a:t>
            </a:r>
            <a:endParaRPr b="0" lang="en-US" sz="2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40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Lactancia materna: único alimento capaz de satisfacer todas las necesidades nutricionales durante los primeros 6 meses de vida, sin requerir otros alimentos agreg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Debe ser libre deman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Comic Sans MS"/>
              </a:rPr>
              <a:t>Tiene beneficios para el niño, la madre y la famil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78487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    </a:t>
            </a:r>
            <a:r>
              <a:rPr b="1" lang="es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ctante de 3 meses de edad, sexo femenino, PN 3200 g, TN 52 cm, alimentado con fórmula láctea adaptada desde el nacimiento. Ahora pesa 6100 g y mide 58 c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) Indicar a la madre la preparación de las mamaderas (sólo cuenta con LPF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 ¿Le agregaría aceite a las mamaderas? ¿Por qué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)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ndique la alimentación, si contara con leche adaptada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4561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 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ctante de 9 meses de edad, sexo femenino, que pesa 7600 g y mide 73 cm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) ¿Cuántas mamaderas y cuántas comidas debería recibi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) ¿Cómo prepararía las mamader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Continuará.........................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(mañan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lies098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30272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08000"/>
                </a:solidFill>
                <a:latin typeface="Comic Sans MS"/>
              </a:rPr>
              <a:t>Beneficios para el niño: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Nutrición ópt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Fácil digesti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Mayor protección inmunológ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Mejor desarrollo intelec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Patrones afectivos-emocionales más adecu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Mejor desarrollo dento-maxilar y fa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Menos frecuencia de alerg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Menor riesgo de DM I, en niños con antecedentes de ella en familiares de primer gr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mic Sans MS"/>
              </a:rPr>
              <a:t>Menor riesgo de Obesidad en etapas posteriores de la v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08000"/>
                </a:solidFill>
                <a:latin typeface="Comic Sans MS"/>
              </a:rPr>
              <a:t>Beneficios para la madre: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Retracción del út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Recuperación de peso (disminución gra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Prevención cáncer de mama y ová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Fortalecimiento de la autoestima ma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stablecimiento del apego madre-hi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Menor costo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808000"/>
                </a:solidFill>
                <a:latin typeface="Comic Sans MS"/>
              </a:rPr>
              <a:t>Beneficios para la familia y sociedad: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Refuerzo de lazos afectivos famili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spaciamiento de los nac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Ahorro en alimentos y gastos en enferm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-2300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5331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Si no es posible la alimentación con leche materna o ésta es insuficiente, se puede us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1)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Fórmula adaptada o “de inicio”(NAN 1, Similac advance 1, S26 Gold, Blemil plus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2) Leche Purita fortificada. Esta debe darse diluida al 7,5%, para evitar la carga excesiva para el riñón de proteínas, calcio, fósforo y sodio. Se debe adicionar a la leche: azúcar al 2,5% (para aumentar las calorías) y aceite al 2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Fraccionamiento: cada 3 horas por 8 u 7 veces en los primeros 2 a 3 meses y progresivamente cambiar a cada 4 horas por 6 ó 5 veces hasta los 6 me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No ofrecer agua ni jugo de fru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mposición nutricional de fórmulas lácteas para lactantes </a:t>
            </a:r>
            <a:r>
              <a:rPr b="0" lang="es-E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enores de 6 meses</a:t>
            </a:r>
            <a:endParaRPr b="0" lang="en-US" sz="2800" spc="-1" strike="noStrike">
              <a:solidFill>
                <a:srgbClr val="808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23880" y="2057400"/>
            <a:ext cx="5943600" cy="3755880"/>
            <a:chOff x="1523880" y="2057400"/>
            <a:chExt cx="5943600" cy="3755880"/>
          </a:xfrm>
        </p:grpSpPr>
        <p:grpSp>
          <p:nvGrpSpPr>
            <p:cNvPr id="57" name=""/>
            <p:cNvGrpSpPr/>
            <p:nvPr/>
          </p:nvGrpSpPr>
          <p:grpSpPr>
            <a:xfrm>
              <a:off x="1528200" y="2062080"/>
              <a:ext cx="5933520" cy="3746520"/>
              <a:chOff x="1528200" y="2062080"/>
              <a:chExt cx="5933520" cy="374652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1528200" y="2062080"/>
                <a:ext cx="1882800" cy="822240"/>
                <a:chOff x="1528200" y="2062080"/>
                <a:chExt cx="1882800" cy="8222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1571040" y="2062080"/>
                  <a:ext cx="1796040" cy="822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NewRoman,Bold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528200" y="2062080"/>
                  <a:ext cx="1882800" cy="822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3411000" y="2062080"/>
                <a:ext cx="1594080" cy="822240"/>
                <a:chOff x="3411000" y="2062080"/>
                <a:chExt cx="1594080" cy="8222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3453840" y="2062080"/>
                  <a:ext cx="1507680" cy="822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3411000" y="2062080"/>
                  <a:ext cx="1594080" cy="822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5005080" y="2062080"/>
                <a:ext cx="1223640" cy="822240"/>
                <a:chOff x="5005080" y="2062080"/>
                <a:chExt cx="1223640" cy="82224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5048280" y="2062080"/>
                  <a:ext cx="1136880" cy="822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órmulas de inicio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-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5005080" y="2062080"/>
                  <a:ext cx="1223640" cy="822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6229080" y="2062080"/>
                <a:ext cx="1232640" cy="822240"/>
                <a:chOff x="6229080" y="2062080"/>
                <a:chExt cx="1232640" cy="82224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6271920" y="2062080"/>
                  <a:ext cx="1146240" cy="822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órmula con LPF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-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6229080" y="2062080"/>
                  <a:ext cx="1232640" cy="82224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1528200" y="2884320"/>
                <a:ext cx="1882800" cy="639720"/>
                <a:chOff x="1528200" y="2884320"/>
                <a:chExt cx="1882800" cy="63972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1571040" y="2884320"/>
                  <a:ext cx="179604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ergía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(Kcal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1528200" y="2884320"/>
                  <a:ext cx="188280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3411000" y="2884320"/>
                <a:ext cx="1594080" cy="639720"/>
                <a:chOff x="3411000" y="2884320"/>
                <a:chExt cx="1594080" cy="63972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3453840" y="2884320"/>
                  <a:ext cx="150768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411000" y="2884320"/>
                  <a:ext cx="159408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5005080" y="2884320"/>
                <a:ext cx="1223640" cy="639720"/>
                <a:chOff x="5005080" y="2884320"/>
                <a:chExt cx="1223640" cy="63972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5048280" y="2884320"/>
                  <a:ext cx="113688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7 - 7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005080" y="2884320"/>
                  <a:ext cx="122364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6229080" y="2884320"/>
                <a:ext cx="1232640" cy="639720"/>
                <a:chOff x="6229080" y="2884320"/>
                <a:chExt cx="1232640" cy="63972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6271920" y="2884320"/>
                  <a:ext cx="114624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6229080" y="2884320"/>
                  <a:ext cx="123264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1528200" y="3524040"/>
                <a:ext cx="1882800" cy="639720"/>
                <a:chOff x="1528200" y="3524040"/>
                <a:chExt cx="1882800" cy="6397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1571040" y="3524040"/>
                  <a:ext cx="179604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ínas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(g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1528200" y="3524040"/>
                  <a:ext cx="188280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3411000" y="3524040"/>
                <a:ext cx="1594080" cy="639720"/>
                <a:chOff x="3411000" y="3524040"/>
                <a:chExt cx="1594080" cy="63972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3453840" y="3524040"/>
                  <a:ext cx="150768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3411000" y="3524040"/>
                  <a:ext cx="159408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5005080" y="3524040"/>
                <a:ext cx="1223640" cy="639720"/>
                <a:chOff x="5005080" y="3524040"/>
                <a:chExt cx="1223640" cy="63972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5048280" y="3524040"/>
                  <a:ext cx="113688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2 - 1,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5005080" y="3524040"/>
                  <a:ext cx="122364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6229080" y="3524040"/>
                <a:ext cx="1232640" cy="639720"/>
                <a:chOff x="6229080" y="3524040"/>
                <a:chExt cx="1232640" cy="63972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6271920" y="3524040"/>
                  <a:ext cx="114624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6229080" y="3524040"/>
                  <a:ext cx="1232640" cy="63972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1528200" y="4163760"/>
                <a:ext cx="1882800" cy="640080"/>
                <a:chOff x="1528200" y="4163760"/>
                <a:chExt cx="1882800" cy="64008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1571040" y="4163760"/>
                  <a:ext cx="1796040" cy="640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ípidos 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g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1528200" y="4163760"/>
                  <a:ext cx="1882800" cy="640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"/>
              <p:cNvGrpSpPr/>
              <p:nvPr/>
            </p:nvGrpSpPr>
            <p:grpSpPr>
              <a:xfrm>
                <a:off x="3411000" y="4163760"/>
                <a:ext cx="1594080" cy="640080"/>
                <a:chOff x="3411000" y="4163760"/>
                <a:chExt cx="1594080" cy="64008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3453840" y="4163760"/>
                  <a:ext cx="1507680" cy="640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3411000" y="4163760"/>
                  <a:ext cx="1594080" cy="640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5005080" y="4163760"/>
                <a:ext cx="1223640" cy="640080"/>
                <a:chOff x="5005080" y="4163760"/>
                <a:chExt cx="1223640" cy="6400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5048280" y="4163760"/>
                  <a:ext cx="1136880" cy="640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6 - 3,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005080" y="4163760"/>
                  <a:ext cx="1223640" cy="640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"/>
              <p:cNvGrpSpPr/>
              <p:nvPr/>
            </p:nvGrpSpPr>
            <p:grpSpPr>
              <a:xfrm>
                <a:off x="6229080" y="4163760"/>
                <a:ext cx="1232640" cy="640080"/>
                <a:chOff x="6229080" y="4163760"/>
                <a:chExt cx="1232640" cy="64008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6271920" y="4163760"/>
                  <a:ext cx="1146240" cy="640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9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6229080" y="4163760"/>
                  <a:ext cx="1232640" cy="6400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"/>
              <p:cNvGrpSpPr/>
              <p:nvPr/>
            </p:nvGrpSpPr>
            <p:grpSpPr>
              <a:xfrm>
                <a:off x="1528200" y="4803840"/>
                <a:ext cx="1882800" cy="1004760"/>
                <a:chOff x="1528200" y="4803840"/>
                <a:chExt cx="1882800" cy="100476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1571040" y="4803840"/>
                  <a:ext cx="1796040" cy="1004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. grasos esenciale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. Linoleico (g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c. αLinolénico (mg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1528200" y="4803840"/>
                  <a:ext cx="1882800" cy="1004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3411000" y="4803840"/>
                <a:ext cx="1594080" cy="1004760"/>
                <a:chOff x="3411000" y="4803840"/>
                <a:chExt cx="1594080" cy="100476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3453840" y="4803840"/>
                  <a:ext cx="1507680" cy="1004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3411000" y="4803840"/>
                  <a:ext cx="1594080" cy="1004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"/>
              <p:cNvGrpSpPr/>
              <p:nvPr/>
            </p:nvGrpSpPr>
            <p:grpSpPr>
              <a:xfrm>
                <a:off x="5005080" y="4803840"/>
                <a:ext cx="1223640" cy="1004760"/>
                <a:chOff x="5005080" y="4803840"/>
                <a:chExt cx="1223640" cy="100476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5048280" y="4803840"/>
                  <a:ext cx="1136880" cy="1004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53 - 0,8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4 -8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5005080" y="4803840"/>
                  <a:ext cx="1223640" cy="1004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"/>
              <p:cNvGrpSpPr/>
              <p:nvPr/>
            </p:nvGrpSpPr>
            <p:grpSpPr>
              <a:xfrm>
                <a:off x="6229080" y="4803840"/>
                <a:ext cx="1232640" cy="1004760"/>
                <a:chOff x="6229080" y="4803840"/>
                <a:chExt cx="1232640" cy="1004760"/>
              </a:xfrm>
            </p:grpSpPr>
            <p:sp>
              <p:nvSpPr>
                <p:cNvPr id="116" name=""/>
                <p:cNvSpPr/>
                <p:nvPr/>
              </p:nvSpPr>
              <p:spPr>
                <a:xfrm>
                  <a:off x="6271920" y="4803840"/>
                  <a:ext cx="1146240" cy="1004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6229080" y="4803840"/>
                  <a:ext cx="1232640" cy="100476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8" name=""/>
            <p:cNvSpPr/>
            <p:nvPr/>
          </p:nvSpPr>
          <p:spPr>
            <a:xfrm>
              <a:off x="1523880" y="2057400"/>
              <a:ext cx="5943600" cy="3755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3396600" y="2390760"/>
            <a:ext cx="1518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che mater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371600" y="2057400"/>
            <a:ext cx="6113520" cy="3755880"/>
            <a:chOff x="1371600" y="2057400"/>
            <a:chExt cx="6113520" cy="3755880"/>
          </a:xfrm>
        </p:grpSpPr>
        <p:grpSp>
          <p:nvGrpSpPr>
            <p:cNvPr id="121" name=""/>
            <p:cNvGrpSpPr/>
            <p:nvPr/>
          </p:nvGrpSpPr>
          <p:grpSpPr>
            <a:xfrm>
              <a:off x="1376280" y="2062080"/>
              <a:ext cx="6103800" cy="3746520"/>
              <a:chOff x="1376280" y="2062080"/>
              <a:chExt cx="6103800" cy="374652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1376280" y="2062080"/>
                <a:ext cx="1936800" cy="822240"/>
                <a:chOff x="1376280" y="2062080"/>
                <a:chExt cx="1936800" cy="82224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1420560" y="2062080"/>
                  <a:ext cx="184788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NewRoman,Bold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376280" y="2062080"/>
                  <a:ext cx="193680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3313080" y="2062080"/>
                <a:ext cx="1639800" cy="822240"/>
                <a:chOff x="3313080" y="2062080"/>
                <a:chExt cx="1639800" cy="8222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3357360" y="2062080"/>
                  <a:ext cx="155124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3313080" y="2062080"/>
                  <a:ext cx="163980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4952880" y="2062080"/>
                <a:ext cx="1258920" cy="822240"/>
                <a:chOff x="4952880" y="2062080"/>
                <a:chExt cx="1258920" cy="82224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4997520" y="2062080"/>
                  <a:ext cx="11700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Fórmulas de inicio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952880" y="2062080"/>
                  <a:ext cx="125892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6211800" y="2062080"/>
                <a:ext cx="1268280" cy="822240"/>
                <a:chOff x="6211800" y="2062080"/>
                <a:chExt cx="1268280" cy="8222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6256080" y="2062080"/>
                  <a:ext cx="11797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Fórmul</a:t>
                  </a:r>
                  <a:r>
                    <a:rPr b="1" lang="es-E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</a:t>
                  </a: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 con LPF </a:t>
                  </a:r>
                  <a:r>
                    <a:rPr b="0" lang="es-ES" sz="1200" spc="-1" strike="noStrike" baseline="30000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y</a:t>
                  </a:r>
                  <a:r>
                    <a:rPr b="0" lang="es-ES" sz="12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 marav.(soya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6211800" y="2062080"/>
                  <a:ext cx="12682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1376280" y="2884320"/>
                <a:ext cx="1936800" cy="639720"/>
                <a:chOff x="1376280" y="2884320"/>
                <a:chExt cx="1936800" cy="63972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1420560" y="2884320"/>
                  <a:ext cx="1847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Energía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 (Kcal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1376280" y="2884320"/>
                  <a:ext cx="19368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3313080" y="2884320"/>
                <a:ext cx="1639800" cy="639720"/>
                <a:chOff x="3313080" y="2884320"/>
                <a:chExt cx="1639800" cy="63972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3357360" y="2884320"/>
                  <a:ext cx="15512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313080" y="2884320"/>
                  <a:ext cx="16398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4952880" y="2884320"/>
                <a:ext cx="1258920" cy="639720"/>
                <a:chOff x="4952880" y="2884320"/>
                <a:chExt cx="1258920" cy="63972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997520" y="2884320"/>
                  <a:ext cx="11700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7 - 7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952880" y="2884320"/>
                  <a:ext cx="1258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6211800" y="2884320"/>
                <a:ext cx="1268280" cy="639720"/>
                <a:chOff x="6211800" y="2884320"/>
                <a:chExt cx="1268280" cy="6397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6256080" y="2884320"/>
                  <a:ext cx="1179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211800" y="2884320"/>
                  <a:ext cx="1268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1376280" y="3524040"/>
                <a:ext cx="1936800" cy="639720"/>
                <a:chOff x="1376280" y="3524040"/>
                <a:chExt cx="1936800" cy="63972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1420560" y="3524040"/>
                  <a:ext cx="18478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Proteínas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 (g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376280" y="3524040"/>
                  <a:ext cx="19368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3313080" y="3524040"/>
                <a:ext cx="1639800" cy="639720"/>
                <a:chOff x="3313080" y="3524040"/>
                <a:chExt cx="1639800" cy="63972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3357360" y="3524040"/>
                  <a:ext cx="15512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313080" y="3524040"/>
                  <a:ext cx="16398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4952880" y="3524040"/>
                <a:ext cx="1258920" cy="639720"/>
                <a:chOff x="4952880" y="3524040"/>
                <a:chExt cx="1258920" cy="63972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4997520" y="3524040"/>
                  <a:ext cx="11700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2 - 1,</a:t>
                  </a:r>
                  <a:r>
                    <a:rPr b="0" lang="es-E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952880" y="3524040"/>
                  <a:ext cx="12589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6211800" y="3524040"/>
                <a:ext cx="1268280" cy="639720"/>
                <a:chOff x="6211800" y="3524040"/>
                <a:chExt cx="1268280" cy="63972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6256080" y="3524040"/>
                  <a:ext cx="1179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3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211800" y="3524040"/>
                  <a:ext cx="12682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1376280" y="4163760"/>
                <a:ext cx="1936800" cy="640080"/>
                <a:chOff x="1376280" y="4163760"/>
                <a:chExt cx="1936800" cy="64008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1420560" y="4163760"/>
                  <a:ext cx="184788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Lípidos 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(g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376280" y="4163760"/>
                  <a:ext cx="193680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3313080" y="4163760"/>
                <a:ext cx="1639800" cy="640080"/>
                <a:chOff x="3313080" y="4163760"/>
                <a:chExt cx="1639800" cy="64008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3357360" y="4163760"/>
                  <a:ext cx="155124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,2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3313080" y="4163760"/>
                  <a:ext cx="163980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4" name=""/>
              <p:cNvGrpSpPr/>
              <p:nvPr/>
            </p:nvGrpSpPr>
            <p:grpSpPr>
              <a:xfrm>
                <a:off x="4952880" y="4163760"/>
                <a:ext cx="1258920" cy="640080"/>
                <a:chOff x="4952880" y="4163760"/>
                <a:chExt cx="1258920" cy="64008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4997520" y="4163760"/>
                  <a:ext cx="11700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6 - 3,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4952880" y="4163760"/>
                  <a:ext cx="125892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6211800" y="4163760"/>
                <a:ext cx="1268280" cy="640080"/>
                <a:chOff x="6211800" y="4163760"/>
                <a:chExt cx="1268280" cy="64008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6256080" y="4163760"/>
                  <a:ext cx="11797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,9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6211800" y="4163760"/>
                  <a:ext cx="126828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1376280" y="4803840"/>
                <a:ext cx="1936800" cy="1004760"/>
                <a:chOff x="1376280" y="4803840"/>
                <a:chExt cx="1936800" cy="10047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1420560" y="4803840"/>
                  <a:ext cx="184788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c. grasos esencial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c. Linoleico (</a:t>
                  </a:r>
                  <a:r>
                    <a:rPr b="0" lang="es-E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m</a:t>
                  </a: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g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Comic Sans MS"/>
                      <a:ea typeface="Times New Roman"/>
                    </a:rPr>
                    <a:t>Ac. αLinolénico (mg)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1376280" y="4803840"/>
                  <a:ext cx="193680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3313080" y="4803840"/>
                <a:ext cx="1639800" cy="1004760"/>
                <a:chOff x="3313080" y="4803840"/>
                <a:chExt cx="1639800" cy="10047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3357360" y="4803840"/>
                  <a:ext cx="15512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3313080" y="4803840"/>
                  <a:ext cx="163980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" name=""/>
              <p:cNvGrpSpPr/>
              <p:nvPr/>
            </p:nvGrpSpPr>
            <p:grpSpPr>
              <a:xfrm>
                <a:off x="4952880" y="4803840"/>
                <a:ext cx="1258920" cy="1004760"/>
                <a:chOff x="4952880" y="4803840"/>
                <a:chExt cx="1258920" cy="1004760"/>
              </a:xfrm>
            </p:grpSpPr>
            <p:sp>
              <p:nvSpPr>
                <p:cNvPr id="177" name=""/>
                <p:cNvSpPr/>
                <p:nvPr/>
              </p:nvSpPr>
              <p:spPr>
                <a:xfrm>
                  <a:off x="4997520" y="4803840"/>
                  <a:ext cx="11700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30</a:t>
                  </a: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- </a:t>
                  </a:r>
                  <a:r>
                    <a:rPr b="0" lang="es-E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76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4 -8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952880" y="4803840"/>
                  <a:ext cx="125892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" name=""/>
              <p:cNvGrpSpPr/>
              <p:nvPr/>
            </p:nvGrpSpPr>
            <p:grpSpPr>
              <a:xfrm>
                <a:off x="6211800" y="4803840"/>
                <a:ext cx="1268280" cy="1004760"/>
                <a:chOff x="6211800" y="4803840"/>
                <a:chExt cx="1268280" cy="100476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6256080" y="4803840"/>
                  <a:ext cx="117972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91(644)ª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(122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6211800" y="4803840"/>
                  <a:ext cx="126828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2" name=""/>
            <p:cNvSpPr/>
            <p:nvPr/>
          </p:nvSpPr>
          <p:spPr>
            <a:xfrm>
              <a:off x="1371600" y="2057400"/>
              <a:ext cx="6113520" cy="3755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371600" y="2057400"/>
            <a:ext cx="152280" cy="3733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5715000"/>
            <a:ext cx="152280" cy="152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97480" y="23274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mic Sans MS"/>
              </a:rPr>
              <a:t>100 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06040" y="5029200"/>
            <a:ext cx="140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542(368-803)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34,8(4,9-54,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55760" y="5954760"/>
            <a:ext cx="6950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*Putnam 1982, Bitman 1983, Harris 1984, Finley 1985, Innis 1988, Chen 1995, Milad 1997, Innis 1999, Gaete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5200" y="632448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ª</a:t>
            </a: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Galgani, (Rev Chil. Nutr, 20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914400" y="-176040"/>
            <a:ext cx="723888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Comic Sans MS"/>
              </a:rPr>
              <a:t>6 a 11 me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1)  leche ma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2) Se puede continuar con fórmulas de inic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3) Fórmulas de continuación (NAN 2, Similac advance,  Promil, Enfamil 2, Blemil plus 2, etc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4)  leche Purita fortificada al 7,5%, con azúcar al 2,5% y cereal  instantáneo (Nestum, Blevit) al 3-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Se inicia la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Comic Sans MS"/>
              </a:rPr>
              <a:t>alimentación sólida</a:t>
            </a:r>
            <a:r>
              <a:rPr b="0" lang="es-MX" sz="2400" spc="-1" strike="noStrike">
                <a:solidFill>
                  <a:srgbClr val="000000"/>
                </a:solidFill>
                <a:latin typeface="Comic Sans MS"/>
              </a:rPr>
              <a:t> con sopa-puré mixta y fruta, la que se da al mediodía (11 a 12 hrs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808000"/>
                </a:solidFill>
                <a:latin typeface="Comic Sans MS"/>
              </a:rPr>
              <a:t>Preparación de 100 ml de Leche Purita al 7,5% + cereal al 3 ó 5% + azúcar al 2,5%</a:t>
            </a:r>
            <a:r>
              <a:rPr b="0" lang="es-MX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85800" y="1981080"/>
          <a:ext cx="7772400" cy="42372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redien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das estándar rasad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che Purita Fortific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s-MX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es-MX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eal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-1</a:t>
                      </a:r>
                      <a:r>
                        <a:rPr b="0" lang="es-MX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es-MX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úc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gua hervi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sta completar 100 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6T22:49:18Z</dcterms:created>
  <dc:creator>Cristian</dc:creator>
  <dc:description/>
  <dc:language>en-US</dc:language>
  <cp:lastModifiedBy>Ximena Raimann</cp:lastModifiedBy>
  <dcterms:modified xsi:type="dcterms:W3CDTF">2006-03-29T14:58:10Z</dcterms:modified>
  <cp:revision>92</cp:revision>
  <dc:subject/>
  <dc:title>Alimentación  del preescolar y escolar</dc:title>
</cp:coreProperties>
</file>