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4.wmf" ContentType="image/x-wmf"/>
  <Override PartName="/ppt/media/image2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61B-F332-4DF9-85EF-1F4E16BB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AEB-20BB-47AE-9E10-3E65FADB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C7D-5263-45FE-9971-B5B1AF6B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BBD-1AA0-498A-9DF3-06AF25D4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946-7D17-444D-8B1A-33911425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949-752E-422B-83CC-8738F583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A90-C4B2-44F8-8312-BC224CC5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BC8-9B4C-46F1-AAA8-57ABB8BD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04A-79D5-4281-8880-49AAEE01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3EC-5063-4D49-B099-31ECC2F2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C9D-7132-4888-A88A-0A2FB77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256-B426-4E5C-BFD2-4E32F12B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F12F-7026-45EF-B024-4FFE36A6A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minsal.cl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8388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a nueva referencia internac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 crecimiento infant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82880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533760"/>
            <a:ext cx="1877760" cy="687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19520" y="1676520"/>
            <a:ext cx="4876560" cy="4266720"/>
            <a:chOff x="2819520" y="1676520"/>
            <a:chExt cx="4876560" cy="4266720"/>
          </a:xfrm>
        </p:grpSpPr>
        <p:graphicFrame>
          <p:nvGraphicFramePr>
            <p:cNvPr id="45" name=""/>
            <p:cNvGraphicFramePr/>
            <p:nvPr/>
          </p:nvGraphicFramePr>
          <p:xfrm>
            <a:off x="2819520" y="2435760"/>
            <a:ext cx="4876560" cy="350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2435760"/>
                      <a:ext cx="4876560" cy="35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3385440" y="1676520"/>
              <a:ext cx="3812400" cy="3922560"/>
              <a:chOff x="3385440" y="1676520"/>
              <a:chExt cx="3812400" cy="3922560"/>
            </a:xfrm>
          </p:grpSpPr>
          <p:graphicFrame>
            <p:nvGraphicFramePr>
              <p:cNvPr id="48" name=""/>
              <p:cNvGraphicFramePr/>
              <p:nvPr/>
            </p:nvGraphicFramePr>
            <p:xfrm>
              <a:off x="3385440" y="4566240"/>
              <a:ext cx="1002960" cy="103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85440" y="4566240"/>
                        <a:ext cx="1002960" cy="10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0" name=""/>
              <p:cNvGraphicFramePr/>
              <p:nvPr/>
            </p:nvGraphicFramePr>
            <p:xfrm>
              <a:off x="4082040" y="3637800"/>
              <a:ext cx="631080" cy="81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82040" y="3637800"/>
                        <a:ext cx="631080" cy="81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" name=""/>
              <p:cNvGraphicFramePr/>
              <p:nvPr/>
            </p:nvGraphicFramePr>
            <p:xfrm>
              <a:off x="5043600" y="3092760"/>
              <a:ext cx="499680" cy="136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43600" y="3092760"/>
                        <a:ext cx="499680" cy="136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" name=""/>
              <p:cNvGraphicFramePr/>
              <p:nvPr/>
            </p:nvGraphicFramePr>
            <p:xfrm>
              <a:off x="5894640" y="2874960"/>
              <a:ext cx="511560" cy="207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94640" y="2874960"/>
                        <a:ext cx="511560" cy="207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"/>
              <p:cNvGraphicFramePr/>
              <p:nvPr/>
            </p:nvGraphicFramePr>
            <p:xfrm>
              <a:off x="6520320" y="1676520"/>
              <a:ext cx="677520" cy="1510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520320" y="1676520"/>
                        <a:ext cx="677520" cy="151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28600" y="933480"/>
            <a:ext cx="8763120" cy="5513400"/>
            <a:chOff x="228600" y="933480"/>
            <a:chExt cx="8763120" cy="55134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28600" y="933480"/>
              <a:ext cx="8763120" cy="55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280" y="1147320"/>
              <a:ext cx="8465400" cy="6728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studio multicéntrico de la OMS sobre el patrón de crecimiento (EMPC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27280" y="0"/>
            <a:ext cx="41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Times New Roman"/>
              </a:rPr>
              <a:t>¿Dónde ?</a:t>
            </a:r>
            <a:r>
              <a:rPr b="1" lang="es-ES_tradnl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30240"/>
            <a:ext cx="8381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condiciones de salud, ambientales o económicas que limiten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dispuesta a seguir las recomendaciones de alimentación según 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Recién nacido a té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Embarazo ún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morbilidad perinatal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no fumadora (ni antes ni después del par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¿Quienes? Criterios de s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de las famil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6095880"/>
            <a:ext cx="8912160" cy="504720"/>
            <a:chOff x="533520" y="6095880"/>
            <a:chExt cx="8912160" cy="504720"/>
          </a:xfrm>
        </p:grpSpPr>
        <p:sp>
          <p:nvSpPr>
            <p:cNvPr id="111" name=""/>
            <p:cNvSpPr/>
            <p:nvPr/>
          </p:nvSpPr>
          <p:spPr>
            <a:xfrm>
              <a:off x="533520" y="609588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2000" y="616752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5760" y="2819520"/>
            <a:ext cx="59608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332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140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57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664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6840" y="297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9040" y="2971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971800"/>
            <a:ext cx="12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4168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ngitudinal (0-24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73520" y="4724280"/>
            <a:ext cx="29131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03848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versal (18-71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664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8664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Times New Roman"/>
              </a:rPr>
              <a:t>Diseño del estudio</a:t>
            </a:r>
            <a:r>
              <a:rPr b="1" lang="en-GB" sz="4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5638680"/>
            <a:ext cx="8378640" cy="892080"/>
            <a:chOff x="228600" y="5638680"/>
            <a:chExt cx="8378640" cy="892080"/>
          </a:xfrm>
        </p:grpSpPr>
        <p:sp>
          <p:nvSpPr>
            <p:cNvPr id="129" name=""/>
            <p:cNvSpPr/>
            <p:nvPr/>
          </p:nvSpPr>
          <p:spPr>
            <a:xfrm>
              <a:off x="228600" y="5638680"/>
              <a:ext cx="4773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400" y="5710320"/>
              <a:ext cx="788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studio multicéntrico de la OMS sobre el patrón de crecimi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4317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75000" y="4618080"/>
            <a:ext cx="1592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900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lendario de me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tropométr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8000" y="1916280"/>
          <a:ext cx="8170560" cy="413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916280"/>
                    <a:ext cx="817056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457200" y="5867280"/>
            <a:ext cx="7921440" cy="504720"/>
            <a:chOff x="457200" y="5867280"/>
            <a:chExt cx="7921440" cy="504720"/>
          </a:xfrm>
        </p:grpSpPr>
        <p:sp>
          <p:nvSpPr>
            <p:cNvPr id="137" name=""/>
            <p:cNvSpPr/>
            <p:nvPr/>
          </p:nvSpPr>
          <p:spPr>
            <a:xfrm>
              <a:off x="457200" y="58672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6640" y="59389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828800"/>
            <a:ext cx="8839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Muestra total de 8.440 niños combin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cohortes de </a:t>
            </a:r>
            <a:r>
              <a:rPr b="1" lang="es-VE" sz="32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 300 recién nacido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1400 niños de 18 a 71 mese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Tamaño mínimo de la muestra para elaborar el patrón de crecimiento: 400 de ambos se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9360"/>
            <a:ext cx="1028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amaño de la mu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5943600"/>
            <a:ext cx="9568800" cy="504720"/>
            <a:chOff x="304920" y="5943600"/>
            <a:chExt cx="9568800" cy="504720"/>
          </a:xfrm>
        </p:grpSpPr>
        <p:sp>
          <p:nvSpPr>
            <p:cNvPr id="142" name=""/>
            <p:cNvSpPr/>
            <p:nvPr/>
          </p:nvSpPr>
          <p:spPr>
            <a:xfrm>
              <a:off x="304920" y="5943600"/>
              <a:ext cx="54540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2280" y="6015240"/>
              <a:ext cx="9001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8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4960" y="2057400"/>
            <a:ext cx="36910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Seis hitos motores gruesos desde los 4 hasta los </a:t>
            </a:r>
            <a:r>
              <a:rPr b="1" lang="es-PA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 18 meses de e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22280" y="1790640"/>
            <a:ext cx="3465720" cy="37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87480" y="5715000"/>
            <a:ext cx="73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640" y="6134040"/>
            <a:ext cx="7921440" cy="504720"/>
            <a:chOff x="701640" y="6134040"/>
            <a:chExt cx="7921440" cy="504720"/>
          </a:xfrm>
        </p:grpSpPr>
        <p:sp>
          <p:nvSpPr>
            <p:cNvPr id="149" name=""/>
            <p:cNvSpPr/>
            <p:nvPr/>
          </p:nvSpPr>
          <p:spPr>
            <a:xfrm>
              <a:off x="701640" y="613404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71080" y="620568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14440" y="5257800"/>
          <a:ext cx="93636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257800"/>
                    <a:ext cx="936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3880" y="5105520"/>
          <a:ext cx="175284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105520"/>
                    <a:ext cx="17528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76720" y="4724280"/>
          <a:ext cx="1041120" cy="14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4724280"/>
                    <a:ext cx="1041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267080" y="4495680"/>
          <a:ext cx="1501920" cy="14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4495680"/>
                    <a:ext cx="15019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15000" y="4114800"/>
          <a:ext cx="115884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5000" y="4114800"/>
                    <a:ext cx="1158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086600" y="3733920"/>
          <a:ext cx="1192320" cy="207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6600" y="3733920"/>
                    <a:ext cx="11923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152280"/>
            <a:ext cx="91440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ntarse sin apo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9718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atear sobre manos y  rod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vantarse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23623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ar de pie 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1873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ruebas pilo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ularios previamente estandarizados y prob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uías detalladas para los entrevis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lección y capacitación cuidadosa del pers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Visitas regulares a los sitios del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Capacitación por expertos internacional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standarización: confiabilidad intraobservador e interobser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quipo de medición de diseño especial, calibraciones frecu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diciones independientes por dos observad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Repetición por teléfono del 10% de las entrevi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od and Nutrition Bulletin 2004; 25: supple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1640" y="6276960"/>
            <a:ext cx="7921440" cy="504720"/>
            <a:chOff x="701640" y="6276960"/>
            <a:chExt cx="7921440" cy="504720"/>
          </a:xfrm>
        </p:grpSpPr>
        <p:sp>
          <p:nvSpPr>
            <p:cNvPr id="173" name=""/>
            <p:cNvSpPr/>
            <p:nvPr/>
          </p:nvSpPr>
          <p:spPr>
            <a:xfrm>
              <a:off x="701640" y="627696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1080" y="634860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52480"/>
            <a:ext cx="8686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foque prescriptivo que reconoce la necesidad de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limentados con lactancia natural como modelo norm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uestr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Datos de referencia sobre la velocidad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ejores datos de referencia para evaluar obe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Vínculo entre el crecimiento físico y el desarrollo moto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Nueva referencia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infantil: aspectos innov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89120" y="6093000"/>
            <a:ext cx="8912160" cy="504720"/>
            <a:chOff x="789120" y="6093000"/>
            <a:chExt cx="8912160" cy="504720"/>
          </a:xfrm>
        </p:grpSpPr>
        <p:sp>
          <p:nvSpPr>
            <p:cNvPr id="178" name=""/>
            <p:cNvSpPr/>
            <p:nvPr/>
          </p:nvSpPr>
          <p:spPr>
            <a:xfrm>
              <a:off x="789120" y="609300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0" y="616464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572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00.000 niños de encuestas de LM y JUN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20" y="266760"/>
            <a:ext cx="91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Referencias para el crecimiento infanti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5816520"/>
            <a:ext cx="8889480" cy="1038600"/>
            <a:chOff x="685800" y="5816520"/>
            <a:chExt cx="8889480" cy="1038600"/>
          </a:xfrm>
        </p:grpSpPr>
        <p:sp>
          <p:nvSpPr>
            <p:cNvPr id="61" name=""/>
            <p:cNvSpPr/>
            <p:nvPr/>
          </p:nvSpPr>
          <p:spPr>
            <a:xfrm>
              <a:off x="685800" y="5816520"/>
              <a:ext cx="506520" cy="6811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2840" y="5913000"/>
              <a:ext cx="8362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523880"/>
            <a:ext cx="8058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sde 1993 se usa en Chile el National Center for Health Statistics de EEUU de 197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sta referencia fue recomendadas por la OMS para uso internacional (NCHS/O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l 2000 hubo una nueva propuesta del N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xisten diferentes referencias nacionales o internacion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alla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Tall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&gt;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990720"/>
            <a:ext cx="814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ción de las referencias de crecimiento y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valuación sobre el terreno de las referencias proviso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Desarrollo de un </a:t>
            </a:r>
            <a:r>
              <a:rPr b="0" i="1" lang="es-PE" sz="2400" spc="-1" strike="noStrike">
                <a:solidFill>
                  <a:srgbClr val="333399"/>
                </a:solidFill>
                <a:latin typeface="Times New Roman"/>
              </a:rPr>
              <a:t>software </a:t>
            </a: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para facilitar la utilización del nuevo patrón a nivel clínico y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Módulos de capacitación para orientar su uso aprop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Revisión de intervenciones para prevenir/tratar las alteraciones del crecimiento infantil (por exceso y por def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r una estrategia de aplicación del nuevo patrón a nivel mundial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867280"/>
            <a:ext cx="31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MS, Departamento de Nutr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Próximos pasos? (2005-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8380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CHS o la nueva referencia intern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ién de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fectos produce en la prevalencia de desnutrición u obes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En cuanto debe cambiar la educación sobre alimenta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y a quién capaci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material de apoyo educativo se requie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strategia es más adecuada para la aplicación de la nueva referencia a nivel nac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orma o refer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evaluar a los niños con lactancia artifi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Desafíos a nivel de cada país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Temas de disc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P/T vs IMC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upo de 5 a 6 añ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 st vs percenti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áficas o tabla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ormativa especialmente en el grupo con LME y con lactancia artifici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Capacitación equipos de salud, pediatras todo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ifusió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2800" y="762120"/>
            <a:ext cx="3038400" cy="449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96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629400" y="457200"/>
            <a:ext cx="2152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RACI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10320" y="5638680"/>
            <a:ext cx="2393640" cy="825480"/>
          </a:xfrm>
          <a:prstGeom prst="rect">
            <a:avLst/>
          </a:pr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minsal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80"/>
                </a:solidFill>
                <a:latin typeface="Times New Roman"/>
              </a:rPr>
              <a:t>sección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90920" y="1981080"/>
          <a:ext cx="4086000" cy="394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981080"/>
                    <a:ext cx="40860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79320" y="6093000"/>
            <a:ext cx="960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ganización Mundial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2600" y="6093000"/>
            <a:ext cx="609480" cy="5806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49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¿Por qué un nuevo patrón internacion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de crecimiento infanti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20" y="266760"/>
            <a:ext cx="912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Características de la refer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NCHS para niños de 0 a 36 mes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4160" y="6176880"/>
            <a:ext cx="8889480" cy="680760"/>
            <a:chOff x="254160" y="6176880"/>
            <a:chExt cx="8889480" cy="680760"/>
          </a:xfrm>
        </p:grpSpPr>
        <p:sp>
          <p:nvSpPr>
            <p:cNvPr id="74" name=""/>
            <p:cNvSpPr/>
            <p:nvPr/>
          </p:nvSpPr>
          <p:spPr>
            <a:xfrm>
              <a:off x="254160" y="6176880"/>
              <a:ext cx="506520" cy="68076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1200" y="6273360"/>
              <a:ext cx="836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8057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ada en datos longitudinales previos a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ños de ascendencia europea, residentes e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mentados fundamentalmente con fó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diciones cada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incluye composición cor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 método analítico disponible era inadecuado para describir la variabilidad del crecimiento norm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7760" y="1773360"/>
            <a:ext cx="87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La referencia NCHS/OMS es inapropiada para evaluar el crecimiento de lactantes sanos, al menos hasta los 1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s necesario un nuevo patrón de creci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La nueva referencia debe reflejar como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berían crecer los niños en condiciones ideales en lugar de describir cómo crecen en un entorno o momento espec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33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onclusiones del Grupo de Trabajo OMS sobre crecimiento infant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6019920"/>
            <a:ext cx="7921440" cy="504720"/>
            <a:chOff x="685800" y="6019920"/>
            <a:chExt cx="7921440" cy="504720"/>
          </a:xfrm>
        </p:grpSpPr>
        <p:sp>
          <p:nvSpPr>
            <p:cNvPr id="82" name=""/>
            <p:cNvSpPr/>
            <p:nvPr/>
          </p:nvSpPr>
          <p:spPr>
            <a:xfrm>
              <a:off x="685800" y="601992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5240" y="609156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58760" y="1625760"/>
          <a:ext cx="672156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1625760"/>
                    <a:ext cx="67215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58960" y="5734080"/>
            <a:ext cx="828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Peso-edad en lactantes sanos amamantados en relación a NCHS  (puntaje Z).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6240" y="1162080"/>
            <a:ext cx="7391520" cy="425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638680"/>
            <a:ext cx="10210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Evaluación del crecimiento del lactante, OMS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aje z promedio en niños amamantados respecto a NCH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9144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Una curva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para el siglo XX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08280"/>
            <a:ext cx="91440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Estudio multicéntrico de 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OMS sobre el patrón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00640"/>
            <a:ext cx="9144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Departamento de Nutr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Organización Mundial de la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Ginebra, Su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680" y="170028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295280"/>
            <a:ext cx="7161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Nutrición óptima</a:t>
            </a:r>
            <a:r>
              <a:rPr b="0" lang="es-UY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mama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limentación complementaria aprop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torn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taminación micro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sumo de tab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de salud óp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Inmu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pediátrica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3201840"/>
            <a:ext cx="2139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recimient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000000"/>
                </a:solidFill>
                <a:latin typeface="Times New Roman"/>
              </a:rPr>
              <a:t>Enfoque prescrip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1640" y="5950080"/>
            <a:ext cx="7921440" cy="504720"/>
            <a:chOff x="701640" y="5950080"/>
            <a:chExt cx="7921440" cy="504720"/>
          </a:xfrm>
        </p:grpSpPr>
        <p:sp>
          <p:nvSpPr>
            <p:cNvPr id="101" name=""/>
            <p:cNvSpPr/>
            <p:nvPr/>
          </p:nvSpPr>
          <p:spPr>
            <a:xfrm>
              <a:off x="701640" y="59500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1080" y="60217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516720" y="170028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7:28Z</dcterms:created>
  <dc:creator>G4</dc:creator>
  <dc:description/>
  <dc:language>en-US</dc:language>
  <cp:lastModifiedBy>tpizarro</cp:lastModifiedBy>
  <dcterms:modified xsi:type="dcterms:W3CDTF">2006-06-20T00:30:07Z</dcterms:modified>
  <cp:revision>57</cp:revision>
  <dc:subject/>
  <dc:title>Presentación de PowerPoint</dc:title>
</cp:coreProperties>
</file>