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665-818B-42FA-B4AF-634021E4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3DB-00BA-46EE-87DC-0B543FFC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AF0-4C81-40B0-A763-7D362726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375-5003-4CD3-83A6-D9DB2CC8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3E4-4DA2-4038-BDAB-13EFE0F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196-8065-47EA-A749-5BDD68F2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563-EFC5-4C72-A81F-9C3DAF91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5E9-60D9-4EF8-A1BA-AC2FAF77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139-E289-4BB3-BA1A-2944D796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F32-075E-426A-94D4-5981C34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683-AE35-4737-B92C-E4AA94EB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605-47D3-4CA8-95FA-0678A90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D9D-6101-43EE-8BD1-2FC65D80F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pizarro</cp:lastModifiedBy>
  <dcterms:modified xsi:type="dcterms:W3CDTF">2006-06-20T00:30:07Z</dcterms:modified>
  <cp:revision>57</cp:revision>
  <dc:subject/>
  <dc:title>Presentación de PowerPoint</dc:title>
</cp:coreProperties>
</file>