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7.jpeg" ContentType="image/jpeg"/>
  <Override PartName="/ppt/media/image3.wmf" ContentType="image/x-wmf"/>
  <Override PartName="/ppt/media/image4.wmf" ContentType="image/x-wmf"/>
  <Override PartName="/ppt/media/image26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FBDE-F1B6-4062-BFC2-C3169A1D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E852-8535-497B-A16E-844720AA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7A2F-5D38-4AEC-9A7C-533DA55E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D184-DCC6-414A-AEAE-8F8EE2E3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4149-05A5-43AE-A1BE-B8B81E4E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FE7D-6952-4A45-AD93-A2C23372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A846-FE2A-4541-B663-E5A68ACD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3644-F899-4A54-ABEA-A64D7572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0777-D3ED-494D-B88C-CE35B90B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60B-B0B8-421E-B5E2-2896975C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4247-03D2-4F95-8AE9-CE684FA5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F172-1DFA-4823-825A-C9F37740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9BCC-8F2A-4354-979D-7BC814671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hyperlink" Target="http://www.minsal.cl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333360"/>
            <a:ext cx="83883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Una nueva referencia internacion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e crecimiento infant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828800"/>
            <a:ext cx="1218960" cy="1162080"/>
          </a:xfrm>
          <a:custGeom>
            <a:avLst/>
            <a:gdLst/>
            <a:ahLst/>
            <a:rect l="l" t="t" r="r" b="b"/>
            <a:pathLst>
              <a:path w="16128" h="15384">
                <a:moveTo>
                  <a:pt x="7403" y="1183"/>
                </a:moveTo>
                <a:lnTo>
                  <a:pt x="7463" y="1203"/>
                </a:lnTo>
                <a:lnTo>
                  <a:pt x="7463" y="1422"/>
                </a:lnTo>
                <a:lnTo>
                  <a:pt x="6966" y="1502"/>
                </a:lnTo>
                <a:lnTo>
                  <a:pt x="5903" y="1820"/>
                </a:lnTo>
                <a:lnTo>
                  <a:pt x="5068" y="2258"/>
                </a:lnTo>
                <a:lnTo>
                  <a:pt x="4402" y="2765"/>
                </a:lnTo>
                <a:lnTo>
                  <a:pt x="4084" y="3083"/>
                </a:lnTo>
                <a:lnTo>
                  <a:pt x="4720" y="3769"/>
                </a:lnTo>
                <a:lnTo>
                  <a:pt x="4780" y="3769"/>
                </a:lnTo>
                <a:lnTo>
                  <a:pt x="5326" y="3312"/>
                </a:lnTo>
                <a:lnTo>
                  <a:pt x="5962" y="2904"/>
                </a:lnTo>
                <a:lnTo>
                  <a:pt x="6578" y="2626"/>
                </a:lnTo>
                <a:lnTo>
                  <a:pt x="7513" y="2337"/>
                </a:lnTo>
                <a:lnTo>
                  <a:pt x="7513" y="2923"/>
                </a:lnTo>
                <a:lnTo>
                  <a:pt x="7343" y="3003"/>
                </a:lnTo>
                <a:lnTo>
                  <a:pt x="6768" y="3510"/>
                </a:lnTo>
                <a:lnTo>
                  <a:pt x="5823" y="4108"/>
                </a:lnTo>
                <a:lnTo>
                  <a:pt x="5645" y="4108"/>
                </a:lnTo>
                <a:lnTo>
                  <a:pt x="5565" y="4167"/>
                </a:lnTo>
                <a:lnTo>
                  <a:pt x="5426" y="4505"/>
                </a:lnTo>
                <a:lnTo>
                  <a:pt x="5525" y="4525"/>
                </a:lnTo>
                <a:lnTo>
                  <a:pt x="5982" y="4147"/>
                </a:lnTo>
                <a:lnTo>
                  <a:pt x="6628" y="3779"/>
                </a:lnTo>
                <a:lnTo>
                  <a:pt x="7523" y="3550"/>
                </a:lnTo>
                <a:lnTo>
                  <a:pt x="7523" y="3660"/>
                </a:lnTo>
                <a:lnTo>
                  <a:pt x="7046" y="3769"/>
                </a:lnTo>
                <a:lnTo>
                  <a:pt x="6400" y="4028"/>
                </a:lnTo>
                <a:lnTo>
                  <a:pt x="6042" y="4247"/>
                </a:lnTo>
                <a:lnTo>
                  <a:pt x="5604" y="4624"/>
                </a:lnTo>
                <a:lnTo>
                  <a:pt x="5625" y="4704"/>
                </a:lnTo>
                <a:lnTo>
                  <a:pt x="6370" y="5449"/>
                </a:lnTo>
                <a:lnTo>
                  <a:pt x="6866" y="5131"/>
                </a:lnTo>
                <a:lnTo>
                  <a:pt x="6887" y="5211"/>
                </a:lnTo>
                <a:lnTo>
                  <a:pt x="6330" y="5668"/>
                </a:lnTo>
                <a:lnTo>
                  <a:pt x="5903" y="6394"/>
                </a:lnTo>
                <a:lnTo>
                  <a:pt x="5863" y="6544"/>
                </a:lnTo>
                <a:lnTo>
                  <a:pt x="6141" y="6414"/>
                </a:lnTo>
                <a:lnTo>
                  <a:pt x="6220" y="6892"/>
                </a:lnTo>
                <a:lnTo>
                  <a:pt x="6370" y="7209"/>
                </a:lnTo>
                <a:lnTo>
                  <a:pt x="6549" y="7458"/>
                </a:lnTo>
                <a:lnTo>
                  <a:pt x="7125" y="7766"/>
                </a:lnTo>
                <a:lnTo>
                  <a:pt x="7006" y="7806"/>
                </a:lnTo>
                <a:lnTo>
                  <a:pt x="6946" y="8124"/>
                </a:lnTo>
                <a:lnTo>
                  <a:pt x="7006" y="8124"/>
                </a:lnTo>
                <a:lnTo>
                  <a:pt x="7165" y="7966"/>
                </a:lnTo>
                <a:lnTo>
                  <a:pt x="7224" y="7846"/>
                </a:lnTo>
                <a:lnTo>
                  <a:pt x="7482" y="7747"/>
                </a:lnTo>
                <a:lnTo>
                  <a:pt x="7572" y="7786"/>
                </a:lnTo>
                <a:lnTo>
                  <a:pt x="7343" y="8045"/>
                </a:lnTo>
                <a:lnTo>
                  <a:pt x="7244" y="8045"/>
                </a:lnTo>
                <a:lnTo>
                  <a:pt x="6459" y="8910"/>
                </a:lnTo>
                <a:lnTo>
                  <a:pt x="6578" y="9029"/>
                </a:lnTo>
                <a:lnTo>
                  <a:pt x="7165" y="9348"/>
                </a:lnTo>
                <a:lnTo>
                  <a:pt x="7165" y="9438"/>
                </a:lnTo>
                <a:lnTo>
                  <a:pt x="7026" y="9407"/>
                </a:lnTo>
                <a:lnTo>
                  <a:pt x="6370" y="8970"/>
                </a:lnTo>
                <a:lnTo>
                  <a:pt x="5764" y="9587"/>
                </a:lnTo>
                <a:lnTo>
                  <a:pt x="5764" y="9815"/>
                </a:lnTo>
                <a:lnTo>
                  <a:pt x="5942" y="9935"/>
                </a:lnTo>
                <a:lnTo>
                  <a:pt x="5982" y="10134"/>
                </a:lnTo>
                <a:lnTo>
                  <a:pt x="6668" y="10492"/>
                </a:lnTo>
                <a:lnTo>
                  <a:pt x="7691" y="10770"/>
                </a:lnTo>
                <a:lnTo>
                  <a:pt x="7691" y="10889"/>
                </a:lnTo>
                <a:lnTo>
                  <a:pt x="7046" y="10789"/>
                </a:lnTo>
                <a:lnTo>
                  <a:pt x="6688" y="10670"/>
                </a:lnTo>
                <a:lnTo>
                  <a:pt x="5942" y="10273"/>
                </a:lnTo>
                <a:lnTo>
                  <a:pt x="5664" y="10273"/>
                </a:lnTo>
                <a:lnTo>
                  <a:pt x="5406" y="10392"/>
                </a:lnTo>
                <a:lnTo>
                  <a:pt x="4958" y="10392"/>
                </a:lnTo>
                <a:lnTo>
                  <a:pt x="4870" y="10571"/>
                </a:lnTo>
                <a:lnTo>
                  <a:pt x="5645" y="11178"/>
                </a:lnTo>
                <a:lnTo>
                  <a:pt x="6220" y="11466"/>
                </a:lnTo>
                <a:lnTo>
                  <a:pt x="6966" y="11714"/>
                </a:lnTo>
                <a:lnTo>
                  <a:pt x="7711" y="11853"/>
                </a:lnTo>
                <a:lnTo>
                  <a:pt x="7711" y="11974"/>
                </a:lnTo>
                <a:lnTo>
                  <a:pt x="7046" y="11894"/>
                </a:lnTo>
                <a:lnTo>
                  <a:pt x="6251" y="11655"/>
                </a:lnTo>
                <a:lnTo>
                  <a:pt x="5486" y="11257"/>
                </a:lnTo>
                <a:lnTo>
                  <a:pt x="4700" y="10670"/>
                </a:lnTo>
                <a:lnTo>
                  <a:pt x="4084" y="11376"/>
                </a:lnTo>
                <a:lnTo>
                  <a:pt x="5048" y="12113"/>
                </a:lnTo>
                <a:lnTo>
                  <a:pt x="5883" y="12549"/>
                </a:lnTo>
                <a:lnTo>
                  <a:pt x="7185" y="12918"/>
                </a:lnTo>
                <a:lnTo>
                  <a:pt x="8586" y="12918"/>
                </a:lnTo>
                <a:lnTo>
                  <a:pt x="9341" y="12789"/>
                </a:lnTo>
                <a:lnTo>
                  <a:pt x="10483" y="12351"/>
                </a:lnTo>
                <a:lnTo>
                  <a:pt x="11249" y="11894"/>
                </a:lnTo>
                <a:lnTo>
                  <a:pt x="11904" y="11337"/>
                </a:lnTo>
                <a:lnTo>
                  <a:pt x="11904" y="11276"/>
                </a:lnTo>
                <a:lnTo>
                  <a:pt x="11289" y="10650"/>
                </a:lnTo>
                <a:lnTo>
                  <a:pt x="11199" y="10650"/>
                </a:lnTo>
                <a:lnTo>
                  <a:pt x="10464" y="11227"/>
                </a:lnTo>
                <a:lnTo>
                  <a:pt x="9460" y="11853"/>
                </a:lnTo>
                <a:lnTo>
                  <a:pt x="9380" y="11794"/>
                </a:lnTo>
                <a:lnTo>
                  <a:pt x="8486" y="11953"/>
                </a:lnTo>
                <a:lnTo>
                  <a:pt x="8486" y="11794"/>
                </a:lnTo>
                <a:lnTo>
                  <a:pt x="9063" y="11714"/>
                </a:lnTo>
                <a:lnTo>
                  <a:pt x="9043" y="11536"/>
                </a:lnTo>
                <a:lnTo>
                  <a:pt x="8725" y="11337"/>
                </a:lnTo>
                <a:lnTo>
                  <a:pt x="8675" y="11198"/>
                </a:lnTo>
                <a:lnTo>
                  <a:pt x="8765" y="11178"/>
                </a:lnTo>
                <a:lnTo>
                  <a:pt x="9003" y="11466"/>
                </a:lnTo>
                <a:lnTo>
                  <a:pt x="9143" y="11397"/>
                </a:lnTo>
                <a:lnTo>
                  <a:pt x="9143" y="10730"/>
                </a:lnTo>
                <a:lnTo>
                  <a:pt x="9003" y="10760"/>
                </a:lnTo>
                <a:lnTo>
                  <a:pt x="9063" y="11147"/>
                </a:lnTo>
                <a:lnTo>
                  <a:pt x="8804" y="10830"/>
                </a:lnTo>
                <a:lnTo>
                  <a:pt x="8486" y="10869"/>
                </a:lnTo>
                <a:lnTo>
                  <a:pt x="8466" y="10730"/>
                </a:lnTo>
                <a:lnTo>
                  <a:pt x="8556" y="10711"/>
                </a:lnTo>
                <a:lnTo>
                  <a:pt x="8556" y="10650"/>
                </a:lnTo>
                <a:lnTo>
                  <a:pt x="8466" y="10591"/>
                </a:lnTo>
                <a:lnTo>
                  <a:pt x="8486" y="10312"/>
                </a:lnTo>
                <a:lnTo>
                  <a:pt x="8864" y="10591"/>
                </a:lnTo>
                <a:lnTo>
                  <a:pt x="9043" y="10591"/>
                </a:lnTo>
                <a:lnTo>
                  <a:pt x="9003" y="10472"/>
                </a:lnTo>
                <a:lnTo>
                  <a:pt x="8804" y="10273"/>
                </a:lnTo>
                <a:lnTo>
                  <a:pt x="8486" y="10093"/>
                </a:lnTo>
                <a:lnTo>
                  <a:pt x="8486" y="9487"/>
                </a:lnTo>
                <a:lnTo>
                  <a:pt x="9262" y="9168"/>
                </a:lnTo>
                <a:lnTo>
                  <a:pt x="9480" y="8970"/>
                </a:lnTo>
                <a:lnTo>
                  <a:pt x="9619" y="8691"/>
                </a:lnTo>
                <a:lnTo>
                  <a:pt x="9699" y="8045"/>
                </a:lnTo>
                <a:lnTo>
                  <a:pt x="9520" y="7657"/>
                </a:lnTo>
                <a:lnTo>
                  <a:pt x="9023" y="7289"/>
                </a:lnTo>
                <a:lnTo>
                  <a:pt x="8556" y="7110"/>
                </a:lnTo>
                <a:lnTo>
                  <a:pt x="8556" y="5967"/>
                </a:lnTo>
                <a:lnTo>
                  <a:pt x="8705" y="5897"/>
                </a:lnTo>
                <a:lnTo>
                  <a:pt x="8744" y="6216"/>
                </a:lnTo>
                <a:lnTo>
                  <a:pt x="8904" y="6165"/>
                </a:lnTo>
                <a:lnTo>
                  <a:pt x="8983" y="5927"/>
                </a:lnTo>
                <a:lnTo>
                  <a:pt x="9282" y="5788"/>
                </a:lnTo>
                <a:lnTo>
                  <a:pt x="10364" y="4644"/>
                </a:lnTo>
                <a:lnTo>
                  <a:pt x="10444" y="4465"/>
                </a:lnTo>
                <a:lnTo>
                  <a:pt x="10524" y="4485"/>
                </a:lnTo>
                <a:lnTo>
                  <a:pt x="10722" y="4286"/>
                </a:lnTo>
                <a:lnTo>
                  <a:pt x="10663" y="4147"/>
                </a:lnTo>
                <a:lnTo>
                  <a:pt x="10702" y="3510"/>
                </a:lnTo>
                <a:lnTo>
                  <a:pt x="10544" y="3043"/>
                </a:lnTo>
                <a:lnTo>
                  <a:pt x="10642" y="2984"/>
                </a:lnTo>
                <a:lnTo>
                  <a:pt x="10802" y="3123"/>
                </a:lnTo>
                <a:lnTo>
                  <a:pt x="11060" y="3202"/>
                </a:lnTo>
                <a:lnTo>
                  <a:pt x="11229" y="3461"/>
                </a:lnTo>
                <a:lnTo>
                  <a:pt x="11258" y="3660"/>
                </a:lnTo>
                <a:lnTo>
                  <a:pt x="11319" y="3660"/>
                </a:lnTo>
                <a:lnTo>
                  <a:pt x="11885" y="3062"/>
                </a:lnTo>
                <a:lnTo>
                  <a:pt x="11904" y="2984"/>
                </a:lnTo>
                <a:lnTo>
                  <a:pt x="11000" y="2278"/>
                </a:lnTo>
                <a:lnTo>
                  <a:pt x="9867" y="1721"/>
                </a:lnTo>
                <a:lnTo>
                  <a:pt x="8665" y="1441"/>
                </a:lnTo>
                <a:lnTo>
                  <a:pt x="8665" y="1203"/>
                </a:lnTo>
                <a:lnTo>
                  <a:pt x="9669" y="1382"/>
                </a:lnTo>
                <a:lnTo>
                  <a:pt x="10663" y="1780"/>
                </a:lnTo>
                <a:lnTo>
                  <a:pt x="11746" y="2506"/>
                </a:lnTo>
                <a:lnTo>
                  <a:pt x="12322" y="3083"/>
                </a:lnTo>
                <a:lnTo>
                  <a:pt x="12888" y="3829"/>
                </a:lnTo>
                <a:lnTo>
                  <a:pt x="13465" y="4952"/>
                </a:lnTo>
                <a:lnTo>
                  <a:pt x="13872" y="6533"/>
                </a:lnTo>
                <a:lnTo>
                  <a:pt x="13872" y="7567"/>
                </a:lnTo>
                <a:lnTo>
                  <a:pt x="13643" y="8910"/>
                </a:lnTo>
                <a:lnTo>
                  <a:pt x="13426" y="9526"/>
                </a:lnTo>
                <a:lnTo>
                  <a:pt x="12968" y="10412"/>
                </a:lnTo>
                <a:lnTo>
                  <a:pt x="12571" y="10969"/>
                </a:lnTo>
                <a:lnTo>
                  <a:pt x="11925" y="11655"/>
                </a:lnTo>
                <a:lnTo>
                  <a:pt x="11448" y="12033"/>
                </a:lnTo>
                <a:lnTo>
                  <a:pt x="10683" y="12520"/>
                </a:lnTo>
                <a:lnTo>
                  <a:pt x="10047" y="12819"/>
                </a:lnTo>
                <a:lnTo>
                  <a:pt x="9262" y="13057"/>
                </a:lnTo>
                <a:lnTo>
                  <a:pt x="8526" y="13196"/>
                </a:lnTo>
                <a:lnTo>
                  <a:pt x="7691" y="13196"/>
                </a:lnTo>
                <a:lnTo>
                  <a:pt x="6846" y="13116"/>
                </a:lnTo>
                <a:lnTo>
                  <a:pt x="5883" y="12838"/>
                </a:lnTo>
                <a:lnTo>
                  <a:pt x="5366" y="12600"/>
                </a:lnTo>
                <a:lnTo>
                  <a:pt x="4581" y="12113"/>
                </a:lnTo>
                <a:lnTo>
                  <a:pt x="4164" y="11774"/>
                </a:lnTo>
                <a:lnTo>
                  <a:pt x="3617" y="11227"/>
                </a:lnTo>
                <a:lnTo>
                  <a:pt x="2882" y="10153"/>
                </a:lnTo>
                <a:lnTo>
                  <a:pt x="2424" y="9049"/>
                </a:lnTo>
                <a:lnTo>
                  <a:pt x="2226" y="8185"/>
                </a:lnTo>
                <a:lnTo>
                  <a:pt x="2166" y="7130"/>
                </a:lnTo>
                <a:lnTo>
                  <a:pt x="2166" y="6533"/>
                </a:lnTo>
                <a:lnTo>
                  <a:pt x="2315" y="5668"/>
                </a:lnTo>
                <a:lnTo>
                  <a:pt x="2563" y="4952"/>
                </a:lnTo>
                <a:lnTo>
                  <a:pt x="2941" y="4147"/>
                </a:lnTo>
                <a:lnTo>
                  <a:pt x="3319" y="3570"/>
                </a:lnTo>
                <a:lnTo>
                  <a:pt x="4005" y="2804"/>
                </a:lnTo>
                <a:lnTo>
                  <a:pt x="4581" y="2317"/>
                </a:lnTo>
                <a:lnTo>
                  <a:pt x="5704" y="1660"/>
                </a:lnTo>
                <a:lnTo>
                  <a:pt x="6807" y="1302"/>
                </a:lnTo>
                <a:lnTo>
                  <a:pt x="7403" y="1183"/>
                </a:lnTo>
                <a:close/>
                <a:moveTo>
                  <a:pt x="3964" y="3222"/>
                </a:moveTo>
                <a:lnTo>
                  <a:pt x="4402" y="3660"/>
                </a:lnTo>
                <a:lnTo>
                  <a:pt x="4601" y="3899"/>
                </a:lnTo>
                <a:lnTo>
                  <a:pt x="4104" y="4564"/>
                </a:lnTo>
                <a:lnTo>
                  <a:pt x="3696" y="5330"/>
                </a:lnTo>
                <a:lnTo>
                  <a:pt x="3438" y="6155"/>
                </a:lnTo>
                <a:lnTo>
                  <a:pt x="3279" y="7150"/>
                </a:lnTo>
                <a:lnTo>
                  <a:pt x="2424" y="7150"/>
                </a:lnTo>
                <a:lnTo>
                  <a:pt x="2424" y="6593"/>
                </a:lnTo>
                <a:lnTo>
                  <a:pt x="2494" y="6066"/>
                </a:lnTo>
                <a:lnTo>
                  <a:pt x="2782" y="5131"/>
                </a:lnTo>
                <a:lnTo>
                  <a:pt x="3080" y="4445"/>
                </a:lnTo>
                <a:lnTo>
                  <a:pt x="3518" y="3749"/>
                </a:lnTo>
                <a:lnTo>
                  <a:pt x="3964" y="3222"/>
                </a:lnTo>
                <a:close/>
                <a:moveTo>
                  <a:pt x="5942" y="3123"/>
                </a:moveTo>
                <a:lnTo>
                  <a:pt x="5545" y="4028"/>
                </a:lnTo>
                <a:lnTo>
                  <a:pt x="5545" y="4147"/>
                </a:lnTo>
                <a:lnTo>
                  <a:pt x="5226" y="4325"/>
                </a:lnTo>
                <a:lnTo>
                  <a:pt x="5426" y="4325"/>
                </a:lnTo>
                <a:lnTo>
                  <a:pt x="5326" y="4704"/>
                </a:lnTo>
                <a:lnTo>
                  <a:pt x="4879" y="5330"/>
                </a:lnTo>
                <a:lnTo>
                  <a:pt x="4621" y="5867"/>
                </a:lnTo>
                <a:lnTo>
                  <a:pt x="4442" y="6513"/>
                </a:lnTo>
                <a:lnTo>
                  <a:pt x="4363" y="7130"/>
                </a:lnTo>
                <a:lnTo>
                  <a:pt x="3518" y="7130"/>
                </a:lnTo>
                <a:lnTo>
                  <a:pt x="3518" y="6673"/>
                </a:lnTo>
                <a:lnTo>
                  <a:pt x="3786" y="5588"/>
                </a:lnTo>
                <a:lnTo>
                  <a:pt x="4382" y="4445"/>
                </a:lnTo>
                <a:lnTo>
                  <a:pt x="4750" y="4028"/>
                </a:lnTo>
                <a:lnTo>
                  <a:pt x="5018" y="4306"/>
                </a:lnTo>
                <a:lnTo>
                  <a:pt x="5167" y="4247"/>
                </a:lnTo>
                <a:lnTo>
                  <a:pt x="5167" y="4167"/>
                </a:lnTo>
                <a:lnTo>
                  <a:pt x="4879" y="3889"/>
                </a:lnTo>
                <a:lnTo>
                  <a:pt x="5465" y="3401"/>
                </a:lnTo>
                <a:lnTo>
                  <a:pt x="5942" y="3123"/>
                </a:lnTo>
                <a:close/>
                <a:moveTo>
                  <a:pt x="5486" y="4783"/>
                </a:moveTo>
                <a:lnTo>
                  <a:pt x="6251" y="5588"/>
                </a:lnTo>
                <a:lnTo>
                  <a:pt x="6022" y="5897"/>
                </a:lnTo>
                <a:lnTo>
                  <a:pt x="5704" y="6653"/>
                </a:lnTo>
                <a:lnTo>
                  <a:pt x="5584" y="6792"/>
                </a:lnTo>
                <a:lnTo>
                  <a:pt x="5426" y="6871"/>
                </a:lnTo>
                <a:lnTo>
                  <a:pt x="5326" y="7011"/>
                </a:lnTo>
                <a:lnTo>
                  <a:pt x="5197" y="7130"/>
                </a:lnTo>
                <a:lnTo>
                  <a:pt x="4561" y="7130"/>
                </a:lnTo>
                <a:lnTo>
                  <a:pt x="4601" y="6544"/>
                </a:lnTo>
                <a:lnTo>
                  <a:pt x="4720" y="6066"/>
                </a:lnTo>
                <a:lnTo>
                  <a:pt x="5018" y="5410"/>
                </a:lnTo>
                <a:lnTo>
                  <a:pt x="5486" y="4783"/>
                </a:lnTo>
                <a:close/>
                <a:moveTo>
                  <a:pt x="2424" y="7349"/>
                </a:moveTo>
                <a:lnTo>
                  <a:pt x="3338" y="7349"/>
                </a:lnTo>
                <a:lnTo>
                  <a:pt x="3338" y="7846"/>
                </a:lnTo>
                <a:lnTo>
                  <a:pt x="3488" y="8503"/>
                </a:lnTo>
                <a:lnTo>
                  <a:pt x="3369" y="8503"/>
                </a:lnTo>
                <a:lnTo>
                  <a:pt x="3220" y="8611"/>
                </a:lnTo>
                <a:lnTo>
                  <a:pt x="2941" y="8632"/>
                </a:lnTo>
                <a:lnTo>
                  <a:pt x="2822" y="8701"/>
                </a:lnTo>
                <a:lnTo>
                  <a:pt x="2822" y="9010"/>
                </a:lnTo>
                <a:lnTo>
                  <a:pt x="2982" y="8930"/>
                </a:lnTo>
                <a:lnTo>
                  <a:pt x="3438" y="9288"/>
                </a:lnTo>
                <a:lnTo>
                  <a:pt x="3488" y="9606"/>
                </a:lnTo>
                <a:lnTo>
                  <a:pt x="3557" y="9696"/>
                </a:lnTo>
                <a:lnTo>
                  <a:pt x="3876" y="9755"/>
                </a:lnTo>
                <a:lnTo>
                  <a:pt x="4025" y="9845"/>
                </a:lnTo>
                <a:lnTo>
                  <a:pt x="4164" y="10232"/>
                </a:lnTo>
                <a:lnTo>
                  <a:pt x="4322" y="10253"/>
                </a:lnTo>
                <a:lnTo>
                  <a:pt x="4601" y="10571"/>
                </a:lnTo>
                <a:lnTo>
                  <a:pt x="3964" y="11207"/>
                </a:lnTo>
                <a:lnTo>
                  <a:pt x="3279" y="10312"/>
                </a:lnTo>
                <a:lnTo>
                  <a:pt x="2763" y="9248"/>
                </a:lnTo>
                <a:lnTo>
                  <a:pt x="2544" y="8492"/>
                </a:lnTo>
                <a:lnTo>
                  <a:pt x="2424" y="7349"/>
                </a:lnTo>
                <a:close/>
                <a:moveTo>
                  <a:pt x="3498" y="7329"/>
                </a:moveTo>
                <a:lnTo>
                  <a:pt x="4363" y="7329"/>
                </a:lnTo>
                <a:lnTo>
                  <a:pt x="4402" y="7717"/>
                </a:lnTo>
                <a:lnTo>
                  <a:pt x="4104" y="7966"/>
                </a:lnTo>
                <a:lnTo>
                  <a:pt x="3945" y="8503"/>
                </a:lnTo>
                <a:lnTo>
                  <a:pt x="3985" y="8611"/>
                </a:lnTo>
                <a:lnTo>
                  <a:pt x="3667" y="8492"/>
                </a:lnTo>
                <a:lnTo>
                  <a:pt x="3498" y="7329"/>
                </a:lnTo>
                <a:close/>
                <a:moveTo>
                  <a:pt x="5426" y="7369"/>
                </a:moveTo>
                <a:lnTo>
                  <a:pt x="5625" y="7309"/>
                </a:lnTo>
                <a:lnTo>
                  <a:pt x="5764" y="8045"/>
                </a:lnTo>
                <a:lnTo>
                  <a:pt x="6002" y="8552"/>
                </a:lnTo>
                <a:lnTo>
                  <a:pt x="6251" y="8871"/>
                </a:lnTo>
                <a:lnTo>
                  <a:pt x="5604" y="9526"/>
                </a:lnTo>
                <a:lnTo>
                  <a:pt x="5465" y="9467"/>
                </a:lnTo>
                <a:lnTo>
                  <a:pt x="5525" y="9149"/>
                </a:lnTo>
                <a:lnTo>
                  <a:pt x="5287" y="8751"/>
                </a:lnTo>
                <a:lnTo>
                  <a:pt x="5326" y="8433"/>
                </a:lnTo>
                <a:lnTo>
                  <a:pt x="5108" y="7846"/>
                </a:lnTo>
                <a:lnTo>
                  <a:pt x="5247" y="7717"/>
                </a:lnTo>
                <a:lnTo>
                  <a:pt x="5267" y="7598"/>
                </a:lnTo>
                <a:lnTo>
                  <a:pt x="5426" y="7369"/>
                </a:lnTo>
                <a:close/>
                <a:moveTo>
                  <a:pt x="5962" y="7846"/>
                </a:moveTo>
                <a:lnTo>
                  <a:pt x="6330" y="7866"/>
                </a:lnTo>
                <a:lnTo>
                  <a:pt x="6509" y="8025"/>
                </a:lnTo>
                <a:lnTo>
                  <a:pt x="6568" y="8175"/>
                </a:lnTo>
                <a:lnTo>
                  <a:pt x="6768" y="8294"/>
                </a:lnTo>
                <a:lnTo>
                  <a:pt x="6727" y="8383"/>
                </a:lnTo>
                <a:lnTo>
                  <a:pt x="6370" y="8751"/>
                </a:lnTo>
                <a:lnTo>
                  <a:pt x="6081" y="8343"/>
                </a:lnTo>
                <a:lnTo>
                  <a:pt x="5863" y="7846"/>
                </a:lnTo>
                <a:lnTo>
                  <a:pt x="5962" y="7846"/>
                </a:lnTo>
                <a:close/>
                <a:moveTo>
                  <a:pt x="4581" y="7329"/>
                </a:moveTo>
                <a:lnTo>
                  <a:pt x="5078" y="7329"/>
                </a:lnTo>
                <a:lnTo>
                  <a:pt x="5068" y="7608"/>
                </a:lnTo>
                <a:lnTo>
                  <a:pt x="4929" y="7827"/>
                </a:lnTo>
                <a:lnTo>
                  <a:pt x="4839" y="7846"/>
                </a:lnTo>
                <a:lnTo>
                  <a:pt x="4581" y="7687"/>
                </a:lnTo>
                <a:lnTo>
                  <a:pt x="4581" y="7329"/>
                </a:lnTo>
                <a:close/>
                <a:moveTo>
                  <a:pt x="11348" y="7289"/>
                </a:moveTo>
                <a:lnTo>
                  <a:pt x="11467" y="7309"/>
                </a:lnTo>
                <a:lnTo>
                  <a:pt x="11408" y="7866"/>
                </a:lnTo>
                <a:lnTo>
                  <a:pt x="11229" y="8492"/>
                </a:lnTo>
                <a:lnTo>
                  <a:pt x="10822" y="9229"/>
                </a:lnTo>
                <a:lnTo>
                  <a:pt x="10503" y="9636"/>
                </a:lnTo>
                <a:lnTo>
                  <a:pt x="10405" y="9487"/>
                </a:lnTo>
                <a:lnTo>
                  <a:pt x="10384" y="9248"/>
                </a:lnTo>
                <a:lnTo>
                  <a:pt x="10305" y="9109"/>
                </a:lnTo>
                <a:lnTo>
                  <a:pt x="10225" y="9109"/>
                </a:lnTo>
                <a:lnTo>
                  <a:pt x="10225" y="8632"/>
                </a:lnTo>
                <a:lnTo>
                  <a:pt x="10106" y="8632"/>
                </a:lnTo>
                <a:lnTo>
                  <a:pt x="10047" y="8701"/>
                </a:lnTo>
                <a:lnTo>
                  <a:pt x="9848" y="8791"/>
                </a:lnTo>
                <a:lnTo>
                  <a:pt x="10126" y="8632"/>
                </a:lnTo>
                <a:lnTo>
                  <a:pt x="10146" y="8463"/>
                </a:lnTo>
                <a:lnTo>
                  <a:pt x="10305" y="8403"/>
                </a:lnTo>
                <a:lnTo>
                  <a:pt x="10325" y="8324"/>
                </a:lnTo>
                <a:lnTo>
                  <a:pt x="11060" y="7866"/>
                </a:lnTo>
                <a:lnTo>
                  <a:pt x="11020" y="7766"/>
                </a:lnTo>
                <a:lnTo>
                  <a:pt x="10782" y="7667"/>
                </a:lnTo>
                <a:lnTo>
                  <a:pt x="10642" y="7747"/>
                </a:lnTo>
                <a:lnTo>
                  <a:pt x="10583" y="7289"/>
                </a:lnTo>
                <a:lnTo>
                  <a:pt x="11348" y="7289"/>
                </a:lnTo>
                <a:close/>
                <a:moveTo>
                  <a:pt x="11646" y="7270"/>
                </a:moveTo>
                <a:lnTo>
                  <a:pt x="12491" y="7270"/>
                </a:lnTo>
                <a:lnTo>
                  <a:pt x="12491" y="7806"/>
                </a:lnTo>
                <a:lnTo>
                  <a:pt x="12381" y="8324"/>
                </a:lnTo>
                <a:lnTo>
                  <a:pt x="12164" y="8990"/>
                </a:lnTo>
                <a:lnTo>
                  <a:pt x="11806" y="9676"/>
                </a:lnTo>
                <a:lnTo>
                  <a:pt x="11249" y="10392"/>
                </a:lnTo>
                <a:lnTo>
                  <a:pt x="10902" y="10054"/>
                </a:lnTo>
                <a:lnTo>
                  <a:pt x="10861" y="9845"/>
                </a:lnTo>
                <a:lnTo>
                  <a:pt x="10742" y="9874"/>
                </a:lnTo>
                <a:lnTo>
                  <a:pt x="10642" y="9796"/>
                </a:lnTo>
                <a:lnTo>
                  <a:pt x="11258" y="8830"/>
                </a:lnTo>
                <a:lnTo>
                  <a:pt x="11547" y="8005"/>
                </a:lnTo>
                <a:lnTo>
                  <a:pt x="11646" y="7270"/>
                </a:lnTo>
                <a:close/>
                <a:moveTo>
                  <a:pt x="12700" y="7270"/>
                </a:moveTo>
                <a:lnTo>
                  <a:pt x="13565" y="7270"/>
                </a:lnTo>
                <a:lnTo>
                  <a:pt x="13565" y="8144"/>
                </a:lnTo>
                <a:lnTo>
                  <a:pt x="13326" y="9029"/>
                </a:lnTo>
                <a:lnTo>
                  <a:pt x="13107" y="9587"/>
                </a:lnTo>
                <a:lnTo>
                  <a:pt x="12551" y="10551"/>
                </a:lnTo>
                <a:lnTo>
                  <a:pt x="12024" y="11178"/>
                </a:lnTo>
                <a:lnTo>
                  <a:pt x="11378" y="10511"/>
                </a:lnTo>
                <a:lnTo>
                  <a:pt x="11945" y="9765"/>
                </a:lnTo>
                <a:lnTo>
                  <a:pt x="12312" y="9090"/>
                </a:lnTo>
                <a:lnTo>
                  <a:pt x="12571" y="8294"/>
                </a:lnTo>
                <a:lnTo>
                  <a:pt x="12700" y="7270"/>
                </a:lnTo>
                <a:close/>
                <a:moveTo>
                  <a:pt x="10464" y="4773"/>
                </a:moveTo>
                <a:lnTo>
                  <a:pt x="10742" y="5152"/>
                </a:lnTo>
                <a:lnTo>
                  <a:pt x="10861" y="5469"/>
                </a:lnTo>
                <a:lnTo>
                  <a:pt x="10941" y="5529"/>
                </a:lnTo>
                <a:lnTo>
                  <a:pt x="10961" y="5668"/>
                </a:lnTo>
                <a:lnTo>
                  <a:pt x="11309" y="6106"/>
                </a:lnTo>
                <a:lnTo>
                  <a:pt x="11309" y="6851"/>
                </a:lnTo>
                <a:lnTo>
                  <a:pt x="11448" y="6792"/>
                </a:lnTo>
                <a:lnTo>
                  <a:pt x="11467" y="7110"/>
                </a:lnTo>
                <a:lnTo>
                  <a:pt x="10742" y="7110"/>
                </a:lnTo>
                <a:lnTo>
                  <a:pt x="10861" y="6871"/>
                </a:lnTo>
                <a:lnTo>
                  <a:pt x="11110" y="6732"/>
                </a:lnTo>
                <a:lnTo>
                  <a:pt x="11229" y="6374"/>
                </a:lnTo>
                <a:lnTo>
                  <a:pt x="11139" y="6374"/>
                </a:lnTo>
                <a:lnTo>
                  <a:pt x="10961" y="6603"/>
                </a:lnTo>
                <a:lnTo>
                  <a:pt x="10841" y="6633"/>
                </a:lnTo>
                <a:lnTo>
                  <a:pt x="10822" y="6374"/>
                </a:lnTo>
                <a:lnTo>
                  <a:pt x="10623" y="6374"/>
                </a:lnTo>
                <a:lnTo>
                  <a:pt x="10524" y="6484"/>
                </a:lnTo>
                <a:lnTo>
                  <a:pt x="10524" y="6225"/>
                </a:lnTo>
                <a:lnTo>
                  <a:pt x="10364" y="5967"/>
                </a:lnTo>
                <a:lnTo>
                  <a:pt x="10146" y="5956"/>
                </a:lnTo>
                <a:lnTo>
                  <a:pt x="9877" y="5748"/>
                </a:lnTo>
                <a:lnTo>
                  <a:pt x="9758" y="5510"/>
                </a:lnTo>
                <a:lnTo>
                  <a:pt x="10464" y="4773"/>
                </a:lnTo>
                <a:close/>
                <a:moveTo>
                  <a:pt x="10841" y="4425"/>
                </a:moveTo>
                <a:lnTo>
                  <a:pt x="10941" y="4564"/>
                </a:lnTo>
                <a:lnTo>
                  <a:pt x="11170" y="4833"/>
                </a:lnTo>
                <a:lnTo>
                  <a:pt x="11746" y="4992"/>
                </a:lnTo>
                <a:lnTo>
                  <a:pt x="12024" y="5430"/>
                </a:lnTo>
                <a:lnTo>
                  <a:pt x="12164" y="5410"/>
                </a:lnTo>
                <a:lnTo>
                  <a:pt x="12401" y="6185"/>
                </a:lnTo>
                <a:lnTo>
                  <a:pt x="12511" y="7090"/>
                </a:lnTo>
                <a:lnTo>
                  <a:pt x="11646" y="7090"/>
                </a:lnTo>
                <a:lnTo>
                  <a:pt x="11527" y="6185"/>
                </a:lnTo>
                <a:lnTo>
                  <a:pt x="11626" y="5907"/>
                </a:lnTo>
                <a:lnTo>
                  <a:pt x="11567" y="5788"/>
                </a:lnTo>
                <a:lnTo>
                  <a:pt x="11487" y="5788"/>
                </a:lnTo>
                <a:lnTo>
                  <a:pt x="11467" y="5927"/>
                </a:lnTo>
                <a:lnTo>
                  <a:pt x="11309" y="5370"/>
                </a:lnTo>
                <a:lnTo>
                  <a:pt x="11080" y="5211"/>
                </a:lnTo>
                <a:lnTo>
                  <a:pt x="10642" y="4585"/>
                </a:lnTo>
                <a:lnTo>
                  <a:pt x="10841" y="4425"/>
                </a:lnTo>
                <a:close/>
                <a:moveTo>
                  <a:pt x="12024" y="3162"/>
                </a:moveTo>
                <a:lnTo>
                  <a:pt x="12670" y="3987"/>
                </a:lnTo>
                <a:lnTo>
                  <a:pt x="13127" y="4833"/>
                </a:lnTo>
                <a:lnTo>
                  <a:pt x="13504" y="6066"/>
                </a:lnTo>
                <a:lnTo>
                  <a:pt x="13604" y="7090"/>
                </a:lnTo>
                <a:lnTo>
                  <a:pt x="12700" y="7090"/>
                </a:lnTo>
                <a:lnTo>
                  <a:pt x="12630" y="6245"/>
                </a:lnTo>
                <a:lnTo>
                  <a:pt x="12312" y="5231"/>
                </a:lnTo>
                <a:lnTo>
                  <a:pt x="12491" y="5131"/>
                </a:lnTo>
                <a:lnTo>
                  <a:pt x="12491" y="5012"/>
                </a:lnTo>
                <a:lnTo>
                  <a:pt x="12164" y="4644"/>
                </a:lnTo>
                <a:lnTo>
                  <a:pt x="11945" y="4286"/>
                </a:lnTo>
                <a:lnTo>
                  <a:pt x="11865" y="4266"/>
                </a:lnTo>
                <a:lnTo>
                  <a:pt x="11507" y="3709"/>
                </a:lnTo>
                <a:lnTo>
                  <a:pt x="12024" y="3162"/>
                </a:lnTo>
                <a:close/>
                <a:moveTo>
                  <a:pt x="10503" y="9935"/>
                </a:moveTo>
                <a:lnTo>
                  <a:pt x="10663" y="10054"/>
                </a:lnTo>
                <a:lnTo>
                  <a:pt x="10722" y="10353"/>
                </a:lnTo>
                <a:lnTo>
                  <a:pt x="10802" y="10451"/>
                </a:lnTo>
                <a:lnTo>
                  <a:pt x="10941" y="10372"/>
                </a:lnTo>
                <a:lnTo>
                  <a:pt x="11110" y="10531"/>
                </a:lnTo>
                <a:lnTo>
                  <a:pt x="10265" y="11147"/>
                </a:lnTo>
                <a:lnTo>
                  <a:pt x="10265" y="10928"/>
                </a:lnTo>
                <a:lnTo>
                  <a:pt x="10464" y="10472"/>
                </a:lnTo>
                <a:lnTo>
                  <a:pt x="10464" y="10232"/>
                </a:lnTo>
                <a:lnTo>
                  <a:pt x="10285" y="10113"/>
                </a:lnTo>
                <a:lnTo>
                  <a:pt x="10503" y="9935"/>
                </a:lnTo>
                <a:close/>
                <a:moveTo>
                  <a:pt x="6310" y="3123"/>
                </a:moveTo>
                <a:lnTo>
                  <a:pt x="6429" y="3162"/>
                </a:lnTo>
                <a:lnTo>
                  <a:pt x="6400" y="3312"/>
                </a:lnTo>
                <a:lnTo>
                  <a:pt x="6251" y="3281"/>
                </a:lnTo>
                <a:lnTo>
                  <a:pt x="6310" y="3123"/>
                </a:lnTo>
                <a:close/>
                <a:moveTo>
                  <a:pt x="9262" y="1869"/>
                </a:moveTo>
                <a:lnTo>
                  <a:pt x="9341" y="1869"/>
                </a:lnTo>
                <a:lnTo>
                  <a:pt x="9401" y="1939"/>
                </a:lnTo>
                <a:lnTo>
                  <a:pt x="9241" y="2059"/>
                </a:lnTo>
                <a:lnTo>
                  <a:pt x="8864" y="1999"/>
                </a:lnTo>
                <a:lnTo>
                  <a:pt x="9262" y="1869"/>
                </a:lnTo>
                <a:close/>
                <a:moveTo>
                  <a:pt x="10702" y="2864"/>
                </a:moveTo>
                <a:lnTo>
                  <a:pt x="10881" y="2864"/>
                </a:lnTo>
                <a:lnTo>
                  <a:pt x="11060" y="3043"/>
                </a:lnTo>
                <a:lnTo>
                  <a:pt x="10861" y="3003"/>
                </a:lnTo>
                <a:lnTo>
                  <a:pt x="10702" y="2864"/>
                </a:lnTo>
                <a:close/>
                <a:moveTo>
                  <a:pt x="8526" y="8234"/>
                </a:moveTo>
                <a:lnTo>
                  <a:pt x="8646" y="8294"/>
                </a:lnTo>
                <a:lnTo>
                  <a:pt x="8586" y="8463"/>
                </a:lnTo>
                <a:lnTo>
                  <a:pt x="8437" y="8503"/>
                </a:lnTo>
                <a:lnTo>
                  <a:pt x="8417" y="8443"/>
                </a:lnTo>
                <a:lnTo>
                  <a:pt x="8526" y="8234"/>
                </a:lnTo>
                <a:close/>
                <a:moveTo>
                  <a:pt x="8646" y="2198"/>
                </a:moveTo>
                <a:lnTo>
                  <a:pt x="9143" y="2258"/>
                </a:lnTo>
                <a:lnTo>
                  <a:pt x="9699" y="2506"/>
                </a:lnTo>
                <a:lnTo>
                  <a:pt x="10166" y="2904"/>
                </a:lnTo>
                <a:lnTo>
                  <a:pt x="10424" y="3461"/>
                </a:lnTo>
                <a:lnTo>
                  <a:pt x="10464" y="3928"/>
                </a:lnTo>
                <a:lnTo>
                  <a:pt x="10344" y="4325"/>
                </a:lnTo>
                <a:lnTo>
                  <a:pt x="9848" y="4962"/>
                </a:lnTo>
                <a:lnTo>
                  <a:pt x="9380" y="5211"/>
                </a:lnTo>
                <a:lnTo>
                  <a:pt x="7781" y="5629"/>
                </a:lnTo>
                <a:lnTo>
                  <a:pt x="7403" y="5807"/>
                </a:lnTo>
                <a:lnTo>
                  <a:pt x="7185" y="6016"/>
                </a:lnTo>
                <a:lnTo>
                  <a:pt x="7105" y="6185"/>
                </a:lnTo>
                <a:lnTo>
                  <a:pt x="7085" y="6484"/>
                </a:lnTo>
                <a:lnTo>
                  <a:pt x="7185" y="6712"/>
                </a:lnTo>
                <a:lnTo>
                  <a:pt x="7403" y="6931"/>
                </a:lnTo>
                <a:lnTo>
                  <a:pt x="7582" y="7031"/>
                </a:lnTo>
                <a:lnTo>
                  <a:pt x="7582" y="7657"/>
                </a:lnTo>
                <a:lnTo>
                  <a:pt x="6827" y="7329"/>
                </a:lnTo>
                <a:lnTo>
                  <a:pt x="6628" y="7130"/>
                </a:lnTo>
                <a:lnTo>
                  <a:pt x="6459" y="6812"/>
                </a:lnTo>
                <a:lnTo>
                  <a:pt x="6390" y="6245"/>
                </a:lnTo>
                <a:lnTo>
                  <a:pt x="6488" y="5897"/>
                </a:lnTo>
                <a:lnTo>
                  <a:pt x="6628" y="5649"/>
                </a:lnTo>
                <a:lnTo>
                  <a:pt x="6827" y="5449"/>
                </a:lnTo>
                <a:lnTo>
                  <a:pt x="7264" y="5152"/>
                </a:lnTo>
                <a:lnTo>
                  <a:pt x="9063" y="4604"/>
                </a:lnTo>
                <a:lnTo>
                  <a:pt x="9480" y="4325"/>
                </a:lnTo>
                <a:lnTo>
                  <a:pt x="9619" y="4047"/>
                </a:lnTo>
                <a:lnTo>
                  <a:pt x="8605" y="3689"/>
                </a:lnTo>
                <a:lnTo>
                  <a:pt x="8615" y="3550"/>
                </a:lnTo>
                <a:lnTo>
                  <a:pt x="9679" y="3868"/>
                </a:lnTo>
                <a:lnTo>
                  <a:pt x="9679" y="3610"/>
                </a:lnTo>
                <a:lnTo>
                  <a:pt x="9560" y="3262"/>
                </a:lnTo>
                <a:lnTo>
                  <a:pt x="9401" y="3062"/>
                </a:lnTo>
                <a:lnTo>
                  <a:pt x="8646" y="2765"/>
                </a:lnTo>
                <a:lnTo>
                  <a:pt x="8646" y="2198"/>
                </a:lnTo>
                <a:close/>
                <a:moveTo>
                  <a:pt x="8556" y="7369"/>
                </a:moveTo>
                <a:lnTo>
                  <a:pt x="8765" y="7409"/>
                </a:lnTo>
                <a:lnTo>
                  <a:pt x="9262" y="7717"/>
                </a:lnTo>
                <a:lnTo>
                  <a:pt x="9421" y="7946"/>
                </a:lnTo>
                <a:lnTo>
                  <a:pt x="9500" y="8343"/>
                </a:lnTo>
                <a:lnTo>
                  <a:pt x="9421" y="8652"/>
                </a:lnTo>
                <a:lnTo>
                  <a:pt x="9241" y="8890"/>
                </a:lnTo>
                <a:lnTo>
                  <a:pt x="8844" y="9129"/>
                </a:lnTo>
                <a:lnTo>
                  <a:pt x="7890" y="9487"/>
                </a:lnTo>
                <a:lnTo>
                  <a:pt x="7711" y="9646"/>
                </a:lnTo>
                <a:lnTo>
                  <a:pt x="7662" y="10273"/>
                </a:lnTo>
                <a:lnTo>
                  <a:pt x="7403" y="10113"/>
                </a:lnTo>
                <a:lnTo>
                  <a:pt x="7264" y="9706"/>
                </a:lnTo>
                <a:lnTo>
                  <a:pt x="7264" y="9487"/>
                </a:lnTo>
                <a:lnTo>
                  <a:pt x="7453" y="9209"/>
                </a:lnTo>
                <a:lnTo>
                  <a:pt x="7662" y="9069"/>
                </a:lnTo>
                <a:lnTo>
                  <a:pt x="8646" y="8691"/>
                </a:lnTo>
                <a:lnTo>
                  <a:pt x="8844" y="8503"/>
                </a:lnTo>
                <a:lnTo>
                  <a:pt x="8904" y="8263"/>
                </a:lnTo>
                <a:lnTo>
                  <a:pt x="8864" y="8124"/>
                </a:lnTo>
                <a:lnTo>
                  <a:pt x="8744" y="8005"/>
                </a:lnTo>
                <a:lnTo>
                  <a:pt x="8526" y="7905"/>
                </a:lnTo>
                <a:lnTo>
                  <a:pt x="8556" y="7369"/>
                </a:lnTo>
                <a:close/>
                <a:moveTo>
                  <a:pt x="7363" y="6155"/>
                </a:moveTo>
                <a:lnTo>
                  <a:pt x="7582" y="6225"/>
                </a:lnTo>
                <a:lnTo>
                  <a:pt x="7582" y="6693"/>
                </a:lnTo>
                <a:lnTo>
                  <a:pt x="7384" y="6544"/>
                </a:lnTo>
                <a:lnTo>
                  <a:pt x="7324" y="6216"/>
                </a:lnTo>
                <a:lnTo>
                  <a:pt x="7363" y="6155"/>
                </a:lnTo>
                <a:close/>
                <a:moveTo>
                  <a:pt x="8049" y="0"/>
                </a:moveTo>
                <a:lnTo>
                  <a:pt x="8298" y="20"/>
                </a:lnTo>
                <a:lnTo>
                  <a:pt x="8526" y="199"/>
                </a:lnTo>
                <a:lnTo>
                  <a:pt x="8605" y="696"/>
                </a:lnTo>
                <a:lnTo>
                  <a:pt x="8377" y="1224"/>
                </a:lnTo>
                <a:lnTo>
                  <a:pt x="8377" y="4544"/>
                </a:lnTo>
                <a:lnTo>
                  <a:pt x="7771" y="4704"/>
                </a:lnTo>
                <a:lnTo>
                  <a:pt x="7771" y="1441"/>
                </a:lnTo>
                <a:lnTo>
                  <a:pt x="7642" y="547"/>
                </a:lnTo>
                <a:lnTo>
                  <a:pt x="7691" y="358"/>
                </a:lnTo>
                <a:lnTo>
                  <a:pt x="7930" y="39"/>
                </a:lnTo>
                <a:lnTo>
                  <a:pt x="8049" y="0"/>
                </a:lnTo>
                <a:close/>
                <a:moveTo>
                  <a:pt x="7840" y="5867"/>
                </a:moveTo>
                <a:lnTo>
                  <a:pt x="8258" y="5768"/>
                </a:lnTo>
                <a:lnTo>
                  <a:pt x="8258" y="8672"/>
                </a:lnTo>
                <a:lnTo>
                  <a:pt x="7840" y="8761"/>
                </a:lnTo>
                <a:lnTo>
                  <a:pt x="7840" y="5867"/>
                </a:lnTo>
                <a:close/>
                <a:moveTo>
                  <a:pt x="8139" y="9587"/>
                </a:moveTo>
                <a:lnTo>
                  <a:pt x="8198" y="9587"/>
                </a:lnTo>
                <a:lnTo>
                  <a:pt x="8198" y="12580"/>
                </a:lnTo>
                <a:lnTo>
                  <a:pt x="8089" y="12719"/>
                </a:lnTo>
                <a:lnTo>
                  <a:pt x="7890" y="12639"/>
                </a:lnTo>
                <a:lnTo>
                  <a:pt x="7890" y="9735"/>
                </a:lnTo>
                <a:lnTo>
                  <a:pt x="8139" y="9587"/>
                </a:lnTo>
                <a:close/>
                <a:moveTo>
                  <a:pt x="3925" y="1641"/>
                </a:moveTo>
                <a:lnTo>
                  <a:pt x="3686" y="2049"/>
                </a:lnTo>
                <a:lnTo>
                  <a:pt x="2921" y="2864"/>
                </a:lnTo>
                <a:lnTo>
                  <a:pt x="1958" y="3639"/>
                </a:lnTo>
                <a:lnTo>
                  <a:pt x="2485" y="2745"/>
                </a:lnTo>
                <a:lnTo>
                  <a:pt x="2902" y="2258"/>
                </a:lnTo>
                <a:lnTo>
                  <a:pt x="3925" y="1641"/>
                </a:lnTo>
                <a:close/>
                <a:moveTo>
                  <a:pt x="12381" y="1780"/>
                </a:moveTo>
                <a:lnTo>
                  <a:pt x="12640" y="1869"/>
                </a:lnTo>
                <a:lnTo>
                  <a:pt x="12948" y="2059"/>
                </a:lnTo>
                <a:lnTo>
                  <a:pt x="13643" y="2704"/>
                </a:lnTo>
                <a:lnTo>
                  <a:pt x="13892" y="3062"/>
                </a:lnTo>
                <a:lnTo>
                  <a:pt x="14170" y="3689"/>
                </a:lnTo>
                <a:lnTo>
                  <a:pt x="13008" y="2606"/>
                </a:lnTo>
                <a:lnTo>
                  <a:pt x="12381" y="1780"/>
                </a:lnTo>
                <a:close/>
                <a:moveTo>
                  <a:pt x="1699" y="2824"/>
                </a:moveTo>
                <a:lnTo>
                  <a:pt x="1719" y="3202"/>
                </a:lnTo>
                <a:lnTo>
                  <a:pt x="1440" y="4724"/>
                </a:lnTo>
                <a:lnTo>
                  <a:pt x="1719" y="4306"/>
                </a:lnTo>
                <a:lnTo>
                  <a:pt x="2017" y="4008"/>
                </a:lnTo>
                <a:lnTo>
                  <a:pt x="3121" y="3202"/>
                </a:lnTo>
                <a:lnTo>
                  <a:pt x="2802" y="3779"/>
                </a:lnTo>
                <a:lnTo>
                  <a:pt x="1620" y="4892"/>
                </a:lnTo>
                <a:lnTo>
                  <a:pt x="1172" y="5390"/>
                </a:lnTo>
                <a:lnTo>
                  <a:pt x="1172" y="4087"/>
                </a:lnTo>
                <a:lnTo>
                  <a:pt x="1282" y="3570"/>
                </a:lnTo>
                <a:lnTo>
                  <a:pt x="1699" y="2824"/>
                </a:lnTo>
                <a:close/>
                <a:moveTo>
                  <a:pt x="14289" y="2864"/>
                </a:moveTo>
                <a:lnTo>
                  <a:pt x="14449" y="3003"/>
                </a:lnTo>
                <a:lnTo>
                  <a:pt x="14827" y="3660"/>
                </a:lnTo>
                <a:lnTo>
                  <a:pt x="15015" y="4167"/>
                </a:lnTo>
                <a:lnTo>
                  <a:pt x="15015" y="4952"/>
                </a:lnTo>
                <a:lnTo>
                  <a:pt x="14966" y="5529"/>
                </a:lnTo>
                <a:lnTo>
                  <a:pt x="14727" y="5191"/>
                </a:lnTo>
                <a:lnTo>
                  <a:pt x="13504" y="4008"/>
                </a:lnTo>
                <a:lnTo>
                  <a:pt x="13166" y="3461"/>
                </a:lnTo>
                <a:lnTo>
                  <a:pt x="13763" y="3809"/>
                </a:lnTo>
                <a:lnTo>
                  <a:pt x="14191" y="4186"/>
                </a:lnTo>
                <a:lnTo>
                  <a:pt x="14786" y="5012"/>
                </a:lnTo>
                <a:lnTo>
                  <a:pt x="14289" y="2864"/>
                </a:lnTo>
                <a:close/>
                <a:moveTo>
                  <a:pt x="726" y="4206"/>
                </a:moveTo>
                <a:lnTo>
                  <a:pt x="964" y="6792"/>
                </a:lnTo>
                <a:lnTo>
                  <a:pt x="994" y="6773"/>
                </a:lnTo>
                <a:lnTo>
                  <a:pt x="1084" y="6414"/>
                </a:lnTo>
                <a:lnTo>
                  <a:pt x="1461" y="5629"/>
                </a:lnTo>
                <a:lnTo>
                  <a:pt x="2117" y="4833"/>
                </a:lnTo>
                <a:lnTo>
                  <a:pt x="2057" y="5191"/>
                </a:lnTo>
                <a:lnTo>
                  <a:pt x="1859" y="5688"/>
                </a:lnTo>
                <a:lnTo>
                  <a:pt x="1342" y="6484"/>
                </a:lnTo>
                <a:lnTo>
                  <a:pt x="994" y="7409"/>
                </a:lnTo>
                <a:lnTo>
                  <a:pt x="536" y="6155"/>
                </a:lnTo>
                <a:lnTo>
                  <a:pt x="417" y="5608"/>
                </a:lnTo>
                <a:lnTo>
                  <a:pt x="417" y="5022"/>
                </a:lnTo>
                <a:lnTo>
                  <a:pt x="577" y="4445"/>
                </a:lnTo>
                <a:lnTo>
                  <a:pt x="726" y="4206"/>
                </a:lnTo>
                <a:close/>
                <a:moveTo>
                  <a:pt x="15402" y="4206"/>
                </a:moveTo>
                <a:lnTo>
                  <a:pt x="15671" y="5310"/>
                </a:lnTo>
                <a:lnTo>
                  <a:pt x="15671" y="5867"/>
                </a:lnTo>
                <a:lnTo>
                  <a:pt x="15214" y="7479"/>
                </a:lnTo>
                <a:lnTo>
                  <a:pt x="14966" y="6812"/>
                </a:lnTo>
                <a:lnTo>
                  <a:pt x="14389" y="5967"/>
                </a:lnTo>
                <a:lnTo>
                  <a:pt x="14081" y="5430"/>
                </a:lnTo>
                <a:lnTo>
                  <a:pt x="13962" y="4902"/>
                </a:lnTo>
                <a:lnTo>
                  <a:pt x="14528" y="5569"/>
                </a:lnTo>
                <a:lnTo>
                  <a:pt x="15194" y="6851"/>
                </a:lnTo>
                <a:lnTo>
                  <a:pt x="15253" y="6832"/>
                </a:lnTo>
                <a:lnTo>
                  <a:pt x="15253" y="5549"/>
                </a:lnTo>
                <a:lnTo>
                  <a:pt x="15402" y="4206"/>
                </a:lnTo>
                <a:close/>
                <a:moveTo>
                  <a:pt x="0" y="6066"/>
                </a:moveTo>
                <a:lnTo>
                  <a:pt x="278" y="6851"/>
                </a:lnTo>
                <a:lnTo>
                  <a:pt x="1162" y="8830"/>
                </a:lnTo>
                <a:lnTo>
                  <a:pt x="1362" y="7369"/>
                </a:lnTo>
                <a:lnTo>
                  <a:pt x="1620" y="6673"/>
                </a:lnTo>
                <a:lnTo>
                  <a:pt x="1798" y="6484"/>
                </a:lnTo>
                <a:lnTo>
                  <a:pt x="1798" y="7170"/>
                </a:lnTo>
                <a:lnTo>
                  <a:pt x="1421" y="8672"/>
                </a:lnTo>
                <a:lnTo>
                  <a:pt x="1321" y="9377"/>
                </a:lnTo>
                <a:lnTo>
                  <a:pt x="477" y="8234"/>
                </a:lnTo>
                <a:lnTo>
                  <a:pt x="219" y="7766"/>
                </a:lnTo>
                <a:lnTo>
                  <a:pt x="0" y="7031"/>
                </a:lnTo>
                <a:lnTo>
                  <a:pt x="0" y="6066"/>
                </a:lnTo>
                <a:close/>
                <a:moveTo>
                  <a:pt x="16048" y="6335"/>
                </a:moveTo>
                <a:lnTo>
                  <a:pt x="16128" y="6892"/>
                </a:lnTo>
                <a:lnTo>
                  <a:pt x="16048" y="7409"/>
                </a:lnTo>
                <a:lnTo>
                  <a:pt x="15909" y="7827"/>
                </a:lnTo>
                <a:lnTo>
                  <a:pt x="14667" y="9706"/>
                </a:lnTo>
                <a:lnTo>
                  <a:pt x="14667" y="9109"/>
                </a:lnTo>
                <a:lnTo>
                  <a:pt x="14310" y="7329"/>
                </a:lnTo>
                <a:lnTo>
                  <a:pt x="14310" y="6484"/>
                </a:lnTo>
                <a:lnTo>
                  <a:pt x="14707" y="7488"/>
                </a:lnTo>
                <a:lnTo>
                  <a:pt x="14886" y="8433"/>
                </a:lnTo>
                <a:lnTo>
                  <a:pt x="14886" y="9029"/>
                </a:lnTo>
                <a:lnTo>
                  <a:pt x="16048" y="6335"/>
                </a:lnTo>
                <a:close/>
                <a:moveTo>
                  <a:pt x="0" y="8324"/>
                </a:moveTo>
                <a:lnTo>
                  <a:pt x="1679" y="10551"/>
                </a:lnTo>
                <a:lnTo>
                  <a:pt x="1679" y="9149"/>
                </a:lnTo>
                <a:lnTo>
                  <a:pt x="1839" y="8343"/>
                </a:lnTo>
                <a:lnTo>
                  <a:pt x="2017" y="8910"/>
                </a:lnTo>
                <a:lnTo>
                  <a:pt x="2076" y="9765"/>
                </a:lnTo>
                <a:lnTo>
                  <a:pt x="2076" y="10820"/>
                </a:lnTo>
                <a:lnTo>
                  <a:pt x="2176" y="11287"/>
                </a:lnTo>
                <a:lnTo>
                  <a:pt x="1540" y="10820"/>
                </a:lnTo>
                <a:lnTo>
                  <a:pt x="855" y="10153"/>
                </a:lnTo>
                <a:lnTo>
                  <a:pt x="298" y="9328"/>
                </a:lnTo>
                <a:lnTo>
                  <a:pt x="0" y="8324"/>
                </a:lnTo>
                <a:close/>
                <a:moveTo>
                  <a:pt x="14130" y="8383"/>
                </a:moveTo>
                <a:lnTo>
                  <a:pt x="14349" y="10034"/>
                </a:lnTo>
                <a:lnTo>
                  <a:pt x="14230" y="10730"/>
                </a:lnTo>
                <a:lnTo>
                  <a:pt x="14330" y="10670"/>
                </a:lnTo>
                <a:lnTo>
                  <a:pt x="14747" y="10034"/>
                </a:lnTo>
                <a:lnTo>
                  <a:pt x="15870" y="8672"/>
                </a:lnTo>
                <a:lnTo>
                  <a:pt x="15770" y="9188"/>
                </a:lnTo>
                <a:lnTo>
                  <a:pt x="15343" y="9994"/>
                </a:lnTo>
                <a:lnTo>
                  <a:pt x="14886" y="10511"/>
                </a:lnTo>
                <a:lnTo>
                  <a:pt x="13753" y="11466"/>
                </a:lnTo>
                <a:lnTo>
                  <a:pt x="13952" y="10531"/>
                </a:lnTo>
                <a:lnTo>
                  <a:pt x="13952" y="8851"/>
                </a:lnTo>
                <a:lnTo>
                  <a:pt x="14130" y="8383"/>
                </a:lnTo>
                <a:close/>
                <a:moveTo>
                  <a:pt x="2405" y="9905"/>
                </a:moveTo>
                <a:lnTo>
                  <a:pt x="2763" y="10571"/>
                </a:lnTo>
                <a:lnTo>
                  <a:pt x="3240" y="12172"/>
                </a:lnTo>
                <a:lnTo>
                  <a:pt x="3557" y="12789"/>
                </a:lnTo>
                <a:lnTo>
                  <a:pt x="2405" y="12351"/>
                </a:lnTo>
                <a:lnTo>
                  <a:pt x="1600" y="11933"/>
                </a:lnTo>
                <a:lnTo>
                  <a:pt x="984" y="11397"/>
                </a:lnTo>
                <a:lnTo>
                  <a:pt x="726" y="11028"/>
                </a:lnTo>
                <a:lnTo>
                  <a:pt x="457" y="10492"/>
                </a:lnTo>
                <a:lnTo>
                  <a:pt x="1053" y="10969"/>
                </a:lnTo>
                <a:lnTo>
                  <a:pt x="1978" y="11516"/>
                </a:lnTo>
                <a:lnTo>
                  <a:pt x="3001" y="12271"/>
                </a:lnTo>
                <a:lnTo>
                  <a:pt x="2524" y="11108"/>
                </a:lnTo>
                <a:lnTo>
                  <a:pt x="2405" y="10690"/>
                </a:lnTo>
                <a:lnTo>
                  <a:pt x="2405" y="9905"/>
                </a:lnTo>
                <a:close/>
                <a:moveTo>
                  <a:pt x="13544" y="9964"/>
                </a:moveTo>
                <a:lnTo>
                  <a:pt x="13544" y="10372"/>
                </a:lnTo>
                <a:lnTo>
                  <a:pt x="13346" y="11456"/>
                </a:lnTo>
                <a:lnTo>
                  <a:pt x="12968" y="12351"/>
                </a:lnTo>
                <a:lnTo>
                  <a:pt x="13326" y="12172"/>
                </a:lnTo>
                <a:lnTo>
                  <a:pt x="15314" y="10820"/>
                </a:lnTo>
                <a:lnTo>
                  <a:pt x="15551" y="10591"/>
                </a:lnTo>
                <a:lnTo>
                  <a:pt x="15194" y="11287"/>
                </a:lnTo>
                <a:lnTo>
                  <a:pt x="14786" y="11714"/>
                </a:lnTo>
                <a:lnTo>
                  <a:pt x="13763" y="12291"/>
                </a:lnTo>
                <a:lnTo>
                  <a:pt x="12282" y="12918"/>
                </a:lnTo>
                <a:lnTo>
                  <a:pt x="12700" y="12113"/>
                </a:lnTo>
                <a:lnTo>
                  <a:pt x="13107" y="10730"/>
                </a:lnTo>
                <a:lnTo>
                  <a:pt x="13544" y="9964"/>
                </a:lnTo>
                <a:close/>
                <a:moveTo>
                  <a:pt x="12610" y="11257"/>
                </a:moveTo>
                <a:lnTo>
                  <a:pt x="12442" y="11814"/>
                </a:lnTo>
                <a:lnTo>
                  <a:pt x="12004" y="12699"/>
                </a:lnTo>
                <a:lnTo>
                  <a:pt x="11567" y="13435"/>
                </a:lnTo>
                <a:lnTo>
                  <a:pt x="13465" y="12958"/>
                </a:lnTo>
                <a:lnTo>
                  <a:pt x="13952" y="12778"/>
                </a:lnTo>
                <a:lnTo>
                  <a:pt x="14766" y="12291"/>
                </a:lnTo>
                <a:lnTo>
                  <a:pt x="14608" y="12610"/>
                </a:lnTo>
                <a:lnTo>
                  <a:pt x="14310" y="12918"/>
                </a:lnTo>
                <a:lnTo>
                  <a:pt x="13485" y="13405"/>
                </a:lnTo>
                <a:lnTo>
                  <a:pt x="12610" y="13663"/>
                </a:lnTo>
                <a:lnTo>
                  <a:pt x="10990" y="13663"/>
                </a:lnTo>
                <a:lnTo>
                  <a:pt x="11199" y="13376"/>
                </a:lnTo>
                <a:lnTo>
                  <a:pt x="12044" y="11794"/>
                </a:lnTo>
                <a:lnTo>
                  <a:pt x="12610" y="11257"/>
                </a:lnTo>
                <a:close/>
                <a:moveTo>
                  <a:pt x="3379" y="11337"/>
                </a:moveTo>
                <a:lnTo>
                  <a:pt x="3727" y="11635"/>
                </a:lnTo>
                <a:lnTo>
                  <a:pt x="4283" y="12580"/>
                </a:lnTo>
                <a:lnTo>
                  <a:pt x="4819" y="13703"/>
                </a:lnTo>
                <a:lnTo>
                  <a:pt x="3319" y="13554"/>
                </a:lnTo>
                <a:lnTo>
                  <a:pt x="2604" y="13355"/>
                </a:lnTo>
                <a:lnTo>
                  <a:pt x="2107" y="13137"/>
                </a:lnTo>
                <a:lnTo>
                  <a:pt x="1679" y="12838"/>
                </a:lnTo>
                <a:lnTo>
                  <a:pt x="1262" y="12291"/>
                </a:lnTo>
                <a:lnTo>
                  <a:pt x="1998" y="12639"/>
                </a:lnTo>
                <a:lnTo>
                  <a:pt x="3021" y="12918"/>
                </a:lnTo>
                <a:lnTo>
                  <a:pt x="4461" y="13415"/>
                </a:lnTo>
                <a:lnTo>
                  <a:pt x="3925" y="12639"/>
                </a:lnTo>
                <a:lnTo>
                  <a:pt x="3488" y="11755"/>
                </a:lnTo>
                <a:lnTo>
                  <a:pt x="3379" y="11337"/>
                </a:lnTo>
                <a:close/>
                <a:moveTo>
                  <a:pt x="6141" y="13614"/>
                </a:moveTo>
                <a:lnTo>
                  <a:pt x="6768" y="13614"/>
                </a:lnTo>
                <a:lnTo>
                  <a:pt x="7582" y="13853"/>
                </a:lnTo>
                <a:lnTo>
                  <a:pt x="7125" y="14181"/>
                </a:lnTo>
                <a:lnTo>
                  <a:pt x="6578" y="14221"/>
                </a:lnTo>
                <a:lnTo>
                  <a:pt x="4760" y="14539"/>
                </a:lnTo>
                <a:lnTo>
                  <a:pt x="3925" y="14539"/>
                </a:lnTo>
                <a:lnTo>
                  <a:pt x="3220" y="14320"/>
                </a:lnTo>
                <a:lnTo>
                  <a:pt x="2643" y="13932"/>
                </a:lnTo>
                <a:lnTo>
                  <a:pt x="3180" y="14101"/>
                </a:lnTo>
                <a:lnTo>
                  <a:pt x="4025" y="14101"/>
                </a:lnTo>
                <a:lnTo>
                  <a:pt x="4363" y="14082"/>
                </a:lnTo>
                <a:lnTo>
                  <a:pt x="5445" y="13733"/>
                </a:lnTo>
                <a:lnTo>
                  <a:pt x="6141" y="13614"/>
                </a:lnTo>
                <a:close/>
                <a:moveTo>
                  <a:pt x="9162" y="13703"/>
                </a:moveTo>
                <a:lnTo>
                  <a:pt x="9867" y="13703"/>
                </a:lnTo>
                <a:lnTo>
                  <a:pt x="11587" y="14062"/>
                </a:lnTo>
                <a:lnTo>
                  <a:pt x="12372" y="14141"/>
                </a:lnTo>
                <a:lnTo>
                  <a:pt x="12809" y="14101"/>
                </a:lnTo>
                <a:lnTo>
                  <a:pt x="13365" y="13922"/>
                </a:lnTo>
                <a:lnTo>
                  <a:pt x="13246" y="14041"/>
                </a:lnTo>
                <a:lnTo>
                  <a:pt x="12401" y="14459"/>
                </a:lnTo>
                <a:lnTo>
                  <a:pt x="11448" y="14618"/>
                </a:lnTo>
                <a:lnTo>
                  <a:pt x="10782" y="14539"/>
                </a:lnTo>
                <a:lnTo>
                  <a:pt x="9182" y="14181"/>
                </a:lnTo>
                <a:lnTo>
                  <a:pt x="8377" y="14181"/>
                </a:lnTo>
                <a:lnTo>
                  <a:pt x="7930" y="14280"/>
                </a:lnTo>
                <a:lnTo>
                  <a:pt x="7284" y="14559"/>
                </a:lnTo>
                <a:lnTo>
                  <a:pt x="6946" y="14797"/>
                </a:lnTo>
                <a:lnTo>
                  <a:pt x="6390" y="15384"/>
                </a:lnTo>
                <a:lnTo>
                  <a:pt x="6132" y="15205"/>
                </a:lnTo>
                <a:lnTo>
                  <a:pt x="6429" y="14907"/>
                </a:lnTo>
                <a:lnTo>
                  <a:pt x="7602" y="14111"/>
                </a:lnTo>
                <a:lnTo>
                  <a:pt x="8526" y="13783"/>
                </a:lnTo>
                <a:lnTo>
                  <a:pt x="9162" y="13703"/>
                </a:lnTo>
                <a:close/>
                <a:moveTo>
                  <a:pt x="8744" y="14360"/>
                </a:moveTo>
                <a:lnTo>
                  <a:pt x="9788" y="15265"/>
                </a:lnTo>
                <a:lnTo>
                  <a:pt x="9818" y="15345"/>
                </a:lnTo>
                <a:lnTo>
                  <a:pt x="9550" y="15384"/>
                </a:lnTo>
                <a:lnTo>
                  <a:pt x="8486" y="14439"/>
                </a:lnTo>
                <a:lnTo>
                  <a:pt x="8744" y="143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3520" y="3533760"/>
            <a:ext cx="1877760" cy="68724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2819520" y="1676520"/>
            <a:ext cx="4876560" cy="4266720"/>
            <a:chOff x="2819520" y="1676520"/>
            <a:chExt cx="4876560" cy="4266720"/>
          </a:xfrm>
        </p:grpSpPr>
        <p:graphicFrame>
          <p:nvGraphicFramePr>
            <p:cNvPr id="45" name=""/>
            <p:cNvGraphicFramePr/>
            <p:nvPr/>
          </p:nvGraphicFramePr>
          <p:xfrm>
            <a:off x="2819520" y="2435760"/>
            <a:ext cx="4876560" cy="350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2435760"/>
                      <a:ext cx="4876560" cy="350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7" name=""/>
            <p:cNvGrpSpPr/>
            <p:nvPr/>
          </p:nvGrpSpPr>
          <p:grpSpPr>
            <a:xfrm>
              <a:off x="3385440" y="1676520"/>
              <a:ext cx="3812400" cy="3922560"/>
              <a:chOff x="3385440" y="1676520"/>
              <a:chExt cx="3812400" cy="3922560"/>
            </a:xfrm>
          </p:grpSpPr>
          <p:graphicFrame>
            <p:nvGraphicFramePr>
              <p:cNvPr id="48" name=""/>
              <p:cNvGraphicFramePr/>
              <p:nvPr/>
            </p:nvGraphicFramePr>
            <p:xfrm>
              <a:off x="3385440" y="4566240"/>
              <a:ext cx="1002960" cy="10328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9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385440" y="4566240"/>
                        <a:ext cx="1002960" cy="103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0" name=""/>
              <p:cNvGraphicFramePr/>
              <p:nvPr/>
            </p:nvGraphicFramePr>
            <p:xfrm>
              <a:off x="4082040" y="3637800"/>
              <a:ext cx="631080" cy="8172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5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082040" y="3637800"/>
                        <a:ext cx="631080" cy="81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2" name=""/>
              <p:cNvGraphicFramePr/>
              <p:nvPr/>
            </p:nvGraphicFramePr>
            <p:xfrm>
              <a:off x="5043600" y="3092760"/>
              <a:ext cx="499680" cy="13622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53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043600" y="3092760"/>
                        <a:ext cx="499680" cy="1362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4" name=""/>
              <p:cNvGraphicFramePr/>
              <p:nvPr/>
            </p:nvGraphicFramePr>
            <p:xfrm>
              <a:off x="5894640" y="2874960"/>
              <a:ext cx="511560" cy="20703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55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894640" y="2874960"/>
                        <a:ext cx="511560" cy="2070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6" name=""/>
              <p:cNvGraphicFramePr/>
              <p:nvPr/>
            </p:nvGraphicFramePr>
            <p:xfrm>
              <a:off x="6520320" y="1676520"/>
              <a:ext cx="677520" cy="15105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57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520320" y="1676520"/>
                        <a:ext cx="677520" cy="1510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228600" y="933480"/>
            <a:ext cx="8763120" cy="5513400"/>
            <a:chOff x="228600" y="933480"/>
            <a:chExt cx="8763120" cy="551340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228600" y="933480"/>
              <a:ext cx="8763120" cy="551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280" y="1147320"/>
              <a:ext cx="8465400" cy="67284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Estudio multicéntrico de la OMS sobre el patrón de crecimiento (EMPC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627280" y="0"/>
            <a:ext cx="4105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00000"/>
                </a:solidFill>
                <a:latin typeface="Times New Roman"/>
              </a:rPr>
              <a:t>¿Dónde ?</a:t>
            </a:r>
            <a:r>
              <a:rPr b="1" lang="es-ES_tradnl" sz="40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1830240"/>
            <a:ext cx="8381880" cy="37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Ausencia de condiciones de salud, ambientales o económicas que limiten el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Madre dispuesta a seguir las recomendaciones de alimentación según 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Recién nacido a tér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Embarazo ún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Ausencia de morbilidad perinatal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Madre no fumadora (ni antes ni después del par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89000"/>
            <a:ext cx="91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4400" spc="-1" strike="noStrike">
                <a:solidFill>
                  <a:srgbClr val="000000"/>
                </a:solidFill>
                <a:latin typeface="Times New Roman"/>
              </a:rPr>
              <a:t>¿Quienes? Criterios de sele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4400" spc="-1" strike="noStrike">
                <a:solidFill>
                  <a:srgbClr val="000000"/>
                </a:solidFill>
                <a:latin typeface="Times New Roman"/>
              </a:rPr>
              <a:t>de las famil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33520" y="6095880"/>
            <a:ext cx="8912160" cy="504720"/>
            <a:chOff x="533520" y="6095880"/>
            <a:chExt cx="8912160" cy="504720"/>
          </a:xfrm>
        </p:grpSpPr>
        <p:sp>
          <p:nvSpPr>
            <p:cNvPr id="111" name=""/>
            <p:cNvSpPr/>
            <p:nvPr/>
          </p:nvSpPr>
          <p:spPr>
            <a:xfrm>
              <a:off x="533520" y="6095880"/>
              <a:ext cx="50796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62000" y="6167520"/>
              <a:ext cx="8383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</a:t>
              </a: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25760" y="2819520"/>
            <a:ext cx="596088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13320" y="2743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21400" y="2743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2576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8664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66840" y="29718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ñ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9040" y="297180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2971800"/>
            <a:ext cx="12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41680" y="2209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Longitudinal (0-24 m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73520" y="4724280"/>
            <a:ext cx="291312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403848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versal (18-71 m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73520" y="4572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86640" y="4648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86640" y="4572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20640"/>
            <a:ext cx="93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ff"/>
                </a:solidFill>
                <a:latin typeface="Times New Roman"/>
              </a:rPr>
              <a:t>Diseño del estudio</a:t>
            </a:r>
            <a:r>
              <a:rPr b="1" lang="en-GB" sz="44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28600" y="5638680"/>
            <a:ext cx="8378640" cy="892080"/>
            <a:chOff x="228600" y="5638680"/>
            <a:chExt cx="8378640" cy="892080"/>
          </a:xfrm>
        </p:grpSpPr>
        <p:sp>
          <p:nvSpPr>
            <p:cNvPr id="129" name=""/>
            <p:cNvSpPr/>
            <p:nvPr/>
          </p:nvSpPr>
          <p:spPr>
            <a:xfrm>
              <a:off x="228600" y="5638680"/>
              <a:ext cx="47736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5400" y="5710320"/>
              <a:ext cx="7881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studio multicéntrico de la OMS sobre el patrón de crecimien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4000" y="3068640"/>
            <a:ext cx="1431720" cy="1728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475000" y="4618080"/>
            <a:ext cx="159228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89000"/>
            <a:ext cx="91440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alendario de med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tropométric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78000" y="1916280"/>
          <a:ext cx="8170560" cy="4136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" y="1916280"/>
                    <a:ext cx="8170560" cy="41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6" name=""/>
          <p:cNvGrpSpPr/>
          <p:nvPr/>
        </p:nvGrpSpPr>
        <p:grpSpPr>
          <a:xfrm>
            <a:off x="457200" y="5867280"/>
            <a:ext cx="7921440" cy="504720"/>
            <a:chOff x="457200" y="5867280"/>
            <a:chExt cx="7921440" cy="504720"/>
          </a:xfrm>
        </p:grpSpPr>
        <p:sp>
          <p:nvSpPr>
            <p:cNvPr id="137" name=""/>
            <p:cNvSpPr/>
            <p:nvPr/>
          </p:nvSpPr>
          <p:spPr>
            <a:xfrm>
              <a:off x="457200" y="586728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6640" y="593892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1828800"/>
            <a:ext cx="8839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Muestra total de 8.440 niños combinan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cohortes de </a:t>
            </a:r>
            <a:r>
              <a:rPr b="1" lang="es-VE" sz="32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 300 recién nacidos por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1400 niños de 18 a 71 meses por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Tamaño mínimo de la muestra para elaborar el patrón de crecimiento: 400 de ambos sex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49360"/>
            <a:ext cx="1028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amaño de la mues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4920" y="5943600"/>
            <a:ext cx="9568800" cy="504720"/>
            <a:chOff x="304920" y="5943600"/>
            <a:chExt cx="9568800" cy="504720"/>
          </a:xfrm>
        </p:grpSpPr>
        <p:sp>
          <p:nvSpPr>
            <p:cNvPr id="142" name=""/>
            <p:cNvSpPr/>
            <p:nvPr/>
          </p:nvSpPr>
          <p:spPr>
            <a:xfrm>
              <a:off x="304920" y="5943600"/>
              <a:ext cx="54540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72280" y="6015240"/>
              <a:ext cx="9001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04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4800" spc="-1" strike="noStrike">
                <a:solidFill>
                  <a:srgbClr val="000000"/>
                </a:solidFill>
                <a:latin typeface="Times New Roman"/>
              </a:rPr>
              <a:t>Evaluación del desarrollo mo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44960" y="2057400"/>
            <a:ext cx="3691080" cy="28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PA" sz="3200" spc="-1" strike="noStrike">
                <a:solidFill>
                  <a:srgbClr val="333399"/>
                </a:solidFill>
                <a:latin typeface="Times New Roman"/>
              </a:rPr>
              <a:t>Seis hitos motores gruesos desde los 4 hasta los </a:t>
            </a:r>
            <a:r>
              <a:rPr b="1" lang="es-PA" sz="32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1" lang="es-PA" sz="3200" spc="-1" strike="noStrike">
                <a:solidFill>
                  <a:srgbClr val="333399"/>
                </a:solidFill>
                <a:latin typeface="Times New Roman"/>
              </a:rPr>
              <a:t> 18 meses de eda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322280" y="1790640"/>
            <a:ext cx="3465720" cy="3799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87480" y="5715000"/>
            <a:ext cx="73436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01640" y="6134040"/>
            <a:ext cx="7921440" cy="504720"/>
            <a:chOff x="701640" y="6134040"/>
            <a:chExt cx="7921440" cy="504720"/>
          </a:xfrm>
        </p:grpSpPr>
        <p:sp>
          <p:nvSpPr>
            <p:cNvPr id="149" name=""/>
            <p:cNvSpPr/>
            <p:nvPr/>
          </p:nvSpPr>
          <p:spPr>
            <a:xfrm>
              <a:off x="701640" y="613404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71080" y="620568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514440" y="5257800"/>
          <a:ext cx="936360" cy="12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440" y="5257800"/>
                    <a:ext cx="93636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523880" y="5105520"/>
          <a:ext cx="1752840" cy="104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5105520"/>
                    <a:ext cx="17528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276720" y="4724280"/>
          <a:ext cx="1041120" cy="1420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76720" y="4724280"/>
                    <a:ext cx="104112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267080" y="4495680"/>
          <a:ext cx="1501920" cy="1441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67080" y="4495680"/>
                    <a:ext cx="150192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715000" y="4114800"/>
          <a:ext cx="1158840" cy="1731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15000" y="4114800"/>
                    <a:ext cx="115884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7086600" y="3733920"/>
          <a:ext cx="1192320" cy="207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086600" y="3733920"/>
                    <a:ext cx="119232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0" y="152280"/>
            <a:ext cx="9144000" cy="13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valuación del desarrollo mo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80988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entarse sin apo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297180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Gatear sobre manos y  rodi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2971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Levantarse si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23623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Caminar si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2362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star de pie s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1873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Caminar so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106668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Pruebas pilot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Formularios previamente estandarizados y prob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Guías detalladas para los entrevist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</a:t>
            </a: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elección y capacitación cuidadosa del perso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Visitas regulares a los sitios del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Capacitación por expertos internacionale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Estandarización: confiabilidad intraobservador e interobserv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Equipo de medición de diseño especial, calibraciones frecu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Mediciones independientes por dos observadores estandar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Repetición por teléfono del 10% de las entrevis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Food and Nutrition Bulletin 2004; 25: supplemen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01640" y="6276960"/>
            <a:ext cx="7921440" cy="504720"/>
            <a:chOff x="701640" y="6276960"/>
            <a:chExt cx="7921440" cy="504720"/>
          </a:xfrm>
        </p:grpSpPr>
        <p:sp>
          <p:nvSpPr>
            <p:cNvPr id="173" name=""/>
            <p:cNvSpPr/>
            <p:nvPr/>
          </p:nvSpPr>
          <p:spPr>
            <a:xfrm>
              <a:off x="701640" y="627696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71080" y="634860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1752480"/>
            <a:ext cx="868680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Enfoque prescriptivo que reconoce la necesidad de n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Lactantes alimentados con lactancia natural como modelo norm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Muestra inter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Datos de referencia sobre la velocidad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Mejores datos de referencia para evaluar obe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Vínculo entre el crecimiento físico y el desarrollo motor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60280"/>
            <a:ext cx="91440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Nueva referencia de crec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infantil: aspectos innova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89120" y="6093000"/>
            <a:ext cx="8912160" cy="504720"/>
            <a:chOff x="789120" y="6093000"/>
            <a:chExt cx="8912160" cy="504720"/>
          </a:xfrm>
        </p:grpSpPr>
        <p:sp>
          <p:nvSpPr>
            <p:cNvPr id="178" name=""/>
            <p:cNvSpPr/>
            <p:nvPr/>
          </p:nvSpPr>
          <p:spPr>
            <a:xfrm>
              <a:off x="789120" y="6093000"/>
              <a:ext cx="50796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17600" y="6164640"/>
              <a:ext cx="8383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</a:t>
              </a: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3520" y="457200"/>
            <a:ext cx="807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eso-edad &lt; – 2 DE en relación a la referencia NCHS y OMS 2006 según 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100.000 niños de encuestas de LM y JUNJ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752480"/>
          <a:ext cx="8315280" cy="432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152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98480" y="571680"/>
            <a:ext cx="912204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320" y="266760"/>
            <a:ext cx="91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99cc00"/>
                </a:solidFill>
                <a:latin typeface="Times New Roman"/>
              </a:rPr>
              <a:t>   </a:t>
            </a: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Referencias para el crecimiento infantil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85800" y="5816520"/>
            <a:ext cx="8889480" cy="1038600"/>
            <a:chOff x="685800" y="5816520"/>
            <a:chExt cx="8889480" cy="1038600"/>
          </a:xfrm>
        </p:grpSpPr>
        <p:sp>
          <p:nvSpPr>
            <p:cNvPr id="61" name=""/>
            <p:cNvSpPr/>
            <p:nvPr/>
          </p:nvSpPr>
          <p:spPr>
            <a:xfrm>
              <a:off x="685800" y="5816520"/>
              <a:ext cx="506520" cy="6811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12840" y="5913000"/>
              <a:ext cx="83624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800" spc="-1" strike="noStrike">
                  <a:solidFill>
                    <a:srgbClr val="333399"/>
                  </a:solidFill>
                  <a:latin typeface="Times New Roman"/>
                </a:rPr>
                <a:t>Estudio multicéntrico de la OMS sobre el patrón de crecimiento</a:t>
              </a:r>
              <a:r>
                <a:rPr b="0" lang="en-GB" sz="28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24000" y="457200"/>
            <a:ext cx="7893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29240" y="5307120"/>
            <a:ext cx="2890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523880"/>
            <a:ext cx="8058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Desde 1993 se usa en Chile el National Center for Health Statistics de EEUU de 197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Esta referencia fue recomendadas por la OMS para uso internacional (NCHS/OM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El 2000 hubo una nueva propuesta del NC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Existen diferentes referencias nacionales o internacion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666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Talla-edad &lt; – 2 DE en relación a la referencia NCHS y OMS 2006 según 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752480"/>
          <a:ext cx="8315280" cy="432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152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666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eso-Talla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&gt; 2 DE en relación a la referencia NCHS y OMS 2006 según 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752480"/>
          <a:ext cx="8315280" cy="432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152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990720"/>
            <a:ext cx="8145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Elaboración de las referencias de crecimiento y desarrol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Evaluación sobre el terreno de las referencias proviso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Desarrollo de un </a:t>
            </a:r>
            <a:r>
              <a:rPr b="0" i="1" lang="es-PE" sz="2400" spc="-1" strike="noStrike">
                <a:solidFill>
                  <a:srgbClr val="333399"/>
                </a:solidFill>
                <a:latin typeface="Times New Roman"/>
              </a:rPr>
              <a:t>software </a:t>
            </a: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para facilitar la utilización del nuevo patrón a nivel clínico y de salud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Módulos de capacitación para orientar su uso aprop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Revisión de intervenciones para prevenir/tratar las alteraciones del crecimiento infantil (por exceso y por defec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Elaborar una estrategia de aplicación del nuevo patrón a nivel mundial y 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5867280"/>
            <a:ext cx="31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OMS, Departamento de Nutr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¿Próximos pasos? (2005-201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838080"/>
            <a:ext cx="845028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NCHS o la nueva referencia internaciona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ién deci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é efectos produce en la prevalencia de desnutrición u obesida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En cuanto debe cambiar la educación sobre alimenta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Cómo y a quién capacita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é material de apoyo educativo se requier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é estrategia es más adecuada para la aplicación de la nueva referencia a nivel naci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Norma o referenci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Cómo evaluar a los niños con lactancia artifi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¿Desafíos a nivel de cada país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Temas de discu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P/T vs IMC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Grupo de 5 a 6 año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esv st vs percenti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Gráficas o tabla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Normativa especialmente en el grupo con LME y con lactancia artificial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Capacitación equipos de salud, pediatras todos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ifusión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Otro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052800" y="762120"/>
            <a:ext cx="3038400" cy="44956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143000" cy="996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6629400" y="457200"/>
            <a:ext cx="2152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RACIA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310320" y="5638680"/>
            <a:ext cx="2393640" cy="825480"/>
          </a:xfrm>
          <a:prstGeom prst="rect">
            <a:avLst/>
          </a:pr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minsal.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80"/>
                </a:solidFill>
                <a:latin typeface="Times New Roman"/>
              </a:rPr>
              <a:t>sección nut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2590920" y="1981080"/>
          <a:ext cx="4086000" cy="394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981080"/>
                    <a:ext cx="4086000" cy="39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79320" y="6093000"/>
            <a:ext cx="9607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Organización Mundial de la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22600" y="6093000"/>
            <a:ext cx="609480" cy="580680"/>
          </a:xfrm>
          <a:custGeom>
            <a:avLst/>
            <a:gdLst/>
            <a:ahLst/>
            <a:rect l="l" t="t" r="r" b="b"/>
            <a:pathLst>
              <a:path w="16128" h="15384">
                <a:moveTo>
                  <a:pt x="7403" y="1183"/>
                </a:moveTo>
                <a:lnTo>
                  <a:pt x="7463" y="1203"/>
                </a:lnTo>
                <a:lnTo>
                  <a:pt x="7463" y="1422"/>
                </a:lnTo>
                <a:lnTo>
                  <a:pt x="6966" y="1502"/>
                </a:lnTo>
                <a:lnTo>
                  <a:pt x="5903" y="1820"/>
                </a:lnTo>
                <a:lnTo>
                  <a:pt x="5068" y="2258"/>
                </a:lnTo>
                <a:lnTo>
                  <a:pt x="4402" y="2765"/>
                </a:lnTo>
                <a:lnTo>
                  <a:pt x="4084" y="3083"/>
                </a:lnTo>
                <a:lnTo>
                  <a:pt x="4720" y="3769"/>
                </a:lnTo>
                <a:lnTo>
                  <a:pt x="4780" y="3769"/>
                </a:lnTo>
                <a:lnTo>
                  <a:pt x="5326" y="3312"/>
                </a:lnTo>
                <a:lnTo>
                  <a:pt x="5962" y="2904"/>
                </a:lnTo>
                <a:lnTo>
                  <a:pt x="6578" y="2626"/>
                </a:lnTo>
                <a:lnTo>
                  <a:pt x="7513" y="2337"/>
                </a:lnTo>
                <a:lnTo>
                  <a:pt x="7513" y="2923"/>
                </a:lnTo>
                <a:lnTo>
                  <a:pt x="7343" y="3003"/>
                </a:lnTo>
                <a:lnTo>
                  <a:pt x="6768" y="3510"/>
                </a:lnTo>
                <a:lnTo>
                  <a:pt x="5823" y="4108"/>
                </a:lnTo>
                <a:lnTo>
                  <a:pt x="5645" y="4108"/>
                </a:lnTo>
                <a:lnTo>
                  <a:pt x="5565" y="4167"/>
                </a:lnTo>
                <a:lnTo>
                  <a:pt x="5426" y="4505"/>
                </a:lnTo>
                <a:lnTo>
                  <a:pt x="5525" y="4525"/>
                </a:lnTo>
                <a:lnTo>
                  <a:pt x="5982" y="4147"/>
                </a:lnTo>
                <a:lnTo>
                  <a:pt x="6628" y="3779"/>
                </a:lnTo>
                <a:lnTo>
                  <a:pt x="7523" y="3550"/>
                </a:lnTo>
                <a:lnTo>
                  <a:pt x="7523" y="3660"/>
                </a:lnTo>
                <a:lnTo>
                  <a:pt x="7046" y="3769"/>
                </a:lnTo>
                <a:lnTo>
                  <a:pt x="6400" y="4028"/>
                </a:lnTo>
                <a:lnTo>
                  <a:pt x="6042" y="4247"/>
                </a:lnTo>
                <a:lnTo>
                  <a:pt x="5604" y="4624"/>
                </a:lnTo>
                <a:lnTo>
                  <a:pt x="5625" y="4704"/>
                </a:lnTo>
                <a:lnTo>
                  <a:pt x="6370" y="5449"/>
                </a:lnTo>
                <a:lnTo>
                  <a:pt x="6866" y="5131"/>
                </a:lnTo>
                <a:lnTo>
                  <a:pt x="6887" y="5211"/>
                </a:lnTo>
                <a:lnTo>
                  <a:pt x="6330" y="5668"/>
                </a:lnTo>
                <a:lnTo>
                  <a:pt x="5903" y="6394"/>
                </a:lnTo>
                <a:lnTo>
                  <a:pt x="5863" y="6544"/>
                </a:lnTo>
                <a:lnTo>
                  <a:pt x="6141" y="6414"/>
                </a:lnTo>
                <a:lnTo>
                  <a:pt x="6220" y="6892"/>
                </a:lnTo>
                <a:lnTo>
                  <a:pt x="6370" y="7209"/>
                </a:lnTo>
                <a:lnTo>
                  <a:pt x="6549" y="7458"/>
                </a:lnTo>
                <a:lnTo>
                  <a:pt x="7125" y="7766"/>
                </a:lnTo>
                <a:lnTo>
                  <a:pt x="7006" y="7806"/>
                </a:lnTo>
                <a:lnTo>
                  <a:pt x="6946" y="8124"/>
                </a:lnTo>
                <a:lnTo>
                  <a:pt x="7006" y="8124"/>
                </a:lnTo>
                <a:lnTo>
                  <a:pt x="7165" y="7966"/>
                </a:lnTo>
                <a:lnTo>
                  <a:pt x="7224" y="7846"/>
                </a:lnTo>
                <a:lnTo>
                  <a:pt x="7482" y="7747"/>
                </a:lnTo>
                <a:lnTo>
                  <a:pt x="7572" y="7786"/>
                </a:lnTo>
                <a:lnTo>
                  <a:pt x="7343" y="8045"/>
                </a:lnTo>
                <a:lnTo>
                  <a:pt x="7244" y="8045"/>
                </a:lnTo>
                <a:lnTo>
                  <a:pt x="6459" y="8910"/>
                </a:lnTo>
                <a:lnTo>
                  <a:pt x="6578" y="9029"/>
                </a:lnTo>
                <a:lnTo>
                  <a:pt x="7165" y="9348"/>
                </a:lnTo>
                <a:lnTo>
                  <a:pt x="7165" y="9438"/>
                </a:lnTo>
                <a:lnTo>
                  <a:pt x="7026" y="9407"/>
                </a:lnTo>
                <a:lnTo>
                  <a:pt x="6370" y="8970"/>
                </a:lnTo>
                <a:lnTo>
                  <a:pt x="5764" y="9587"/>
                </a:lnTo>
                <a:lnTo>
                  <a:pt x="5764" y="9815"/>
                </a:lnTo>
                <a:lnTo>
                  <a:pt x="5942" y="9935"/>
                </a:lnTo>
                <a:lnTo>
                  <a:pt x="5982" y="10134"/>
                </a:lnTo>
                <a:lnTo>
                  <a:pt x="6668" y="10492"/>
                </a:lnTo>
                <a:lnTo>
                  <a:pt x="7691" y="10770"/>
                </a:lnTo>
                <a:lnTo>
                  <a:pt x="7691" y="10889"/>
                </a:lnTo>
                <a:lnTo>
                  <a:pt x="7046" y="10789"/>
                </a:lnTo>
                <a:lnTo>
                  <a:pt x="6688" y="10670"/>
                </a:lnTo>
                <a:lnTo>
                  <a:pt x="5942" y="10273"/>
                </a:lnTo>
                <a:lnTo>
                  <a:pt x="5664" y="10273"/>
                </a:lnTo>
                <a:lnTo>
                  <a:pt x="5406" y="10392"/>
                </a:lnTo>
                <a:lnTo>
                  <a:pt x="4958" y="10392"/>
                </a:lnTo>
                <a:lnTo>
                  <a:pt x="4870" y="10571"/>
                </a:lnTo>
                <a:lnTo>
                  <a:pt x="5645" y="11178"/>
                </a:lnTo>
                <a:lnTo>
                  <a:pt x="6220" y="11466"/>
                </a:lnTo>
                <a:lnTo>
                  <a:pt x="6966" y="11714"/>
                </a:lnTo>
                <a:lnTo>
                  <a:pt x="7711" y="11853"/>
                </a:lnTo>
                <a:lnTo>
                  <a:pt x="7711" y="11974"/>
                </a:lnTo>
                <a:lnTo>
                  <a:pt x="7046" y="11894"/>
                </a:lnTo>
                <a:lnTo>
                  <a:pt x="6251" y="11655"/>
                </a:lnTo>
                <a:lnTo>
                  <a:pt x="5486" y="11257"/>
                </a:lnTo>
                <a:lnTo>
                  <a:pt x="4700" y="10670"/>
                </a:lnTo>
                <a:lnTo>
                  <a:pt x="4084" y="11376"/>
                </a:lnTo>
                <a:lnTo>
                  <a:pt x="5048" y="12113"/>
                </a:lnTo>
                <a:lnTo>
                  <a:pt x="5883" y="12549"/>
                </a:lnTo>
                <a:lnTo>
                  <a:pt x="7185" y="12918"/>
                </a:lnTo>
                <a:lnTo>
                  <a:pt x="8586" y="12918"/>
                </a:lnTo>
                <a:lnTo>
                  <a:pt x="9341" y="12789"/>
                </a:lnTo>
                <a:lnTo>
                  <a:pt x="10483" y="12351"/>
                </a:lnTo>
                <a:lnTo>
                  <a:pt x="11249" y="11894"/>
                </a:lnTo>
                <a:lnTo>
                  <a:pt x="11904" y="11337"/>
                </a:lnTo>
                <a:lnTo>
                  <a:pt x="11904" y="11276"/>
                </a:lnTo>
                <a:lnTo>
                  <a:pt x="11289" y="10650"/>
                </a:lnTo>
                <a:lnTo>
                  <a:pt x="11199" y="10650"/>
                </a:lnTo>
                <a:lnTo>
                  <a:pt x="10464" y="11227"/>
                </a:lnTo>
                <a:lnTo>
                  <a:pt x="9460" y="11853"/>
                </a:lnTo>
                <a:lnTo>
                  <a:pt x="9380" y="11794"/>
                </a:lnTo>
                <a:lnTo>
                  <a:pt x="8486" y="11953"/>
                </a:lnTo>
                <a:lnTo>
                  <a:pt x="8486" y="11794"/>
                </a:lnTo>
                <a:lnTo>
                  <a:pt x="9063" y="11714"/>
                </a:lnTo>
                <a:lnTo>
                  <a:pt x="9043" y="11536"/>
                </a:lnTo>
                <a:lnTo>
                  <a:pt x="8725" y="11337"/>
                </a:lnTo>
                <a:lnTo>
                  <a:pt x="8675" y="11198"/>
                </a:lnTo>
                <a:lnTo>
                  <a:pt x="8765" y="11178"/>
                </a:lnTo>
                <a:lnTo>
                  <a:pt x="9003" y="11466"/>
                </a:lnTo>
                <a:lnTo>
                  <a:pt x="9143" y="11397"/>
                </a:lnTo>
                <a:lnTo>
                  <a:pt x="9143" y="10730"/>
                </a:lnTo>
                <a:lnTo>
                  <a:pt x="9003" y="10760"/>
                </a:lnTo>
                <a:lnTo>
                  <a:pt x="9063" y="11147"/>
                </a:lnTo>
                <a:lnTo>
                  <a:pt x="8804" y="10830"/>
                </a:lnTo>
                <a:lnTo>
                  <a:pt x="8486" y="10869"/>
                </a:lnTo>
                <a:lnTo>
                  <a:pt x="8466" y="10730"/>
                </a:lnTo>
                <a:lnTo>
                  <a:pt x="8556" y="10711"/>
                </a:lnTo>
                <a:lnTo>
                  <a:pt x="8556" y="10650"/>
                </a:lnTo>
                <a:lnTo>
                  <a:pt x="8466" y="10591"/>
                </a:lnTo>
                <a:lnTo>
                  <a:pt x="8486" y="10312"/>
                </a:lnTo>
                <a:lnTo>
                  <a:pt x="8864" y="10591"/>
                </a:lnTo>
                <a:lnTo>
                  <a:pt x="9043" y="10591"/>
                </a:lnTo>
                <a:lnTo>
                  <a:pt x="9003" y="10472"/>
                </a:lnTo>
                <a:lnTo>
                  <a:pt x="8804" y="10273"/>
                </a:lnTo>
                <a:lnTo>
                  <a:pt x="8486" y="10093"/>
                </a:lnTo>
                <a:lnTo>
                  <a:pt x="8486" y="9487"/>
                </a:lnTo>
                <a:lnTo>
                  <a:pt x="9262" y="9168"/>
                </a:lnTo>
                <a:lnTo>
                  <a:pt x="9480" y="8970"/>
                </a:lnTo>
                <a:lnTo>
                  <a:pt x="9619" y="8691"/>
                </a:lnTo>
                <a:lnTo>
                  <a:pt x="9699" y="8045"/>
                </a:lnTo>
                <a:lnTo>
                  <a:pt x="9520" y="7657"/>
                </a:lnTo>
                <a:lnTo>
                  <a:pt x="9023" y="7289"/>
                </a:lnTo>
                <a:lnTo>
                  <a:pt x="8556" y="7110"/>
                </a:lnTo>
                <a:lnTo>
                  <a:pt x="8556" y="5967"/>
                </a:lnTo>
                <a:lnTo>
                  <a:pt x="8705" y="5897"/>
                </a:lnTo>
                <a:lnTo>
                  <a:pt x="8744" y="6216"/>
                </a:lnTo>
                <a:lnTo>
                  <a:pt x="8904" y="6165"/>
                </a:lnTo>
                <a:lnTo>
                  <a:pt x="8983" y="5927"/>
                </a:lnTo>
                <a:lnTo>
                  <a:pt x="9282" y="5788"/>
                </a:lnTo>
                <a:lnTo>
                  <a:pt x="10364" y="4644"/>
                </a:lnTo>
                <a:lnTo>
                  <a:pt x="10444" y="4465"/>
                </a:lnTo>
                <a:lnTo>
                  <a:pt x="10524" y="4485"/>
                </a:lnTo>
                <a:lnTo>
                  <a:pt x="10722" y="4286"/>
                </a:lnTo>
                <a:lnTo>
                  <a:pt x="10663" y="4147"/>
                </a:lnTo>
                <a:lnTo>
                  <a:pt x="10702" y="3510"/>
                </a:lnTo>
                <a:lnTo>
                  <a:pt x="10544" y="3043"/>
                </a:lnTo>
                <a:lnTo>
                  <a:pt x="10642" y="2984"/>
                </a:lnTo>
                <a:lnTo>
                  <a:pt x="10802" y="3123"/>
                </a:lnTo>
                <a:lnTo>
                  <a:pt x="11060" y="3202"/>
                </a:lnTo>
                <a:lnTo>
                  <a:pt x="11229" y="3461"/>
                </a:lnTo>
                <a:lnTo>
                  <a:pt x="11258" y="3660"/>
                </a:lnTo>
                <a:lnTo>
                  <a:pt x="11319" y="3660"/>
                </a:lnTo>
                <a:lnTo>
                  <a:pt x="11885" y="3062"/>
                </a:lnTo>
                <a:lnTo>
                  <a:pt x="11904" y="2984"/>
                </a:lnTo>
                <a:lnTo>
                  <a:pt x="11000" y="2278"/>
                </a:lnTo>
                <a:lnTo>
                  <a:pt x="9867" y="1721"/>
                </a:lnTo>
                <a:lnTo>
                  <a:pt x="8665" y="1441"/>
                </a:lnTo>
                <a:lnTo>
                  <a:pt x="8665" y="1203"/>
                </a:lnTo>
                <a:lnTo>
                  <a:pt x="9669" y="1382"/>
                </a:lnTo>
                <a:lnTo>
                  <a:pt x="10663" y="1780"/>
                </a:lnTo>
                <a:lnTo>
                  <a:pt x="11746" y="2506"/>
                </a:lnTo>
                <a:lnTo>
                  <a:pt x="12322" y="3083"/>
                </a:lnTo>
                <a:lnTo>
                  <a:pt x="12888" y="3829"/>
                </a:lnTo>
                <a:lnTo>
                  <a:pt x="13465" y="4952"/>
                </a:lnTo>
                <a:lnTo>
                  <a:pt x="13872" y="6533"/>
                </a:lnTo>
                <a:lnTo>
                  <a:pt x="13872" y="7567"/>
                </a:lnTo>
                <a:lnTo>
                  <a:pt x="13643" y="8910"/>
                </a:lnTo>
                <a:lnTo>
                  <a:pt x="13426" y="9526"/>
                </a:lnTo>
                <a:lnTo>
                  <a:pt x="12968" y="10412"/>
                </a:lnTo>
                <a:lnTo>
                  <a:pt x="12571" y="10969"/>
                </a:lnTo>
                <a:lnTo>
                  <a:pt x="11925" y="11655"/>
                </a:lnTo>
                <a:lnTo>
                  <a:pt x="11448" y="12033"/>
                </a:lnTo>
                <a:lnTo>
                  <a:pt x="10683" y="12520"/>
                </a:lnTo>
                <a:lnTo>
                  <a:pt x="10047" y="12819"/>
                </a:lnTo>
                <a:lnTo>
                  <a:pt x="9262" y="13057"/>
                </a:lnTo>
                <a:lnTo>
                  <a:pt x="8526" y="13196"/>
                </a:lnTo>
                <a:lnTo>
                  <a:pt x="7691" y="13196"/>
                </a:lnTo>
                <a:lnTo>
                  <a:pt x="6846" y="13116"/>
                </a:lnTo>
                <a:lnTo>
                  <a:pt x="5883" y="12838"/>
                </a:lnTo>
                <a:lnTo>
                  <a:pt x="5366" y="12600"/>
                </a:lnTo>
                <a:lnTo>
                  <a:pt x="4581" y="12113"/>
                </a:lnTo>
                <a:lnTo>
                  <a:pt x="4164" y="11774"/>
                </a:lnTo>
                <a:lnTo>
                  <a:pt x="3617" y="11227"/>
                </a:lnTo>
                <a:lnTo>
                  <a:pt x="2882" y="10153"/>
                </a:lnTo>
                <a:lnTo>
                  <a:pt x="2424" y="9049"/>
                </a:lnTo>
                <a:lnTo>
                  <a:pt x="2226" y="8185"/>
                </a:lnTo>
                <a:lnTo>
                  <a:pt x="2166" y="7130"/>
                </a:lnTo>
                <a:lnTo>
                  <a:pt x="2166" y="6533"/>
                </a:lnTo>
                <a:lnTo>
                  <a:pt x="2315" y="5668"/>
                </a:lnTo>
                <a:lnTo>
                  <a:pt x="2563" y="4952"/>
                </a:lnTo>
                <a:lnTo>
                  <a:pt x="2941" y="4147"/>
                </a:lnTo>
                <a:lnTo>
                  <a:pt x="3319" y="3570"/>
                </a:lnTo>
                <a:lnTo>
                  <a:pt x="4005" y="2804"/>
                </a:lnTo>
                <a:lnTo>
                  <a:pt x="4581" y="2317"/>
                </a:lnTo>
                <a:lnTo>
                  <a:pt x="5704" y="1660"/>
                </a:lnTo>
                <a:lnTo>
                  <a:pt x="6807" y="1302"/>
                </a:lnTo>
                <a:lnTo>
                  <a:pt x="7403" y="1183"/>
                </a:lnTo>
                <a:close/>
                <a:moveTo>
                  <a:pt x="3964" y="3222"/>
                </a:moveTo>
                <a:lnTo>
                  <a:pt x="4402" y="3660"/>
                </a:lnTo>
                <a:lnTo>
                  <a:pt x="4601" y="3899"/>
                </a:lnTo>
                <a:lnTo>
                  <a:pt x="4104" y="4564"/>
                </a:lnTo>
                <a:lnTo>
                  <a:pt x="3696" y="5330"/>
                </a:lnTo>
                <a:lnTo>
                  <a:pt x="3438" y="6155"/>
                </a:lnTo>
                <a:lnTo>
                  <a:pt x="3279" y="7150"/>
                </a:lnTo>
                <a:lnTo>
                  <a:pt x="2424" y="7150"/>
                </a:lnTo>
                <a:lnTo>
                  <a:pt x="2424" y="6593"/>
                </a:lnTo>
                <a:lnTo>
                  <a:pt x="2494" y="6066"/>
                </a:lnTo>
                <a:lnTo>
                  <a:pt x="2782" y="5131"/>
                </a:lnTo>
                <a:lnTo>
                  <a:pt x="3080" y="4445"/>
                </a:lnTo>
                <a:lnTo>
                  <a:pt x="3518" y="3749"/>
                </a:lnTo>
                <a:lnTo>
                  <a:pt x="3964" y="3222"/>
                </a:lnTo>
                <a:close/>
                <a:moveTo>
                  <a:pt x="5942" y="3123"/>
                </a:moveTo>
                <a:lnTo>
                  <a:pt x="5545" y="4028"/>
                </a:lnTo>
                <a:lnTo>
                  <a:pt x="5545" y="4147"/>
                </a:lnTo>
                <a:lnTo>
                  <a:pt x="5226" y="4325"/>
                </a:lnTo>
                <a:lnTo>
                  <a:pt x="5426" y="4325"/>
                </a:lnTo>
                <a:lnTo>
                  <a:pt x="5326" y="4704"/>
                </a:lnTo>
                <a:lnTo>
                  <a:pt x="4879" y="5330"/>
                </a:lnTo>
                <a:lnTo>
                  <a:pt x="4621" y="5867"/>
                </a:lnTo>
                <a:lnTo>
                  <a:pt x="4442" y="6513"/>
                </a:lnTo>
                <a:lnTo>
                  <a:pt x="4363" y="7130"/>
                </a:lnTo>
                <a:lnTo>
                  <a:pt x="3518" y="7130"/>
                </a:lnTo>
                <a:lnTo>
                  <a:pt x="3518" y="6673"/>
                </a:lnTo>
                <a:lnTo>
                  <a:pt x="3786" y="5588"/>
                </a:lnTo>
                <a:lnTo>
                  <a:pt x="4382" y="4445"/>
                </a:lnTo>
                <a:lnTo>
                  <a:pt x="4750" y="4028"/>
                </a:lnTo>
                <a:lnTo>
                  <a:pt x="5018" y="4306"/>
                </a:lnTo>
                <a:lnTo>
                  <a:pt x="5167" y="4247"/>
                </a:lnTo>
                <a:lnTo>
                  <a:pt x="5167" y="4167"/>
                </a:lnTo>
                <a:lnTo>
                  <a:pt x="4879" y="3889"/>
                </a:lnTo>
                <a:lnTo>
                  <a:pt x="5465" y="3401"/>
                </a:lnTo>
                <a:lnTo>
                  <a:pt x="5942" y="3123"/>
                </a:lnTo>
                <a:close/>
                <a:moveTo>
                  <a:pt x="5486" y="4783"/>
                </a:moveTo>
                <a:lnTo>
                  <a:pt x="6251" y="5588"/>
                </a:lnTo>
                <a:lnTo>
                  <a:pt x="6022" y="5897"/>
                </a:lnTo>
                <a:lnTo>
                  <a:pt x="5704" y="6653"/>
                </a:lnTo>
                <a:lnTo>
                  <a:pt x="5584" y="6792"/>
                </a:lnTo>
                <a:lnTo>
                  <a:pt x="5426" y="6871"/>
                </a:lnTo>
                <a:lnTo>
                  <a:pt x="5326" y="7011"/>
                </a:lnTo>
                <a:lnTo>
                  <a:pt x="5197" y="7130"/>
                </a:lnTo>
                <a:lnTo>
                  <a:pt x="4561" y="7130"/>
                </a:lnTo>
                <a:lnTo>
                  <a:pt x="4601" y="6544"/>
                </a:lnTo>
                <a:lnTo>
                  <a:pt x="4720" y="6066"/>
                </a:lnTo>
                <a:lnTo>
                  <a:pt x="5018" y="5410"/>
                </a:lnTo>
                <a:lnTo>
                  <a:pt x="5486" y="4783"/>
                </a:lnTo>
                <a:close/>
                <a:moveTo>
                  <a:pt x="2424" y="7349"/>
                </a:moveTo>
                <a:lnTo>
                  <a:pt x="3338" y="7349"/>
                </a:lnTo>
                <a:lnTo>
                  <a:pt x="3338" y="7846"/>
                </a:lnTo>
                <a:lnTo>
                  <a:pt x="3488" y="8503"/>
                </a:lnTo>
                <a:lnTo>
                  <a:pt x="3369" y="8503"/>
                </a:lnTo>
                <a:lnTo>
                  <a:pt x="3220" y="8611"/>
                </a:lnTo>
                <a:lnTo>
                  <a:pt x="2941" y="8632"/>
                </a:lnTo>
                <a:lnTo>
                  <a:pt x="2822" y="8701"/>
                </a:lnTo>
                <a:lnTo>
                  <a:pt x="2822" y="9010"/>
                </a:lnTo>
                <a:lnTo>
                  <a:pt x="2982" y="8930"/>
                </a:lnTo>
                <a:lnTo>
                  <a:pt x="3438" y="9288"/>
                </a:lnTo>
                <a:lnTo>
                  <a:pt x="3488" y="9606"/>
                </a:lnTo>
                <a:lnTo>
                  <a:pt x="3557" y="9696"/>
                </a:lnTo>
                <a:lnTo>
                  <a:pt x="3876" y="9755"/>
                </a:lnTo>
                <a:lnTo>
                  <a:pt x="4025" y="9845"/>
                </a:lnTo>
                <a:lnTo>
                  <a:pt x="4164" y="10232"/>
                </a:lnTo>
                <a:lnTo>
                  <a:pt x="4322" y="10253"/>
                </a:lnTo>
                <a:lnTo>
                  <a:pt x="4601" y="10571"/>
                </a:lnTo>
                <a:lnTo>
                  <a:pt x="3964" y="11207"/>
                </a:lnTo>
                <a:lnTo>
                  <a:pt x="3279" y="10312"/>
                </a:lnTo>
                <a:lnTo>
                  <a:pt x="2763" y="9248"/>
                </a:lnTo>
                <a:lnTo>
                  <a:pt x="2544" y="8492"/>
                </a:lnTo>
                <a:lnTo>
                  <a:pt x="2424" y="7349"/>
                </a:lnTo>
                <a:close/>
                <a:moveTo>
                  <a:pt x="3498" y="7329"/>
                </a:moveTo>
                <a:lnTo>
                  <a:pt x="4363" y="7329"/>
                </a:lnTo>
                <a:lnTo>
                  <a:pt x="4402" y="7717"/>
                </a:lnTo>
                <a:lnTo>
                  <a:pt x="4104" y="7966"/>
                </a:lnTo>
                <a:lnTo>
                  <a:pt x="3945" y="8503"/>
                </a:lnTo>
                <a:lnTo>
                  <a:pt x="3985" y="8611"/>
                </a:lnTo>
                <a:lnTo>
                  <a:pt x="3667" y="8492"/>
                </a:lnTo>
                <a:lnTo>
                  <a:pt x="3498" y="7329"/>
                </a:lnTo>
                <a:close/>
                <a:moveTo>
                  <a:pt x="5426" y="7369"/>
                </a:moveTo>
                <a:lnTo>
                  <a:pt x="5625" y="7309"/>
                </a:lnTo>
                <a:lnTo>
                  <a:pt x="5764" y="8045"/>
                </a:lnTo>
                <a:lnTo>
                  <a:pt x="6002" y="8552"/>
                </a:lnTo>
                <a:lnTo>
                  <a:pt x="6251" y="8871"/>
                </a:lnTo>
                <a:lnTo>
                  <a:pt x="5604" y="9526"/>
                </a:lnTo>
                <a:lnTo>
                  <a:pt x="5465" y="9467"/>
                </a:lnTo>
                <a:lnTo>
                  <a:pt x="5525" y="9149"/>
                </a:lnTo>
                <a:lnTo>
                  <a:pt x="5287" y="8751"/>
                </a:lnTo>
                <a:lnTo>
                  <a:pt x="5326" y="8433"/>
                </a:lnTo>
                <a:lnTo>
                  <a:pt x="5108" y="7846"/>
                </a:lnTo>
                <a:lnTo>
                  <a:pt x="5247" y="7717"/>
                </a:lnTo>
                <a:lnTo>
                  <a:pt x="5267" y="7598"/>
                </a:lnTo>
                <a:lnTo>
                  <a:pt x="5426" y="7369"/>
                </a:lnTo>
                <a:close/>
                <a:moveTo>
                  <a:pt x="5962" y="7846"/>
                </a:moveTo>
                <a:lnTo>
                  <a:pt x="6330" y="7866"/>
                </a:lnTo>
                <a:lnTo>
                  <a:pt x="6509" y="8025"/>
                </a:lnTo>
                <a:lnTo>
                  <a:pt x="6568" y="8175"/>
                </a:lnTo>
                <a:lnTo>
                  <a:pt x="6768" y="8294"/>
                </a:lnTo>
                <a:lnTo>
                  <a:pt x="6727" y="8383"/>
                </a:lnTo>
                <a:lnTo>
                  <a:pt x="6370" y="8751"/>
                </a:lnTo>
                <a:lnTo>
                  <a:pt x="6081" y="8343"/>
                </a:lnTo>
                <a:lnTo>
                  <a:pt x="5863" y="7846"/>
                </a:lnTo>
                <a:lnTo>
                  <a:pt x="5962" y="7846"/>
                </a:lnTo>
                <a:close/>
                <a:moveTo>
                  <a:pt x="4581" y="7329"/>
                </a:moveTo>
                <a:lnTo>
                  <a:pt x="5078" y="7329"/>
                </a:lnTo>
                <a:lnTo>
                  <a:pt x="5068" y="7608"/>
                </a:lnTo>
                <a:lnTo>
                  <a:pt x="4929" y="7827"/>
                </a:lnTo>
                <a:lnTo>
                  <a:pt x="4839" y="7846"/>
                </a:lnTo>
                <a:lnTo>
                  <a:pt x="4581" y="7687"/>
                </a:lnTo>
                <a:lnTo>
                  <a:pt x="4581" y="7329"/>
                </a:lnTo>
                <a:close/>
                <a:moveTo>
                  <a:pt x="11348" y="7289"/>
                </a:moveTo>
                <a:lnTo>
                  <a:pt x="11467" y="7309"/>
                </a:lnTo>
                <a:lnTo>
                  <a:pt x="11408" y="7866"/>
                </a:lnTo>
                <a:lnTo>
                  <a:pt x="11229" y="8492"/>
                </a:lnTo>
                <a:lnTo>
                  <a:pt x="10822" y="9229"/>
                </a:lnTo>
                <a:lnTo>
                  <a:pt x="10503" y="9636"/>
                </a:lnTo>
                <a:lnTo>
                  <a:pt x="10405" y="9487"/>
                </a:lnTo>
                <a:lnTo>
                  <a:pt x="10384" y="9248"/>
                </a:lnTo>
                <a:lnTo>
                  <a:pt x="10305" y="9109"/>
                </a:lnTo>
                <a:lnTo>
                  <a:pt x="10225" y="9109"/>
                </a:lnTo>
                <a:lnTo>
                  <a:pt x="10225" y="8632"/>
                </a:lnTo>
                <a:lnTo>
                  <a:pt x="10106" y="8632"/>
                </a:lnTo>
                <a:lnTo>
                  <a:pt x="10047" y="8701"/>
                </a:lnTo>
                <a:lnTo>
                  <a:pt x="9848" y="8791"/>
                </a:lnTo>
                <a:lnTo>
                  <a:pt x="10126" y="8632"/>
                </a:lnTo>
                <a:lnTo>
                  <a:pt x="10146" y="8463"/>
                </a:lnTo>
                <a:lnTo>
                  <a:pt x="10305" y="8403"/>
                </a:lnTo>
                <a:lnTo>
                  <a:pt x="10325" y="8324"/>
                </a:lnTo>
                <a:lnTo>
                  <a:pt x="11060" y="7866"/>
                </a:lnTo>
                <a:lnTo>
                  <a:pt x="11020" y="7766"/>
                </a:lnTo>
                <a:lnTo>
                  <a:pt x="10782" y="7667"/>
                </a:lnTo>
                <a:lnTo>
                  <a:pt x="10642" y="7747"/>
                </a:lnTo>
                <a:lnTo>
                  <a:pt x="10583" y="7289"/>
                </a:lnTo>
                <a:lnTo>
                  <a:pt x="11348" y="7289"/>
                </a:lnTo>
                <a:close/>
                <a:moveTo>
                  <a:pt x="11646" y="7270"/>
                </a:moveTo>
                <a:lnTo>
                  <a:pt x="12491" y="7270"/>
                </a:lnTo>
                <a:lnTo>
                  <a:pt x="12491" y="7806"/>
                </a:lnTo>
                <a:lnTo>
                  <a:pt x="12381" y="8324"/>
                </a:lnTo>
                <a:lnTo>
                  <a:pt x="12164" y="8990"/>
                </a:lnTo>
                <a:lnTo>
                  <a:pt x="11806" y="9676"/>
                </a:lnTo>
                <a:lnTo>
                  <a:pt x="11249" y="10392"/>
                </a:lnTo>
                <a:lnTo>
                  <a:pt x="10902" y="10054"/>
                </a:lnTo>
                <a:lnTo>
                  <a:pt x="10861" y="9845"/>
                </a:lnTo>
                <a:lnTo>
                  <a:pt x="10742" y="9874"/>
                </a:lnTo>
                <a:lnTo>
                  <a:pt x="10642" y="9796"/>
                </a:lnTo>
                <a:lnTo>
                  <a:pt x="11258" y="8830"/>
                </a:lnTo>
                <a:lnTo>
                  <a:pt x="11547" y="8005"/>
                </a:lnTo>
                <a:lnTo>
                  <a:pt x="11646" y="7270"/>
                </a:lnTo>
                <a:close/>
                <a:moveTo>
                  <a:pt x="12700" y="7270"/>
                </a:moveTo>
                <a:lnTo>
                  <a:pt x="13565" y="7270"/>
                </a:lnTo>
                <a:lnTo>
                  <a:pt x="13565" y="8144"/>
                </a:lnTo>
                <a:lnTo>
                  <a:pt x="13326" y="9029"/>
                </a:lnTo>
                <a:lnTo>
                  <a:pt x="13107" y="9587"/>
                </a:lnTo>
                <a:lnTo>
                  <a:pt x="12551" y="10551"/>
                </a:lnTo>
                <a:lnTo>
                  <a:pt x="12024" y="11178"/>
                </a:lnTo>
                <a:lnTo>
                  <a:pt x="11378" y="10511"/>
                </a:lnTo>
                <a:lnTo>
                  <a:pt x="11945" y="9765"/>
                </a:lnTo>
                <a:lnTo>
                  <a:pt x="12312" y="9090"/>
                </a:lnTo>
                <a:lnTo>
                  <a:pt x="12571" y="8294"/>
                </a:lnTo>
                <a:lnTo>
                  <a:pt x="12700" y="7270"/>
                </a:lnTo>
                <a:close/>
                <a:moveTo>
                  <a:pt x="10464" y="4773"/>
                </a:moveTo>
                <a:lnTo>
                  <a:pt x="10742" y="5152"/>
                </a:lnTo>
                <a:lnTo>
                  <a:pt x="10861" y="5469"/>
                </a:lnTo>
                <a:lnTo>
                  <a:pt x="10941" y="5529"/>
                </a:lnTo>
                <a:lnTo>
                  <a:pt x="10961" y="5668"/>
                </a:lnTo>
                <a:lnTo>
                  <a:pt x="11309" y="6106"/>
                </a:lnTo>
                <a:lnTo>
                  <a:pt x="11309" y="6851"/>
                </a:lnTo>
                <a:lnTo>
                  <a:pt x="11448" y="6792"/>
                </a:lnTo>
                <a:lnTo>
                  <a:pt x="11467" y="7110"/>
                </a:lnTo>
                <a:lnTo>
                  <a:pt x="10742" y="7110"/>
                </a:lnTo>
                <a:lnTo>
                  <a:pt x="10861" y="6871"/>
                </a:lnTo>
                <a:lnTo>
                  <a:pt x="11110" y="6732"/>
                </a:lnTo>
                <a:lnTo>
                  <a:pt x="11229" y="6374"/>
                </a:lnTo>
                <a:lnTo>
                  <a:pt x="11139" y="6374"/>
                </a:lnTo>
                <a:lnTo>
                  <a:pt x="10961" y="6603"/>
                </a:lnTo>
                <a:lnTo>
                  <a:pt x="10841" y="6633"/>
                </a:lnTo>
                <a:lnTo>
                  <a:pt x="10822" y="6374"/>
                </a:lnTo>
                <a:lnTo>
                  <a:pt x="10623" y="6374"/>
                </a:lnTo>
                <a:lnTo>
                  <a:pt x="10524" y="6484"/>
                </a:lnTo>
                <a:lnTo>
                  <a:pt x="10524" y="6225"/>
                </a:lnTo>
                <a:lnTo>
                  <a:pt x="10364" y="5967"/>
                </a:lnTo>
                <a:lnTo>
                  <a:pt x="10146" y="5956"/>
                </a:lnTo>
                <a:lnTo>
                  <a:pt x="9877" y="5748"/>
                </a:lnTo>
                <a:lnTo>
                  <a:pt x="9758" y="5510"/>
                </a:lnTo>
                <a:lnTo>
                  <a:pt x="10464" y="4773"/>
                </a:lnTo>
                <a:close/>
                <a:moveTo>
                  <a:pt x="10841" y="4425"/>
                </a:moveTo>
                <a:lnTo>
                  <a:pt x="10941" y="4564"/>
                </a:lnTo>
                <a:lnTo>
                  <a:pt x="11170" y="4833"/>
                </a:lnTo>
                <a:lnTo>
                  <a:pt x="11746" y="4992"/>
                </a:lnTo>
                <a:lnTo>
                  <a:pt x="12024" y="5430"/>
                </a:lnTo>
                <a:lnTo>
                  <a:pt x="12164" y="5410"/>
                </a:lnTo>
                <a:lnTo>
                  <a:pt x="12401" y="6185"/>
                </a:lnTo>
                <a:lnTo>
                  <a:pt x="12511" y="7090"/>
                </a:lnTo>
                <a:lnTo>
                  <a:pt x="11646" y="7090"/>
                </a:lnTo>
                <a:lnTo>
                  <a:pt x="11527" y="6185"/>
                </a:lnTo>
                <a:lnTo>
                  <a:pt x="11626" y="5907"/>
                </a:lnTo>
                <a:lnTo>
                  <a:pt x="11567" y="5788"/>
                </a:lnTo>
                <a:lnTo>
                  <a:pt x="11487" y="5788"/>
                </a:lnTo>
                <a:lnTo>
                  <a:pt x="11467" y="5927"/>
                </a:lnTo>
                <a:lnTo>
                  <a:pt x="11309" y="5370"/>
                </a:lnTo>
                <a:lnTo>
                  <a:pt x="11080" y="5211"/>
                </a:lnTo>
                <a:lnTo>
                  <a:pt x="10642" y="4585"/>
                </a:lnTo>
                <a:lnTo>
                  <a:pt x="10841" y="4425"/>
                </a:lnTo>
                <a:close/>
                <a:moveTo>
                  <a:pt x="12024" y="3162"/>
                </a:moveTo>
                <a:lnTo>
                  <a:pt x="12670" y="3987"/>
                </a:lnTo>
                <a:lnTo>
                  <a:pt x="13127" y="4833"/>
                </a:lnTo>
                <a:lnTo>
                  <a:pt x="13504" y="6066"/>
                </a:lnTo>
                <a:lnTo>
                  <a:pt x="13604" y="7090"/>
                </a:lnTo>
                <a:lnTo>
                  <a:pt x="12700" y="7090"/>
                </a:lnTo>
                <a:lnTo>
                  <a:pt x="12630" y="6245"/>
                </a:lnTo>
                <a:lnTo>
                  <a:pt x="12312" y="5231"/>
                </a:lnTo>
                <a:lnTo>
                  <a:pt x="12491" y="5131"/>
                </a:lnTo>
                <a:lnTo>
                  <a:pt x="12491" y="5012"/>
                </a:lnTo>
                <a:lnTo>
                  <a:pt x="12164" y="4644"/>
                </a:lnTo>
                <a:lnTo>
                  <a:pt x="11945" y="4286"/>
                </a:lnTo>
                <a:lnTo>
                  <a:pt x="11865" y="4266"/>
                </a:lnTo>
                <a:lnTo>
                  <a:pt x="11507" y="3709"/>
                </a:lnTo>
                <a:lnTo>
                  <a:pt x="12024" y="3162"/>
                </a:lnTo>
                <a:close/>
                <a:moveTo>
                  <a:pt x="10503" y="9935"/>
                </a:moveTo>
                <a:lnTo>
                  <a:pt x="10663" y="10054"/>
                </a:lnTo>
                <a:lnTo>
                  <a:pt x="10722" y="10353"/>
                </a:lnTo>
                <a:lnTo>
                  <a:pt x="10802" y="10451"/>
                </a:lnTo>
                <a:lnTo>
                  <a:pt x="10941" y="10372"/>
                </a:lnTo>
                <a:lnTo>
                  <a:pt x="11110" y="10531"/>
                </a:lnTo>
                <a:lnTo>
                  <a:pt x="10265" y="11147"/>
                </a:lnTo>
                <a:lnTo>
                  <a:pt x="10265" y="10928"/>
                </a:lnTo>
                <a:lnTo>
                  <a:pt x="10464" y="10472"/>
                </a:lnTo>
                <a:lnTo>
                  <a:pt x="10464" y="10232"/>
                </a:lnTo>
                <a:lnTo>
                  <a:pt x="10285" y="10113"/>
                </a:lnTo>
                <a:lnTo>
                  <a:pt x="10503" y="9935"/>
                </a:lnTo>
                <a:close/>
                <a:moveTo>
                  <a:pt x="6310" y="3123"/>
                </a:moveTo>
                <a:lnTo>
                  <a:pt x="6429" y="3162"/>
                </a:lnTo>
                <a:lnTo>
                  <a:pt x="6400" y="3312"/>
                </a:lnTo>
                <a:lnTo>
                  <a:pt x="6251" y="3281"/>
                </a:lnTo>
                <a:lnTo>
                  <a:pt x="6310" y="3123"/>
                </a:lnTo>
                <a:close/>
                <a:moveTo>
                  <a:pt x="9262" y="1869"/>
                </a:moveTo>
                <a:lnTo>
                  <a:pt x="9341" y="1869"/>
                </a:lnTo>
                <a:lnTo>
                  <a:pt x="9401" y="1939"/>
                </a:lnTo>
                <a:lnTo>
                  <a:pt x="9241" y="2059"/>
                </a:lnTo>
                <a:lnTo>
                  <a:pt x="8864" y="1999"/>
                </a:lnTo>
                <a:lnTo>
                  <a:pt x="9262" y="1869"/>
                </a:lnTo>
                <a:close/>
                <a:moveTo>
                  <a:pt x="10702" y="2864"/>
                </a:moveTo>
                <a:lnTo>
                  <a:pt x="10881" y="2864"/>
                </a:lnTo>
                <a:lnTo>
                  <a:pt x="11060" y="3043"/>
                </a:lnTo>
                <a:lnTo>
                  <a:pt x="10861" y="3003"/>
                </a:lnTo>
                <a:lnTo>
                  <a:pt x="10702" y="2864"/>
                </a:lnTo>
                <a:close/>
                <a:moveTo>
                  <a:pt x="8526" y="8234"/>
                </a:moveTo>
                <a:lnTo>
                  <a:pt x="8646" y="8294"/>
                </a:lnTo>
                <a:lnTo>
                  <a:pt x="8586" y="8463"/>
                </a:lnTo>
                <a:lnTo>
                  <a:pt x="8437" y="8503"/>
                </a:lnTo>
                <a:lnTo>
                  <a:pt x="8417" y="8443"/>
                </a:lnTo>
                <a:lnTo>
                  <a:pt x="8526" y="8234"/>
                </a:lnTo>
                <a:close/>
                <a:moveTo>
                  <a:pt x="8646" y="2198"/>
                </a:moveTo>
                <a:lnTo>
                  <a:pt x="9143" y="2258"/>
                </a:lnTo>
                <a:lnTo>
                  <a:pt x="9699" y="2506"/>
                </a:lnTo>
                <a:lnTo>
                  <a:pt x="10166" y="2904"/>
                </a:lnTo>
                <a:lnTo>
                  <a:pt x="10424" y="3461"/>
                </a:lnTo>
                <a:lnTo>
                  <a:pt x="10464" y="3928"/>
                </a:lnTo>
                <a:lnTo>
                  <a:pt x="10344" y="4325"/>
                </a:lnTo>
                <a:lnTo>
                  <a:pt x="9848" y="4962"/>
                </a:lnTo>
                <a:lnTo>
                  <a:pt x="9380" y="5211"/>
                </a:lnTo>
                <a:lnTo>
                  <a:pt x="7781" y="5629"/>
                </a:lnTo>
                <a:lnTo>
                  <a:pt x="7403" y="5807"/>
                </a:lnTo>
                <a:lnTo>
                  <a:pt x="7185" y="6016"/>
                </a:lnTo>
                <a:lnTo>
                  <a:pt x="7105" y="6185"/>
                </a:lnTo>
                <a:lnTo>
                  <a:pt x="7085" y="6484"/>
                </a:lnTo>
                <a:lnTo>
                  <a:pt x="7185" y="6712"/>
                </a:lnTo>
                <a:lnTo>
                  <a:pt x="7403" y="6931"/>
                </a:lnTo>
                <a:lnTo>
                  <a:pt x="7582" y="7031"/>
                </a:lnTo>
                <a:lnTo>
                  <a:pt x="7582" y="7657"/>
                </a:lnTo>
                <a:lnTo>
                  <a:pt x="6827" y="7329"/>
                </a:lnTo>
                <a:lnTo>
                  <a:pt x="6628" y="7130"/>
                </a:lnTo>
                <a:lnTo>
                  <a:pt x="6459" y="6812"/>
                </a:lnTo>
                <a:lnTo>
                  <a:pt x="6390" y="6245"/>
                </a:lnTo>
                <a:lnTo>
                  <a:pt x="6488" y="5897"/>
                </a:lnTo>
                <a:lnTo>
                  <a:pt x="6628" y="5649"/>
                </a:lnTo>
                <a:lnTo>
                  <a:pt x="6827" y="5449"/>
                </a:lnTo>
                <a:lnTo>
                  <a:pt x="7264" y="5152"/>
                </a:lnTo>
                <a:lnTo>
                  <a:pt x="9063" y="4604"/>
                </a:lnTo>
                <a:lnTo>
                  <a:pt x="9480" y="4325"/>
                </a:lnTo>
                <a:lnTo>
                  <a:pt x="9619" y="4047"/>
                </a:lnTo>
                <a:lnTo>
                  <a:pt x="8605" y="3689"/>
                </a:lnTo>
                <a:lnTo>
                  <a:pt x="8615" y="3550"/>
                </a:lnTo>
                <a:lnTo>
                  <a:pt x="9679" y="3868"/>
                </a:lnTo>
                <a:lnTo>
                  <a:pt x="9679" y="3610"/>
                </a:lnTo>
                <a:lnTo>
                  <a:pt x="9560" y="3262"/>
                </a:lnTo>
                <a:lnTo>
                  <a:pt x="9401" y="3062"/>
                </a:lnTo>
                <a:lnTo>
                  <a:pt x="8646" y="2765"/>
                </a:lnTo>
                <a:lnTo>
                  <a:pt x="8646" y="2198"/>
                </a:lnTo>
                <a:close/>
                <a:moveTo>
                  <a:pt x="8556" y="7369"/>
                </a:moveTo>
                <a:lnTo>
                  <a:pt x="8765" y="7409"/>
                </a:lnTo>
                <a:lnTo>
                  <a:pt x="9262" y="7717"/>
                </a:lnTo>
                <a:lnTo>
                  <a:pt x="9421" y="7946"/>
                </a:lnTo>
                <a:lnTo>
                  <a:pt x="9500" y="8343"/>
                </a:lnTo>
                <a:lnTo>
                  <a:pt x="9421" y="8652"/>
                </a:lnTo>
                <a:lnTo>
                  <a:pt x="9241" y="8890"/>
                </a:lnTo>
                <a:lnTo>
                  <a:pt x="8844" y="9129"/>
                </a:lnTo>
                <a:lnTo>
                  <a:pt x="7890" y="9487"/>
                </a:lnTo>
                <a:lnTo>
                  <a:pt x="7711" y="9646"/>
                </a:lnTo>
                <a:lnTo>
                  <a:pt x="7662" y="10273"/>
                </a:lnTo>
                <a:lnTo>
                  <a:pt x="7403" y="10113"/>
                </a:lnTo>
                <a:lnTo>
                  <a:pt x="7264" y="9706"/>
                </a:lnTo>
                <a:lnTo>
                  <a:pt x="7264" y="9487"/>
                </a:lnTo>
                <a:lnTo>
                  <a:pt x="7453" y="9209"/>
                </a:lnTo>
                <a:lnTo>
                  <a:pt x="7662" y="9069"/>
                </a:lnTo>
                <a:lnTo>
                  <a:pt x="8646" y="8691"/>
                </a:lnTo>
                <a:lnTo>
                  <a:pt x="8844" y="8503"/>
                </a:lnTo>
                <a:lnTo>
                  <a:pt x="8904" y="8263"/>
                </a:lnTo>
                <a:lnTo>
                  <a:pt x="8864" y="8124"/>
                </a:lnTo>
                <a:lnTo>
                  <a:pt x="8744" y="8005"/>
                </a:lnTo>
                <a:lnTo>
                  <a:pt x="8526" y="7905"/>
                </a:lnTo>
                <a:lnTo>
                  <a:pt x="8556" y="7369"/>
                </a:lnTo>
                <a:close/>
                <a:moveTo>
                  <a:pt x="7363" y="6155"/>
                </a:moveTo>
                <a:lnTo>
                  <a:pt x="7582" y="6225"/>
                </a:lnTo>
                <a:lnTo>
                  <a:pt x="7582" y="6693"/>
                </a:lnTo>
                <a:lnTo>
                  <a:pt x="7384" y="6544"/>
                </a:lnTo>
                <a:lnTo>
                  <a:pt x="7324" y="6216"/>
                </a:lnTo>
                <a:lnTo>
                  <a:pt x="7363" y="6155"/>
                </a:lnTo>
                <a:close/>
                <a:moveTo>
                  <a:pt x="8049" y="0"/>
                </a:moveTo>
                <a:lnTo>
                  <a:pt x="8298" y="20"/>
                </a:lnTo>
                <a:lnTo>
                  <a:pt x="8526" y="199"/>
                </a:lnTo>
                <a:lnTo>
                  <a:pt x="8605" y="696"/>
                </a:lnTo>
                <a:lnTo>
                  <a:pt x="8377" y="1224"/>
                </a:lnTo>
                <a:lnTo>
                  <a:pt x="8377" y="4544"/>
                </a:lnTo>
                <a:lnTo>
                  <a:pt x="7771" y="4704"/>
                </a:lnTo>
                <a:lnTo>
                  <a:pt x="7771" y="1441"/>
                </a:lnTo>
                <a:lnTo>
                  <a:pt x="7642" y="547"/>
                </a:lnTo>
                <a:lnTo>
                  <a:pt x="7691" y="358"/>
                </a:lnTo>
                <a:lnTo>
                  <a:pt x="7930" y="39"/>
                </a:lnTo>
                <a:lnTo>
                  <a:pt x="8049" y="0"/>
                </a:lnTo>
                <a:close/>
                <a:moveTo>
                  <a:pt x="7840" y="5867"/>
                </a:moveTo>
                <a:lnTo>
                  <a:pt x="8258" y="5768"/>
                </a:lnTo>
                <a:lnTo>
                  <a:pt x="8258" y="8672"/>
                </a:lnTo>
                <a:lnTo>
                  <a:pt x="7840" y="8761"/>
                </a:lnTo>
                <a:lnTo>
                  <a:pt x="7840" y="5867"/>
                </a:lnTo>
                <a:close/>
                <a:moveTo>
                  <a:pt x="8139" y="9587"/>
                </a:moveTo>
                <a:lnTo>
                  <a:pt x="8198" y="9587"/>
                </a:lnTo>
                <a:lnTo>
                  <a:pt x="8198" y="12580"/>
                </a:lnTo>
                <a:lnTo>
                  <a:pt x="8089" y="12719"/>
                </a:lnTo>
                <a:lnTo>
                  <a:pt x="7890" y="12639"/>
                </a:lnTo>
                <a:lnTo>
                  <a:pt x="7890" y="9735"/>
                </a:lnTo>
                <a:lnTo>
                  <a:pt x="8139" y="9587"/>
                </a:lnTo>
                <a:close/>
                <a:moveTo>
                  <a:pt x="3925" y="1641"/>
                </a:moveTo>
                <a:lnTo>
                  <a:pt x="3686" y="2049"/>
                </a:lnTo>
                <a:lnTo>
                  <a:pt x="2921" y="2864"/>
                </a:lnTo>
                <a:lnTo>
                  <a:pt x="1958" y="3639"/>
                </a:lnTo>
                <a:lnTo>
                  <a:pt x="2485" y="2745"/>
                </a:lnTo>
                <a:lnTo>
                  <a:pt x="2902" y="2258"/>
                </a:lnTo>
                <a:lnTo>
                  <a:pt x="3925" y="1641"/>
                </a:lnTo>
                <a:close/>
                <a:moveTo>
                  <a:pt x="12381" y="1780"/>
                </a:moveTo>
                <a:lnTo>
                  <a:pt x="12640" y="1869"/>
                </a:lnTo>
                <a:lnTo>
                  <a:pt x="12948" y="2059"/>
                </a:lnTo>
                <a:lnTo>
                  <a:pt x="13643" y="2704"/>
                </a:lnTo>
                <a:lnTo>
                  <a:pt x="13892" y="3062"/>
                </a:lnTo>
                <a:lnTo>
                  <a:pt x="14170" y="3689"/>
                </a:lnTo>
                <a:lnTo>
                  <a:pt x="13008" y="2606"/>
                </a:lnTo>
                <a:lnTo>
                  <a:pt x="12381" y="1780"/>
                </a:lnTo>
                <a:close/>
                <a:moveTo>
                  <a:pt x="1699" y="2824"/>
                </a:moveTo>
                <a:lnTo>
                  <a:pt x="1719" y="3202"/>
                </a:lnTo>
                <a:lnTo>
                  <a:pt x="1440" y="4724"/>
                </a:lnTo>
                <a:lnTo>
                  <a:pt x="1719" y="4306"/>
                </a:lnTo>
                <a:lnTo>
                  <a:pt x="2017" y="4008"/>
                </a:lnTo>
                <a:lnTo>
                  <a:pt x="3121" y="3202"/>
                </a:lnTo>
                <a:lnTo>
                  <a:pt x="2802" y="3779"/>
                </a:lnTo>
                <a:lnTo>
                  <a:pt x="1620" y="4892"/>
                </a:lnTo>
                <a:lnTo>
                  <a:pt x="1172" y="5390"/>
                </a:lnTo>
                <a:lnTo>
                  <a:pt x="1172" y="4087"/>
                </a:lnTo>
                <a:lnTo>
                  <a:pt x="1282" y="3570"/>
                </a:lnTo>
                <a:lnTo>
                  <a:pt x="1699" y="2824"/>
                </a:lnTo>
                <a:close/>
                <a:moveTo>
                  <a:pt x="14289" y="2864"/>
                </a:moveTo>
                <a:lnTo>
                  <a:pt x="14449" y="3003"/>
                </a:lnTo>
                <a:lnTo>
                  <a:pt x="14827" y="3660"/>
                </a:lnTo>
                <a:lnTo>
                  <a:pt x="15015" y="4167"/>
                </a:lnTo>
                <a:lnTo>
                  <a:pt x="15015" y="4952"/>
                </a:lnTo>
                <a:lnTo>
                  <a:pt x="14966" y="5529"/>
                </a:lnTo>
                <a:lnTo>
                  <a:pt x="14727" y="5191"/>
                </a:lnTo>
                <a:lnTo>
                  <a:pt x="13504" y="4008"/>
                </a:lnTo>
                <a:lnTo>
                  <a:pt x="13166" y="3461"/>
                </a:lnTo>
                <a:lnTo>
                  <a:pt x="13763" y="3809"/>
                </a:lnTo>
                <a:lnTo>
                  <a:pt x="14191" y="4186"/>
                </a:lnTo>
                <a:lnTo>
                  <a:pt x="14786" y="5012"/>
                </a:lnTo>
                <a:lnTo>
                  <a:pt x="14289" y="2864"/>
                </a:lnTo>
                <a:close/>
                <a:moveTo>
                  <a:pt x="726" y="4206"/>
                </a:moveTo>
                <a:lnTo>
                  <a:pt x="964" y="6792"/>
                </a:lnTo>
                <a:lnTo>
                  <a:pt x="994" y="6773"/>
                </a:lnTo>
                <a:lnTo>
                  <a:pt x="1084" y="6414"/>
                </a:lnTo>
                <a:lnTo>
                  <a:pt x="1461" y="5629"/>
                </a:lnTo>
                <a:lnTo>
                  <a:pt x="2117" y="4833"/>
                </a:lnTo>
                <a:lnTo>
                  <a:pt x="2057" y="5191"/>
                </a:lnTo>
                <a:lnTo>
                  <a:pt x="1859" y="5688"/>
                </a:lnTo>
                <a:lnTo>
                  <a:pt x="1342" y="6484"/>
                </a:lnTo>
                <a:lnTo>
                  <a:pt x="994" y="7409"/>
                </a:lnTo>
                <a:lnTo>
                  <a:pt x="536" y="6155"/>
                </a:lnTo>
                <a:lnTo>
                  <a:pt x="417" y="5608"/>
                </a:lnTo>
                <a:lnTo>
                  <a:pt x="417" y="5022"/>
                </a:lnTo>
                <a:lnTo>
                  <a:pt x="577" y="4445"/>
                </a:lnTo>
                <a:lnTo>
                  <a:pt x="726" y="4206"/>
                </a:lnTo>
                <a:close/>
                <a:moveTo>
                  <a:pt x="15402" y="4206"/>
                </a:moveTo>
                <a:lnTo>
                  <a:pt x="15671" y="5310"/>
                </a:lnTo>
                <a:lnTo>
                  <a:pt x="15671" y="5867"/>
                </a:lnTo>
                <a:lnTo>
                  <a:pt x="15214" y="7479"/>
                </a:lnTo>
                <a:lnTo>
                  <a:pt x="14966" y="6812"/>
                </a:lnTo>
                <a:lnTo>
                  <a:pt x="14389" y="5967"/>
                </a:lnTo>
                <a:lnTo>
                  <a:pt x="14081" y="5430"/>
                </a:lnTo>
                <a:lnTo>
                  <a:pt x="13962" y="4902"/>
                </a:lnTo>
                <a:lnTo>
                  <a:pt x="14528" y="5569"/>
                </a:lnTo>
                <a:lnTo>
                  <a:pt x="15194" y="6851"/>
                </a:lnTo>
                <a:lnTo>
                  <a:pt x="15253" y="6832"/>
                </a:lnTo>
                <a:lnTo>
                  <a:pt x="15253" y="5549"/>
                </a:lnTo>
                <a:lnTo>
                  <a:pt x="15402" y="4206"/>
                </a:lnTo>
                <a:close/>
                <a:moveTo>
                  <a:pt x="0" y="6066"/>
                </a:moveTo>
                <a:lnTo>
                  <a:pt x="278" y="6851"/>
                </a:lnTo>
                <a:lnTo>
                  <a:pt x="1162" y="8830"/>
                </a:lnTo>
                <a:lnTo>
                  <a:pt x="1362" y="7369"/>
                </a:lnTo>
                <a:lnTo>
                  <a:pt x="1620" y="6673"/>
                </a:lnTo>
                <a:lnTo>
                  <a:pt x="1798" y="6484"/>
                </a:lnTo>
                <a:lnTo>
                  <a:pt x="1798" y="7170"/>
                </a:lnTo>
                <a:lnTo>
                  <a:pt x="1421" y="8672"/>
                </a:lnTo>
                <a:lnTo>
                  <a:pt x="1321" y="9377"/>
                </a:lnTo>
                <a:lnTo>
                  <a:pt x="477" y="8234"/>
                </a:lnTo>
                <a:lnTo>
                  <a:pt x="219" y="7766"/>
                </a:lnTo>
                <a:lnTo>
                  <a:pt x="0" y="7031"/>
                </a:lnTo>
                <a:lnTo>
                  <a:pt x="0" y="6066"/>
                </a:lnTo>
                <a:close/>
                <a:moveTo>
                  <a:pt x="16048" y="6335"/>
                </a:moveTo>
                <a:lnTo>
                  <a:pt x="16128" y="6892"/>
                </a:lnTo>
                <a:lnTo>
                  <a:pt x="16048" y="7409"/>
                </a:lnTo>
                <a:lnTo>
                  <a:pt x="15909" y="7827"/>
                </a:lnTo>
                <a:lnTo>
                  <a:pt x="14667" y="9706"/>
                </a:lnTo>
                <a:lnTo>
                  <a:pt x="14667" y="9109"/>
                </a:lnTo>
                <a:lnTo>
                  <a:pt x="14310" y="7329"/>
                </a:lnTo>
                <a:lnTo>
                  <a:pt x="14310" y="6484"/>
                </a:lnTo>
                <a:lnTo>
                  <a:pt x="14707" y="7488"/>
                </a:lnTo>
                <a:lnTo>
                  <a:pt x="14886" y="8433"/>
                </a:lnTo>
                <a:lnTo>
                  <a:pt x="14886" y="9029"/>
                </a:lnTo>
                <a:lnTo>
                  <a:pt x="16048" y="6335"/>
                </a:lnTo>
                <a:close/>
                <a:moveTo>
                  <a:pt x="0" y="8324"/>
                </a:moveTo>
                <a:lnTo>
                  <a:pt x="1679" y="10551"/>
                </a:lnTo>
                <a:lnTo>
                  <a:pt x="1679" y="9149"/>
                </a:lnTo>
                <a:lnTo>
                  <a:pt x="1839" y="8343"/>
                </a:lnTo>
                <a:lnTo>
                  <a:pt x="2017" y="8910"/>
                </a:lnTo>
                <a:lnTo>
                  <a:pt x="2076" y="9765"/>
                </a:lnTo>
                <a:lnTo>
                  <a:pt x="2076" y="10820"/>
                </a:lnTo>
                <a:lnTo>
                  <a:pt x="2176" y="11287"/>
                </a:lnTo>
                <a:lnTo>
                  <a:pt x="1540" y="10820"/>
                </a:lnTo>
                <a:lnTo>
                  <a:pt x="855" y="10153"/>
                </a:lnTo>
                <a:lnTo>
                  <a:pt x="298" y="9328"/>
                </a:lnTo>
                <a:lnTo>
                  <a:pt x="0" y="8324"/>
                </a:lnTo>
                <a:close/>
                <a:moveTo>
                  <a:pt x="14130" y="8383"/>
                </a:moveTo>
                <a:lnTo>
                  <a:pt x="14349" y="10034"/>
                </a:lnTo>
                <a:lnTo>
                  <a:pt x="14230" y="10730"/>
                </a:lnTo>
                <a:lnTo>
                  <a:pt x="14330" y="10670"/>
                </a:lnTo>
                <a:lnTo>
                  <a:pt x="14747" y="10034"/>
                </a:lnTo>
                <a:lnTo>
                  <a:pt x="15870" y="8672"/>
                </a:lnTo>
                <a:lnTo>
                  <a:pt x="15770" y="9188"/>
                </a:lnTo>
                <a:lnTo>
                  <a:pt x="15343" y="9994"/>
                </a:lnTo>
                <a:lnTo>
                  <a:pt x="14886" y="10511"/>
                </a:lnTo>
                <a:lnTo>
                  <a:pt x="13753" y="11466"/>
                </a:lnTo>
                <a:lnTo>
                  <a:pt x="13952" y="10531"/>
                </a:lnTo>
                <a:lnTo>
                  <a:pt x="13952" y="8851"/>
                </a:lnTo>
                <a:lnTo>
                  <a:pt x="14130" y="8383"/>
                </a:lnTo>
                <a:close/>
                <a:moveTo>
                  <a:pt x="2405" y="9905"/>
                </a:moveTo>
                <a:lnTo>
                  <a:pt x="2763" y="10571"/>
                </a:lnTo>
                <a:lnTo>
                  <a:pt x="3240" y="12172"/>
                </a:lnTo>
                <a:lnTo>
                  <a:pt x="3557" y="12789"/>
                </a:lnTo>
                <a:lnTo>
                  <a:pt x="2405" y="12351"/>
                </a:lnTo>
                <a:lnTo>
                  <a:pt x="1600" y="11933"/>
                </a:lnTo>
                <a:lnTo>
                  <a:pt x="984" y="11397"/>
                </a:lnTo>
                <a:lnTo>
                  <a:pt x="726" y="11028"/>
                </a:lnTo>
                <a:lnTo>
                  <a:pt x="457" y="10492"/>
                </a:lnTo>
                <a:lnTo>
                  <a:pt x="1053" y="10969"/>
                </a:lnTo>
                <a:lnTo>
                  <a:pt x="1978" y="11516"/>
                </a:lnTo>
                <a:lnTo>
                  <a:pt x="3001" y="12271"/>
                </a:lnTo>
                <a:lnTo>
                  <a:pt x="2524" y="11108"/>
                </a:lnTo>
                <a:lnTo>
                  <a:pt x="2405" y="10690"/>
                </a:lnTo>
                <a:lnTo>
                  <a:pt x="2405" y="9905"/>
                </a:lnTo>
                <a:close/>
                <a:moveTo>
                  <a:pt x="13544" y="9964"/>
                </a:moveTo>
                <a:lnTo>
                  <a:pt x="13544" y="10372"/>
                </a:lnTo>
                <a:lnTo>
                  <a:pt x="13346" y="11456"/>
                </a:lnTo>
                <a:lnTo>
                  <a:pt x="12968" y="12351"/>
                </a:lnTo>
                <a:lnTo>
                  <a:pt x="13326" y="12172"/>
                </a:lnTo>
                <a:lnTo>
                  <a:pt x="15314" y="10820"/>
                </a:lnTo>
                <a:lnTo>
                  <a:pt x="15551" y="10591"/>
                </a:lnTo>
                <a:lnTo>
                  <a:pt x="15194" y="11287"/>
                </a:lnTo>
                <a:lnTo>
                  <a:pt x="14786" y="11714"/>
                </a:lnTo>
                <a:lnTo>
                  <a:pt x="13763" y="12291"/>
                </a:lnTo>
                <a:lnTo>
                  <a:pt x="12282" y="12918"/>
                </a:lnTo>
                <a:lnTo>
                  <a:pt x="12700" y="12113"/>
                </a:lnTo>
                <a:lnTo>
                  <a:pt x="13107" y="10730"/>
                </a:lnTo>
                <a:lnTo>
                  <a:pt x="13544" y="9964"/>
                </a:lnTo>
                <a:close/>
                <a:moveTo>
                  <a:pt x="12610" y="11257"/>
                </a:moveTo>
                <a:lnTo>
                  <a:pt x="12442" y="11814"/>
                </a:lnTo>
                <a:lnTo>
                  <a:pt x="12004" y="12699"/>
                </a:lnTo>
                <a:lnTo>
                  <a:pt x="11567" y="13435"/>
                </a:lnTo>
                <a:lnTo>
                  <a:pt x="13465" y="12958"/>
                </a:lnTo>
                <a:lnTo>
                  <a:pt x="13952" y="12778"/>
                </a:lnTo>
                <a:lnTo>
                  <a:pt x="14766" y="12291"/>
                </a:lnTo>
                <a:lnTo>
                  <a:pt x="14608" y="12610"/>
                </a:lnTo>
                <a:lnTo>
                  <a:pt x="14310" y="12918"/>
                </a:lnTo>
                <a:lnTo>
                  <a:pt x="13485" y="13405"/>
                </a:lnTo>
                <a:lnTo>
                  <a:pt x="12610" y="13663"/>
                </a:lnTo>
                <a:lnTo>
                  <a:pt x="10990" y="13663"/>
                </a:lnTo>
                <a:lnTo>
                  <a:pt x="11199" y="13376"/>
                </a:lnTo>
                <a:lnTo>
                  <a:pt x="12044" y="11794"/>
                </a:lnTo>
                <a:lnTo>
                  <a:pt x="12610" y="11257"/>
                </a:lnTo>
                <a:close/>
                <a:moveTo>
                  <a:pt x="3379" y="11337"/>
                </a:moveTo>
                <a:lnTo>
                  <a:pt x="3727" y="11635"/>
                </a:lnTo>
                <a:lnTo>
                  <a:pt x="4283" y="12580"/>
                </a:lnTo>
                <a:lnTo>
                  <a:pt x="4819" y="13703"/>
                </a:lnTo>
                <a:lnTo>
                  <a:pt x="3319" y="13554"/>
                </a:lnTo>
                <a:lnTo>
                  <a:pt x="2604" y="13355"/>
                </a:lnTo>
                <a:lnTo>
                  <a:pt x="2107" y="13137"/>
                </a:lnTo>
                <a:lnTo>
                  <a:pt x="1679" y="12838"/>
                </a:lnTo>
                <a:lnTo>
                  <a:pt x="1262" y="12291"/>
                </a:lnTo>
                <a:lnTo>
                  <a:pt x="1998" y="12639"/>
                </a:lnTo>
                <a:lnTo>
                  <a:pt x="3021" y="12918"/>
                </a:lnTo>
                <a:lnTo>
                  <a:pt x="4461" y="13415"/>
                </a:lnTo>
                <a:lnTo>
                  <a:pt x="3925" y="12639"/>
                </a:lnTo>
                <a:lnTo>
                  <a:pt x="3488" y="11755"/>
                </a:lnTo>
                <a:lnTo>
                  <a:pt x="3379" y="11337"/>
                </a:lnTo>
                <a:close/>
                <a:moveTo>
                  <a:pt x="6141" y="13614"/>
                </a:moveTo>
                <a:lnTo>
                  <a:pt x="6768" y="13614"/>
                </a:lnTo>
                <a:lnTo>
                  <a:pt x="7582" y="13853"/>
                </a:lnTo>
                <a:lnTo>
                  <a:pt x="7125" y="14181"/>
                </a:lnTo>
                <a:lnTo>
                  <a:pt x="6578" y="14221"/>
                </a:lnTo>
                <a:lnTo>
                  <a:pt x="4760" y="14539"/>
                </a:lnTo>
                <a:lnTo>
                  <a:pt x="3925" y="14539"/>
                </a:lnTo>
                <a:lnTo>
                  <a:pt x="3220" y="14320"/>
                </a:lnTo>
                <a:lnTo>
                  <a:pt x="2643" y="13932"/>
                </a:lnTo>
                <a:lnTo>
                  <a:pt x="3180" y="14101"/>
                </a:lnTo>
                <a:lnTo>
                  <a:pt x="4025" y="14101"/>
                </a:lnTo>
                <a:lnTo>
                  <a:pt x="4363" y="14082"/>
                </a:lnTo>
                <a:lnTo>
                  <a:pt x="5445" y="13733"/>
                </a:lnTo>
                <a:lnTo>
                  <a:pt x="6141" y="13614"/>
                </a:lnTo>
                <a:close/>
                <a:moveTo>
                  <a:pt x="9162" y="13703"/>
                </a:moveTo>
                <a:lnTo>
                  <a:pt x="9867" y="13703"/>
                </a:lnTo>
                <a:lnTo>
                  <a:pt x="11587" y="14062"/>
                </a:lnTo>
                <a:lnTo>
                  <a:pt x="12372" y="14141"/>
                </a:lnTo>
                <a:lnTo>
                  <a:pt x="12809" y="14101"/>
                </a:lnTo>
                <a:lnTo>
                  <a:pt x="13365" y="13922"/>
                </a:lnTo>
                <a:lnTo>
                  <a:pt x="13246" y="14041"/>
                </a:lnTo>
                <a:lnTo>
                  <a:pt x="12401" y="14459"/>
                </a:lnTo>
                <a:lnTo>
                  <a:pt x="11448" y="14618"/>
                </a:lnTo>
                <a:lnTo>
                  <a:pt x="10782" y="14539"/>
                </a:lnTo>
                <a:lnTo>
                  <a:pt x="9182" y="14181"/>
                </a:lnTo>
                <a:lnTo>
                  <a:pt x="8377" y="14181"/>
                </a:lnTo>
                <a:lnTo>
                  <a:pt x="7930" y="14280"/>
                </a:lnTo>
                <a:lnTo>
                  <a:pt x="7284" y="14559"/>
                </a:lnTo>
                <a:lnTo>
                  <a:pt x="6946" y="14797"/>
                </a:lnTo>
                <a:lnTo>
                  <a:pt x="6390" y="15384"/>
                </a:lnTo>
                <a:lnTo>
                  <a:pt x="6132" y="15205"/>
                </a:lnTo>
                <a:lnTo>
                  <a:pt x="6429" y="14907"/>
                </a:lnTo>
                <a:lnTo>
                  <a:pt x="7602" y="14111"/>
                </a:lnTo>
                <a:lnTo>
                  <a:pt x="8526" y="13783"/>
                </a:lnTo>
                <a:lnTo>
                  <a:pt x="9162" y="13703"/>
                </a:lnTo>
                <a:close/>
                <a:moveTo>
                  <a:pt x="8744" y="14360"/>
                </a:moveTo>
                <a:lnTo>
                  <a:pt x="9788" y="15265"/>
                </a:lnTo>
                <a:lnTo>
                  <a:pt x="9818" y="15345"/>
                </a:lnTo>
                <a:lnTo>
                  <a:pt x="9550" y="15384"/>
                </a:lnTo>
                <a:lnTo>
                  <a:pt x="8486" y="14439"/>
                </a:lnTo>
                <a:lnTo>
                  <a:pt x="8744" y="143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04920"/>
            <a:ext cx="91440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¿Por qué un nuevo patrón internacion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de crecimiento infantil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698480" y="571680"/>
            <a:ext cx="912204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320" y="266760"/>
            <a:ext cx="9121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99cc00"/>
                </a:solidFill>
                <a:latin typeface="Times New Roman"/>
              </a:rPr>
              <a:t>   </a:t>
            </a:r>
            <a:r>
              <a:rPr b="0" lang="es-VE" sz="3600" spc="-1" strike="noStrike">
                <a:solidFill>
                  <a:srgbClr val="000000"/>
                </a:solidFill>
                <a:latin typeface="Times New Roman"/>
              </a:rPr>
              <a:t>Características de la referenc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Times New Roman"/>
              </a:rPr>
              <a:t>NCHS para niños de 0 a 36 mese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54160" y="6176880"/>
            <a:ext cx="8889480" cy="680760"/>
            <a:chOff x="254160" y="6176880"/>
            <a:chExt cx="8889480" cy="680760"/>
          </a:xfrm>
        </p:grpSpPr>
        <p:sp>
          <p:nvSpPr>
            <p:cNvPr id="74" name=""/>
            <p:cNvSpPr/>
            <p:nvPr/>
          </p:nvSpPr>
          <p:spPr>
            <a:xfrm>
              <a:off x="254160" y="6176880"/>
              <a:ext cx="506520" cy="68076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81200" y="6273360"/>
              <a:ext cx="8362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400" spc="-1" strike="noStrike">
                  <a:solidFill>
                    <a:srgbClr val="333399"/>
                  </a:solidFill>
                  <a:latin typeface="Times New Roman"/>
                </a:rPr>
                <a:t>Estudio multicéntrico de la OMS sobre el patrón de crecimiento</a:t>
              </a:r>
              <a:r>
                <a:rPr b="0" lang="en-GB" sz="2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24000" y="457200"/>
            <a:ext cx="7893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29240" y="5307120"/>
            <a:ext cx="2890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523880"/>
            <a:ext cx="8057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asada en datos longitudinales previos a 19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iños de ascendencia europea, residentes en Oh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limentados fundamentalmente con fórmu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ediciones cada 3 m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o incluye composición cor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l método analítico disponible era inadecuado para describir la variabilidad del crecimiento norma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47760" y="1773360"/>
            <a:ext cx="87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La referencia NCHS/OMS es inapropiada para evaluar el crecimiento de lactantes sanos, al menos hasta los 12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Es necesario un nuevo patrón de crecimien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La nueva referencia debe reflejar como </a:t>
            </a: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deberían crecer los niños en condiciones ideales en lugar de describir cómo crecen en un entorno o momento específ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3352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Conclusiones del Grupo de Trabajo OMS sobre crecimiento infant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85800" y="6019920"/>
            <a:ext cx="7921440" cy="504720"/>
            <a:chOff x="685800" y="6019920"/>
            <a:chExt cx="7921440" cy="504720"/>
          </a:xfrm>
        </p:grpSpPr>
        <p:sp>
          <p:nvSpPr>
            <p:cNvPr id="82" name=""/>
            <p:cNvSpPr/>
            <p:nvPr/>
          </p:nvSpPr>
          <p:spPr>
            <a:xfrm>
              <a:off x="685800" y="601992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55240" y="609156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058760" y="1625760"/>
          <a:ext cx="6721560" cy="4194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58760" y="1625760"/>
                    <a:ext cx="672156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858960" y="5734080"/>
            <a:ext cx="82850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Fuente: de Onis &amp; Onyango. The CDC 2000 growth charts and the growth of breastfed infa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Acta Paediatrica 2003;92:413-4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04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Peso-edad en lactantes sanos amamantados en relación a NCHS  (puntaje Z).</a:t>
            </a:r>
            <a:r>
              <a:rPr b="0" lang="es-V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16360" y="5300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cc00"/>
                </a:solidFill>
                <a:latin typeface="Arial"/>
              </a:rPr>
              <a:t>Me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76240" y="1162080"/>
            <a:ext cx="7391520" cy="4257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5638680"/>
            <a:ext cx="102106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Fuente: Evaluación del crecimiento del lactante, OMS, 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De Onis &amp; Onyango. The CDC 2000 growth charts and the growth of breastfed infa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Acta Paediatrica 2003;92:413-4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ntaje z promedio en niños amamantados respecto a NCH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549360"/>
            <a:ext cx="914400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Times New Roman"/>
              </a:rPr>
              <a:t>Una curva de crecimiento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Times New Roman"/>
              </a:rPr>
              <a:t>para el siglo XXI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708280"/>
            <a:ext cx="91440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333399"/>
                </a:solidFill>
                <a:latin typeface="Times New Roman"/>
              </a:rPr>
              <a:t>Estudio multicéntrico de l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333399"/>
                </a:solidFill>
                <a:latin typeface="Times New Roman"/>
              </a:rPr>
              <a:t>OMS sobre el patrón de crecimiento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300640"/>
            <a:ext cx="91440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Departamento de Nutri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Organización Mundial de la Sal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Ginebra, Sui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4680" y="1700280"/>
            <a:ext cx="1218960" cy="1162080"/>
          </a:xfrm>
          <a:custGeom>
            <a:avLst/>
            <a:gdLst/>
            <a:ahLst/>
            <a:rect l="l" t="t" r="r" b="b"/>
            <a:pathLst>
              <a:path w="16128" h="15384">
                <a:moveTo>
                  <a:pt x="7403" y="1183"/>
                </a:moveTo>
                <a:lnTo>
                  <a:pt x="7463" y="1203"/>
                </a:lnTo>
                <a:lnTo>
                  <a:pt x="7463" y="1422"/>
                </a:lnTo>
                <a:lnTo>
                  <a:pt x="6966" y="1502"/>
                </a:lnTo>
                <a:lnTo>
                  <a:pt x="5903" y="1820"/>
                </a:lnTo>
                <a:lnTo>
                  <a:pt x="5068" y="2258"/>
                </a:lnTo>
                <a:lnTo>
                  <a:pt x="4402" y="2765"/>
                </a:lnTo>
                <a:lnTo>
                  <a:pt x="4084" y="3083"/>
                </a:lnTo>
                <a:lnTo>
                  <a:pt x="4720" y="3769"/>
                </a:lnTo>
                <a:lnTo>
                  <a:pt x="4780" y="3769"/>
                </a:lnTo>
                <a:lnTo>
                  <a:pt x="5326" y="3312"/>
                </a:lnTo>
                <a:lnTo>
                  <a:pt x="5962" y="2904"/>
                </a:lnTo>
                <a:lnTo>
                  <a:pt x="6578" y="2626"/>
                </a:lnTo>
                <a:lnTo>
                  <a:pt x="7513" y="2337"/>
                </a:lnTo>
                <a:lnTo>
                  <a:pt x="7513" y="2923"/>
                </a:lnTo>
                <a:lnTo>
                  <a:pt x="7343" y="3003"/>
                </a:lnTo>
                <a:lnTo>
                  <a:pt x="6768" y="3510"/>
                </a:lnTo>
                <a:lnTo>
                  <a:pt x="5823" y="4108"/>
                </a:lnTo>
                <a:lnTo>
                  <a:pt x="5645" y="4108"/>
                </a:lnTo>
                <a:lnTo>
                  <a:pt x="5565" y="4167"/>
                </a:lnTo>
                <a:lnTo>
                  <a:pt x="5426" y="4505"/>
                </a:lnTo>
                <a:lnTo>
                  <a:pt x="5525" y="4525"/>
                </a:lnTo>
                <a:lnTo>
                  <a:pt x="5982" y="4147"/>
                </a:lnTo>
                <a:lnTo>
                  <a:pt x="6628" y="3779"/>
                </a:lnTo>
                <a:lnTo>
                  <a:pt x="7523" y="3550"/>
                </a:lnTo>
                <a:lnTo>
                  <a:pt x="7523" y="3660"/>
                </a:lnTo>
                <a:lnTo>
                  <a:pt x="7046" y="3769"/>
                </a:lnTo>
                <a:lnTo>
                  <a:pt x="6400" y="4028"/>
                </a:lnTo>
                <a:lnTo>
                  <a:pt x="6042" y="4247"/>
                </a:lnTo>
                <a:lnTo>
                  <a:pt x="5604" y="4624"/>
                </a:lnTo>
                <a:lnTo>
                  <a:pt x="5625" y="4704"/>
                </a:lnTo>
                <a:lnTo>
                  <a:pt x="6370" y="5449"/>
                </a:lnTo>
                <a:lnTo>
                  <a:pt x="6866" y="5131"/>
                </a:lnTo>
                <a:lnTo>
                  <a:pt x="6887" y="5211"/>
                </a:lnTo>
                <a:lnTo>
                  <a:pt x="6330" y="5668"/>
                </a:lnTo>
                <a:lnTo>
                  <a:pt x="5903" y="6394"/>
                </a:lnTo>
                <a:lnTo>
                  <a:pt x="5863" y="6544"/>
                </a:lnTo>
                <a:lnTo>
                  <a:pt x="6141" y="6414"/>
                </a:lnTo>
                <a:lnTo>
                  <a:pt x="6220" y="6892"/>
                </a:lnTo>
                <a:lnTo>
                  <a:pt x="6370" y="7209"/>
                </a:lnTo>
                <a:lnTo>
                  <a:pt x="6549" y="7458"/>
                </a:lnTo>
                <a:lnTo>
                  <a:pt x="7125" y="7766"/>
                </a:lnTo>
                <a:lnTo>
                  <a:pt x="7006" y="7806"/>
                </a:lnTo>
                <a:lnTo>
                  <a:pt x="6946" y="8124"/>
                </a:lnTo>
                <a:lnTo>
                  <a:pt x="7006" y="8124"/>
                </a:lnTo>
                <a:lnTo>
                  <a:pt x="7165" y="7966"/>
                </a:lnTo>
                <a:lnTo>
                  <a:pt x="7224" y="7846"/>
                </a:lnTo>
                <a:lnTo>
                  <a:pt x="7482" y="7747"/>
                </a:lnTo>
                <a:lnTo>
                  <a:pt x="7572" y="7786"/>
                </a:lnTo>
                <a:lnTo>
                  <a:pt x="7343" y="8045"/>
                </a:lnTo>
                <a:lnTo>
                  <a:pt x="7244" y="8045"/>
                </a:lnTo>
                <a:lnTo>
                  <a:pt x="6459" y="8910"/>
                </a:lnTo>
                <a:lnTo>
                  <a:pt x="6578" y="9029"/>
                </a:lnTo>
                <a:lnTo>
                  <a:pt x="7165" y="9348"/>
                </a:lnTo>
                <a:lnTo>
                  <a:pt x="7165" y="9438"/>
                </a:lnTo>
                <a:lnTo>
                  <a:pt x="7026" y="9407"/>
                </a:lnTo>
                <a:lnTo>
                  <a:pt x="6370" y="8970"/>
                </a:lnTo>
                <a:lnTo>
                  <a:pt x="5764" y="9587"/>
                </a:lnTo>
                <a:lnTo>
                  <a:pt x="5764" y="9815"/>
                </a:lnTo>
                <a:lnTo>
                  <a:pt x="5942" y="9935"/>
                </a:lnTo>
                <a:lnTo>
                  <a:pt x="5982" y="10134"/>
                </a:lnTo>
                <a:lnTo>
                  <a:pt x="6668" y="10492"/>
                </a:lnTo>
                <a:lnTo>
                  <a:pt x="7691" y="10770"/>
                </a:lnTo>
                <a:lnTo>
                  <a:pt x="7691" y="10889"/>
                </a:lnTo>
                <a:lnTo>
                  <a:pt x="7046" y="10789"/>
                </a:lnTo>
                <a:lnTo>
                  <a:pt x="6688" y="10670"/>
                </a:lnTo>
                <a:lnTo>
                  <a:pt x="5942" y="10273"/>
                </a:lnTo>
                <a:lnTo>
                  <a:pt x="5664" y="10273"/>
                </a:lnTo>
                <a:lnTo>
                  <a:pt x="5406" y="10392"/>
                </a:lnTo>
                <a:lnTo>
                  <a:pt x="4958" y="10392"/>
                </a:lnTo>
                <a:lnTo>
                  <a:pt x="4870" y="10571"/>
                </a:lnTo>
                <a:lnTo>
                  <a:pt x="5645" y="11178"/>
                </a:lnTo>
                <a:lnTo>
                  <a:pt x="6220" y="11466"/>
                </a:lnTo>
                <a:lnTo>
                  <a:pt x="6966" y="11714"/>
                </a:lnTo>
                <a:lnTo>
                  <a:pt x="7711" y="11853"/>
                </a:lnTo>
                <a:lnTo>
                  <a:pt x="7711" y="11974"/>
                </a:lnTo>
                <a:lnTo>
                  <a:pt x="7046" y="11894"/>
                </a:lnTo>
                <a:lnTo>
                  <a:pt x="6251" y="11655"/>
                </a:lnTo>
                <a:lnTo>
                  <a:pt x="5486" y="11257"/>
                </a:lnTo>
                <a:lnTo>
                  <a:pt x="4700" y="10670"/>
                </a:lnTo>
                <a:lnTo>
                  <a:pt x="4084" y="11376"/>
                </a:lnTo>
                <a:lnTo>
                  <a:pt x="5048" y="12113"/>
                </a:lnTo>
                <a:lnTo>
                  <a:pt x="5883" y="12549"/>
                </a:lnTo>
                <a:lnTo>
                  <a:pt x="7185" y="12918"/>
                </a:lnTo>
                <a:lnTo>
                  <a:pt x="8586" y="12918"/>
                </a:lnTo>
                <a:lnTo>
                  <a:pt x="9341" y="12789"/>
                </a:lnTo>
                <a:lnTo>
                  <a:pt x="10483" y="12351"/>
                </a:lnTo>
                <a:lnTo>
                  <a:pt x="11249" y="11894"/>
                </a:lnTo>
                <a:lnTo>
                  <a:pt x="11904" y="11337"/>
                </a:lnTo>
                <a:lnTo>
                  <a:pt x="11904" y="11276"/>
                </a:lnTo>
                <a:lnTo>
                  <a:pt x="11289" y="10650"/>
                </a:lnTo>
                <a:lnTo>
                  <a:pt x="11199" y="10650"/>
                </a:lnTo>
                <a:lnTo>
                  <a:pt x="10464" y="11227"/>
                </a:lnTo>
                <a:lnTo>
                  <a:pt x="9460" y="11853"/>
                </a:lnTo>
                <a:lnTo>
                  <a:pt x="9380" y="11794"/>
                </a:lnTo>
                <a:lnTo>
                  <a:pt x="8486" y="11953"/>
                </a:lnTo>
                <a:lnTo>
                  <a:pt x="8486" y="11794"/>
                </a:lnTo>
                <a:lnTo>
                  <a:pt x="9063" y="11714"/>
                </a:lnTo>
                <a:lnTo>
                  <a:pt x="9043" y="11536"/>
                </a:lnTo>
                <a:lnTo>
                  <a:pt x="8725" y="11337"/>
                </a:lnTo>
                <a:lnTo>
                  <a:pt x="8675" y="11198"/>
                </a:lnTo>
                <a:lnTo>
                  <a:pt x="8765" y="11178"/>
                </a:lnTo>
                <a:lnTo>
                  <a:pt x="9003" y="11466"/>
                </a:lnTo>
                <a:lnTo>
                  <a:pt x="9143" y="11397"/>
                </a:lnTo>
                <a:lnTo>
                  <a:pt x="9143" y="10730"/>
                </a:lnTo>
                <a:lnTo>
                  <a:pt x="9003" y="10760"/>
                </a:lnTo>
                <a:lnTo>
                  <a:pt x="9063" y="11147"/>
                </a:lnTo>
                <a:lnTo>
                  <a:pt x="8804" y="10830"/>
                </a:lnTo>
                <a:lnTo>
                  <a:pt x="8486" y="10869"/>
                </a:lnTo>
                <a:lnTo>
                  <a:pt x="8466" y="10730"/>
                </a:lnTo>
                <a:lnTo>
                  <a:pt x="8556" y="10711"/>
                </a:lnTo>
                <a:lnTo>
                  <a:pt x="8556" y="10650"/>
                </a:lnTo>
                <a:lnTo>
                  <a:pt x="8466" y="10591"/>
                </a:lnTo>
                <a:lnTo>
                  <a:pt x="8486" y="10312"/>
                </a:lnTo>
                <a:lnTo>
                  <a:pt x="8864" y="10591"/>
                </a:lnTo>
                <a:lnTo>
                  <a:pt x="9043" y="10591"/>
                </a:lnTo>
                <a:lnTo>
                  <a:pt x="9003" y="10472"/>
                </a:lnTo>
                <a:lnTo>
                  <a:pt x="8804" y="10273"/>
                </a:lnTo>
                <a:lnTo>
                  <a:pt x="8486" y="10093"/>
                </a:lnTo>
                <a:lnTo>
                  <a:pt x="8486" y="9487"/>
                </a:lnTo>
                <a:lnTo>
                  <a:pt x="9262" y="9168"/>
                </a:lnTo>
                <a:lnTo>
                  <a:pt x="9480" y="8970"/>
                </a:lnTo>
                <a:lnTo>
                  <a:pt x="9619" y="8691"/>
                </a:lnTo>
                <a:lnTo>
                  <a:pt x="9699" y="8045"/>
                </a:lnTo>
                <a:lnTo>
                  <a:pt x="9520" y="7657"/>
                </a:lnTo>
                <a:lnTo>
                  <a:pt x="9023" y="7289"/>
                </a:lnTo>
                <a:lnTo>
                  <a:pt x="8556" y="7110"/>
                </a:lnTo>
                <a:lnTo>
                  <a:pt x="8556" y="5967"/>
                </a:lnTo>
                <a:lnTo>
                  <a:pt x="8705" y="5897"/>
                </a:lnTo>
                <a:lnTo>
                  <a:pt x="8744" y="6216"/>
                </a:lnTo>
                <a:lnTo>
                  <a:pt x="8904" y="6165"/>
                </a:lnTo>
                <a:lnTo>
                  <a:pt x="8983" y="5927"/>
                </a:lnTo>
                <a:lnTo>
                  <a:pt x="9282" y="5788"/>
                </a:lnTo>
                <a:lnTo>
                  <a:pt x="10364" y="4644"/>
                </a:lnTo>
                <a:lnTo>
                  <a:pt x="10444" y="4465"/>
                </a:lnTo>
                <a:lnTo>
                  <a:pt x="10524" y="4485"/>
                </a:lnTo>
                <a:lnTo>
                  <a:pt x="10722" y="4286"/>
                </a:lnTo>
                <a:lnTo>
                  <a:pt x="10663" y="4147"/>
                </a:lnTo>
                <a:lnTo>
                  <a:pt x="10702" y="3510"/>
                </a:lnTo>
                <a:lnTo>
                  <a:pt x="10544" y="3043"/>
                </a:lnTo>
                <a:lnTo>
                  <a:pt x="10642" y="2984"/>
                </a:lnTo>
                <a:lnTo>
                  <a:pt x="10802" y="3123"/>
                </a:lnTo>
                <a:lnTo>
                  <a:pt x="11060" y="3202"/>
                </a:lnTo>
                <a:lnTo>
                  <a:pt x="11229" y="3461"/>
                </a:lnTo>
                <a:lnTo>
                  <a:pt x="11258" y="3660"/>
                </a:lnTo>
                <a:lnTo>
                  <a:pt x="11319" y="3660"/>
                </a:lnTo>
                <a:lnTo>
                  <a:pt x="11885" y="3062"/>
                </a:lnTo>
                <a:lnTo>
                  <a:pt x="11904" y="2984"/>
                </a:lnTo>
                <a:lnTo>
                  <a:pt x="11000" y="2278"/>
                </a:lnTo>
                <a:lnTo>
                  <a:pt x="9867" y="1721"/>
                </a:lnTo>
                <a:lnTo>
                  <a:pt x="8665" y="1441"/>
                </a:lnTo>
                <a:lnTo>
                  <a:pt x="8665" y="1203"/>
                </a:lnTo>
                <a:lnTo>
                  <a:pt x="9669" y="1382"/>
                </a:lnTo>
                <a:lnTo>
                  <a:pt x="10663" y="1780"/>
                </a:lnTo>
                <a:lnTo>
                  <a:pt x="11746" y="2506"/>
                </a:lnTo>
                <a:lnTo>
                  <a:pt x="12322" y="3083"/>
                </a:lnTo>
                <a:lnTo>
                  <a:pt x="12888" y="3829"/>
                </a:lnTo>
                <a:lnTo>
                  <a:pt x="13465" y="4952"/>
                </a:lnTo>
                <a:lnTo>
                  <a:pt x="13872" y="6533"/>
                </a:lnTo>
                <a:lnTo>
                  <a:pt x="13872" y="7567"/>
                </a:lnTo>
                <a:lnTo>
                  <a:pt x="13643" y="8910"/>
                </a:lnTo>
                <a:lnTo>
                  <a:pt x="13426" y="9526"/>
                </a:lnTo>
                <a:lnTo>
                  <a:pt x="12968" y="10412"/>
                </a:lnTo>
                <a:lnTo>
                  <a:pt x="12571" y="10969"/>
                </a:lnTo>
                <a:lnTo>
                  <a:pt x="11925" y="11655"/>
                </a:lnTo>
                <a:lnTo>
                  <a:pt x="11448" y="12033"/>
                </a:lnTo>
                <a:lnTo>
                  <a:pt x="10683" y="12520"/>
                </a:lnTo>
                <a:lnTo>
                  <a:pt x="10047" y="12819"/>
                </a:lnTo>
                <a:lnTo>
                  <a:pt x="9262" y="13057"/>
                </a:lnTo>
                <a:lnTo>
                  <a:pt x="8526" y="13196"/>
                </a:lnTo>
                <a:lnTo>
                  <a:pt x="7691" y="13196"/>
                </a:lnTo>
                <a:lnTo>
                  <a:pt x="6846" y="13116"/>
                </a:lnTo>
                <a:lnTo>
                  <a:pt x="5883" y="12838"/>
                </a:lnTo>
                <a:lnTo>
                  <a:pt x="5366" y="12600"/>
                </a:lnTo>
                <a:lnTo>
                  <a:pt x="4581" y="12113"/>
                </a:lnTo>
                <a:lnTo>
                  <a:pt x="4164" y="11774"/>
                </a:lnTo>
                <a:lnTo>
                  <a:pt x="3617" y="11227"/>
                </a:lnTo>
                <a:lnTo>
                  <a:pt x="2882" y="10153"/>
                </a:lnTo>
                <a:lnTo>
                  <a:pt x="2424" y="9049"/>
                </a:lnTo>
                <a:lnTo>
                  <a:pt x="2226" y="8185"/>
                </a:lnTo>
                <a:lnTo>
                  <a:pt x="2166" y="7130"/>
                </a:lnTo>
                <a:lnTo>
                  <a:pt x="2166" y="6533"/>
                </a:lnTo>
                <a:lnTo>
                  <a:pt x="2315" y="5668"/>
                </a:lnTo>
                <a:lnTo>
                  <a:pt x="2563" y="4952"/>
                </a:lnTo>
                <a:lnTo>
                  <a:pt x="2941" y="4147"/>
                </a:lnTo>
                <a:lnTo>
                  <a:pt x="3319" y="3570"/>
                </a:lnTo>
                <a:lnTo>
                  <a:pt x="4005" y="2804"/>
                </a:lnTo>
                <a:lnTo>
                  <a:pt x="4581" y="2317"/>
                </a:lnTo>
                <a:lnTo>
                  <a:pt x="5704" y="1660"/>
                </a:lnTo>
                <a:lnTo>
                  <a:pt x="6807" y="1302"/>
                </a:lnTo>
                <a:lnTo>
                  <a:pt x="7403" y="1183"/>
                </a:lnTo>
                <a:close/>
                <a:moveTo>
                  <a:pt x="3964" y="3222"/>
                </a:moveTo>
                <a:lnTo>
                  <a:pt x="4402" y="3660"/>
                </a:lnTo>
                <a:lnTo>
                  <a:pt x="4601" y="3899"/>
                </a:lnTo>
                <a:lnTo>
                  <a:pt x="4104" y="4564"/>
                </a:lnTo>
                <a:lnTo>
                  <a:pt x="3696" y="5330"/>
                </a:lnTo>
                <a:lnTo>
                  <a:pt x="3438" y="6155"/>
                </a:lnTo>
                <a:lnTo>
                  <a:pt x="3279" y="7150"/>
                </a:lnTo>
                <a:lnTo>
                  <a:pt x="2424" y="7150"/>
                </a:lnTo>
                <a:lnTo>
                  <a:pt x="2424" y="6593"/>
                </a:lnTo>
                <a:lnTo>
                  <a:pt x="2494" y="6066"/>
                </a:lnTo>
                <a:lnTo>
                  <a:pt x="2782" y="5131"/>
                </a:lnTo>
                <a:lnTo>
                  <a:pt x="3080" y="4445"/>
                </a:lnTo>
                <a:lnTo>
                  <a:pt x="3518" y="3749"/>
                </a:lnTo>
                <a:lnTo>
                  <a:pt x="3964" y="3222"/>
                </a:lnTo>
                <a:close/>
                <a:moveTo>
                  <a:pt x="5942" y="3123"/>
                </a:moveTo>
                <a:lnTo>
                  <a:pt x="5545" y="4028"/>
                </a:lnTo>
                <a:lnTo>
                  <a:pt x="5545" y="4147"/>
                </a:lnTo>
                <a:lnTo>
                  <a:pt x="5226" y="4325"/>
                </a:lnTo>
                <a:lnTo>
                  <a:pt x="5426" y="4325"/>
                </a:lnTo>
                <a:lnTo>
                  <a:pt x="5326" y="4704"/>
                </a:lnTo>
                <a:lnTo>
                  <a:pt x="4879" y="5330"/>
                </a:lnTo>
                <a:lnTo>
                  <a:pt x="4621" y="5867"/>
                </a:lnTo>
                <a:lnTo>
                  <a:pt x="4442" y="6513"/>
                </a:lnTo>
                <a:lnTo>
                  <a:pt x="4363" y="7130"/>
                </a:lnTo>
                <a:lnTo>
                  <a:pt x="3518" y="7130"/>
                </a:lnTo>
                <a:lnTo>
                  <a:pt x="3518" y="6673"/>
                </a:lnTo>
                <a:lnTo>
                  <a:pt x="3786" y="5588"/>
                </a:lnTo>
                <a:lnTo>
                  <a:pt x="4382" y="4445"/>
                </a:lnTo>
                <a:lnTo>
                  <a:pt x="4750" y="4028"/>
                </a:lnTo>
                <a:lnTo>
                  <a:pt x="5018" y="4306"/>
                </a:lnTo>
                <a:lnTo>
                  <a:pt x="5167" y="4247"/>
                </a:lnTo>
                <a:lnTo>
                  <a:pt x="5167" y="4167"/>
                </a:lnTo>
                <a:lnTo>
                  <a:pt x="4879" y="3889"/>
                </a:lnTo>
                <a:lnTo>
                  <a:pt x="5465" y="3401"/>
                </a:lnTo>
                <a:lnTo>
                  <a:pt x="5942" y="3123"/>
                </a:lnTo>
                <a:close/>
                <a:moveTo>
                  <a:pt x="5486" y="4783"/>
                </a:moveTo>
                <a:lnTo>
                  <a:pt x="6251" y="5588"/>
                </a:lnTo>
                <a:lnTo>
                  <a:pt x="6022" y="5897"/>
                </a:lnTo>
                <a:lnTo>
                  <a:pt x="5704" y="6653"/>
                </a:lnTo>
                <a:lnTo>
                  <a:pt x="5584" y="6792"/>
                </a:lnTo>
                <a:lnTo>
                  <a:pt x="5426" y="6871"/>
                </a:lnTo>
                <a:lnTo>
                  <a:pt x="5326" y="7011"/>
                </a:lnTo>
                <a:lnTo>
                  <a:pt x="5197" y="7130"/>
                </a:lnTo>
                <a:lnTo>
                  <a:pt x="4561" y="7130"/>
                </a:lnTo>
                <a:lnTo>
                  <a:pt x="4601" y="6544"/>
                </a:lnTo>
                <a:lnTo>
                  <a:pt x="4720" y="6066"/>
                </a:lnTo>
                <a:lnTo>
                  <a:pt x="5018" y="5410"/>
                </a:lnTo>
                <a:lnTo>
                  <a:pt x="5486" y="4783"/>
                </a:lnTo>
                <a:close/>
                <a:moveTo>
                  <a:pt x="2424" y="7349"/>
                </a:moveTo>
                <a:lnTo>
                  <a:pt x="3338" y="7349"/>
                </a:lnTo>
                <a:lnTo>
                  <a:pt x="3338" y="7846"/>
                </a:lnTo>
                <a:lnTo>
                  <a:pt x="3488" y="8503"/>
                </a:lnTo>
                <a:lnTo>
                  <a:pt x="3369" y="8503"/>
                </a:lnTo>
                <a:lnTo>
                  <a:pt x="3220" y="8611"/>
                </a:lnTo>
                <a:lnTo>
                  <a:pt x="2941" y="8632"/>
                </a:lnTo>
                <a:lnTo>
                  <a:pt x="2822" y="8701"/>
                </a:lnTo>
                <a:lnTo>
                  <a:pt x="2822" y="9010"/>
                </a:lnTo>
                <a:lnTo>
                  <a:pt x="2982" y="8930"/>
                </a:lnTo>
                <a:lnTo>
                  <a:pt x="3438" y="9288"/>
                </a:lnTo>
                <a:lnTo>
                  <a:pt x="3488" y="9606"/>
                </a:lnTo>
                <a:lnTo>
                  <a:pt x="3557" y="9696"/>
                </a:lnTo>
                <a:lnTo>
                  <a:pt x="3876" y="9755"/>
                </a:lnTo>
                <a:lnTo>
                  <a:pt x="4025" y="9845"/>
                </a:lnTo>
                <a:lnTo>
                  <a:pt x="4164" y="10232"/>
                </a:lnTo>
                <a:lnTo>
                  <a:pt x="4322" y="10253"/>
                </a:lnTo>
                <a:lnTo>
                  <a:pt x="4601" y="10571"/>
                </a:lnTo>
                <a:lnTo>
                  <a:pt x="3964" y="11207"/>
                </a:lnTo>
                <a:lnTo>
                  <a:pt x="3279" y="10312"/>
                </a:lnTo>
                <a:lnTo>
                  <a:pt x="2763" y="9248"/>
                </a:lnTo>
                <a:lnTo>
                  <a:pt x="2544" y="8492"/>
                </a:lnTo>
                <a:lnTo>
                  <a:pt x="2424" y="7349"/>
                </a:lnTo>
                <a:close/>
                <a:moveTo>
                  <a:pt x="3498" y="7329"/>
                </a:moveTo>
                <a:lnTo>
                  <a:pt x="4363" y="7329"/>
                </a:lnTo>
                <a:lnTo>
                  <a:pt x="4402" y="7717"/>
                </a:lnTo>
                <a:lnTo>
                  <a:pt x="4104" y="7966"/>
                </a:lnTo>
                <a:lnTo>
                  <a:pt x="3945" y="8503"/>
                </a:lnTo>
                <a:lnTo>
                  <a:pt x="3985" y="8611"/>
                </a:lnTo>
                <a:lnTo>
                  <a:pt x="3667" y="8492"/>
                </a:lnTo>
                <a:lnTo>
                  <a:pt x="3498" y="7329"/>
                </a:lnTo>
                <a:close/>
                <a:moveTo>
                  <a:pt x="5426" y="7369"/>
                </a:moveTo>
                <a:lnTo>
                  <a:pt x="5625" y="7309"/>
                </a:lnTo>
                <a:lnTo>
                  <a:pt x="5764" y="8045"/>
                </a:lnTo>
                <a:lnTo>
                  <a:pt x="6002" y="8552"/>
                </a:lnTo>
                <a:lnTo>
                  <a:pt x="6251" y="8871"/>
                </a:lnTo>
                <a:lnTo>
                  <a:pt x="5604" y="9526"/>
                </a:lnTo>
                <a:lnTo>
                  <a:pt x="5465" y="9467"/>
                </a:lnTo>
                <a:lnTo>
                  <a:pt x="5525" y="9149"/>
                </a:lnTo>
                <a:lnTo>
                  <a:pt x="5287" y="8751"/>
                </a:lnTo>
                <a:lnTo>
                  <a:pt x="5326" y="8433"/>
                </a:lnTo>
                <a:lnTo>
                  <a:pt x="5108" y="7846"/>
                </a:lnTo>
                <a:lnTo>
                  <a:pt x="5247" y="7717"/>
                </a:lnTo>
                <a:lnTo>
                  <a:pt x="5267" y="7598"/>
                </a:lnTo>
                <a:lnTo>
                  <a:pt x="5426" y="7369"/>
                </a:lnTo>
                <a:close/>
                <a:moveTo>
                  <a:pt x="5962" y="7846"/>
                </a:moveTo>
                <a:lnTo>
                  <a:pt x="6330" y="7866"/>
                </a:lnTo>
                <a:lnTo>
                  <a:pt x="6509" y="8025"/>
                </a:lnTo>
                <a:lnTo>
                  <a:pt x="6568" y="8175"/>
                </a:lnTo>
                <a:lnTo>
                  <a:pt x="6768" y="8294"/>
                </a:lnTo>
                <a:lnTo>
                  <a:pt x="6727" y="8383"/>
                </a:lnTo>
                <a:lnTo>
                  <a:pt x="6370" y="8751"/>
                </a:lnTo>
                <a:lnTo>
                  <a:pt x="6081" y="8343"/>
                </a:lnTo>
                <a:lnTo>
                  <a:pt x="5863" y="7846"/>
                </a:lnTo>
                <a:lnTo>
                  <a:pt x="5962" y="7846"/>
                </a:lnTo>
                <a:close/>
                <a:moveTo>
                  <a:pt x="4581" y="7329"/>
                </a:moveTo>
                <a:lnTo>
                  <a:pt x="5078" y="7329"/>
                </a:lnTo>
                <a:lnTo>
                  <a:pt x="5068" y="7608"/>
                </a:lnTo>
                <a:lnTo>
                  <a:pt x="4929" y="7827"/>
                </a:lnTo>
                <a:lnTo>
                  <a:pt x="4839" y="7846"/>
                </a:lnTo>
                <a:lnTo>
                  <a:pt x="4581" y="7687"/>
                </a:lnTo>
                <a:lnTo>
                  <a:pt x="4581" y="7329"/>
                </a:lnTo>
                <a:close/>
                <a:moveTo>
                  <a:pt x="11348" y="7289"/>
                </a:moveTo>
                <a:lnTo>
                  <a:pt x="11467" y="7309"/>
                </a:lnTo>
                <a:lnTo>
                  <a:pt x="11408" y="7866"/>
                </a:lnTo>
                <a:lnTo>
                  <a:pt x="11229" y="8492"/>
                </a:lnTo>
                <a:lnTo>
                  <a:pt x="10822" y="9229"/>
                </a:lnTo>
                <a:lnTo>
                  <a:pt x="10503" y="9636"/>
                </a:lnTo>
                <a:lnTo>
                  <a:pt x="10405" y="9487"/>
                </a:lnTo>
                <a:lnTo>
                  <a:pt x="10384" y="9248"/>
                </a:lnTo>
                <a:lnTo>
                  <a:pt x="10305" y="9109"/>
                </a:lnTo>
                <a:lnTo>
                  <a:pt x="10225" y="9109"/>
                </a:lnTo>
                <a:lnTo>
                  <a:pt x="10225" y="8632"/>
                </a:lnTo>
                <a:lnTo>
                  <a:pt x="10106" y="8632"/>
                </a:lnTo>
                <a:lnTo>
                  <a:pt x="10047" y="8701"/>
                </a:lnTo>
                <a:lnTo>
                  <a:pt x="9848" y="8791"/>
                </a:lnTo>
                <a:lnTo>
                  <a:pt x="10126" y="8632"/>
                </a:lnTo>
                <a:lnTo>
                  <a:pt x="10146" y="8463"/>
                </a:lnTo>
                <a:lnTo>
                  <a:pt x="10305" y="8403"/>
                </a:lnTo>
                <a:lnTo>
                  <a:pt x="10325" y="8324"/>
                </a:lnTo>
                <a:lnTo>
                  <a:pt x="11060" y="7866"/>
                </a:lnTo>
                <a:lnTo>
                  <a:pt x="11020" y="7766"/>
                </a:lnTo>
                <a:lnTo>
                  <a:pt x="10782" y="7667"/>
                </a:lnTo>
                <a:lnTo>
                  <a:pt x="10642" y="7747"/>
                </a:lnTo>
                <a:lnTo>
                  <a:pt x="10583" y="7289"/>
                </a:lnTo>
                <a:lnTo>
                  <a:pt x="11348" y="7289"/>
                </a:lnTo>
                <a:close/>
                <a:moveTo>
                  <a:pt x="11646" y="7270"/>
                </a:moveTo>
                <a:lnTo>
                  <a:pt x="12491" y="7270"/>
                </a:lnTo>
                <a:lnTo>
                  <a:pt x="12491" y="7806"/>
                </a:lnTo>
                <a:lnTo>
                  <a:pt x="12381" y="8324"/>
                </a:lnTo>
                <a:lnTo>
                  <a:pt x="12164" y="8990"/>
                </a:lnTo>
                <a:lnTo>
                  <a:pt x="11806" y="9676"/>
                </a:lnTo>
                <a:lnTo>
                  <a:pt x="11249" y="10392"/>
                </a:lnTo>
                <a:lnTo>
                  <a:pt x="10902" y="10054"/>
                </a:lnTo>
                <a:lnTo>
                  <a:pt x="10861" y="9845"/>
                </a:lnTo>
                <a:lnTo>
                  <a:pt x="10742" y="9874"/>
                </a:lnTo>
                <a:lnTo>
                  <a:pt x="10642" y="9796"/>
                </a:lnTo>
                <a:lnTo>
                  <a:pt x="11258" y="8830"/>
                </a:lnTo>
                <a:lnTo>
                  <a:pt x="11547" y="8005"/>
                </a:lnTo>
                <a:lnTo>
                  <a:pt x="11646" y="7270"/>
                </a:lnTo>
                <a:close/>
                <a:moveTo>
                  <a:pt x="12700" y="7270"/>
                </a:moveTo>
                <a:lnTo>
                  <a:pt x="13565" y="7270"/>
                </a:lnTo>
                <a:lnTo>
                  <a:pt x="13565" y="8144"/>
                </a:lnTo>
                <a:lnTo>
                  <a:pt x="13326" y="9029"/>
                </a:lnTo>
                <a:lnTo>
                  <a:pt x="13107" y="9587"/>
                </a:lnTo>
                <a:lnTo>
                  <a:pt x="12551" y="10551"/>
                </a:lnTo>
                <a:lnTo>
                  <a:pt x="12024" y="11178"/>
                </a:lnTo>
                <a:lnTo>
                  <a:pt x="11378" y="10511"/>
                </a:lnTo>
                <a:lnTo>
                  <a:pt x="11945" y="9765"/>
                </a:lnTo>
                <a:lnTo>
                  <a:pt x="12312" y="9090"/>
                </a:lnTo>
                <a:lnTo>
                  <a:pt x="12571" y="8294"/>
                </a:lnTo>
                <a:lnTo>
                  <a:pt x="12700" y="7270"/>
                </a:lnTo>
                <a:close/>
                <a:moveTo>
                  <a:pt x="10464" y="4773"/>
                </a:moveTo>
                <a:lnTo>
                  <a:pt x="10742" y="5152"/>
                </a:lnTo>
                <a:lnTo>
                  <a:pt x="10861" y="5469"/>
                </a:lnTo>
                <a:lnTo>
                  <a:pt x="10941" y="5529"/>
                </a:lnTo>
                <a:lnTo>
                  <a:pt x="10961" y="5668"/>
                </a:lnTo>
                <a:lnTo>
                  <a:pt x="11309" y="6106"/>
                </a:lnTo>
                <a:lnTo>
                  <a:pt x="11309" y="6851"/>
                </a:lnTo>
                <a:lnTo>
                  <a:pt x="11448" y="6792"/>
                </a:lnTo>
                <a:lnTo>
                  <a:pt x="11467" y="7110"/>
                </a:lnTo>
                <a:lnTo>
                  <a:pt x="10742" y="7110"/>
                </a:lnTo>
                <a:lnTo>
                  <a:pt x="10861" y="6871"/>
                </a:lnTo>
                <a:lnTo>
                  <a:pt x="11110" y="6732"/>
                </a:lnTo>
                <a:lnTo>
                  <a:pt x="11229" y="6374"/>
                </a:lnTo>
                <a:lnTo>
                  <a:pt x="11139" y="6374"/>
                </a:lnTo>
                <a:lnTo>
                  <a:pt x="10961" y="6603"/>
                </a:lnTo>
                <a:lnTo>
                  <a:pt x="10841" y="6633"/>
                </a:lnTo>
                <a:lnTo>
                  <a:pt x="10822" y="6374"/>
                </a:lnTo>
                <a:lnTo>
                  <a:pt x="10623" y="6374"/>
                </a:lnTo>
                <a:lnTo>
                  <a:pt x="10524" y="6484"/>
                </a:lnTo>
                <a:lnTo>
                  <a:pt x="10524" y="6225"/>
                </a:lnTo>
                <a:lnTo>
                  <a:pt x="10364" y="5967"/>
                </a:lnTo>
                <a:lnTo>
                  <a:pt x="10146" y="5956"/>
                </a:lnTo>
                <a:lnTo>
                  <a:pt x="9877" y="5748"/>
                </a:lnTo>
                <a:lnTo>
                  <a:pt x="9758" y="5510"/>
                </a:lnTo>
                <a:lnTo>
                  <a:pt x="10464" y="4773"/>
                </a:lnTo>
                <a:close/>
                <a:moveTo>
                  <a:pt x="10841" y="4425"/>
                </a:moveTo>
                <a:lnTo>
                  <a:pt x="10941" y="4564"/>
                </a:lnTo>
                <a:lnTo>
                  <a:pt x="11170" y="4833"/>
                </a:lnTo>
                <a:lnTo>
                  <a:pt x="11746" y="4992"/>
                </a:lnTo>
                <a:lnTo>
                  <a:pt x="12024" y="5430"/>
                </a:lnTo>
                <a:lnTo>
                  <a:pt x="12164" y="5410"/>
                </a:lnTo>
                <a:lnTo>
                  <a:pt x="12401" y="6185"/>
                </a:lnTo>
                <a:lnTo>
                  <a:pt x="12511" y="7090"/>
                </a:lnTo>
                <a:lnTo>
                  <a:pt x="11646" y="7090"/>
                </a:lnTo>
                <a:lnTo>
                  <a:pt x="11527" y="6185"/>
                </a:lnTo>
                <a:lnTo>
                  <a:pt x="11626" y="5907"/>
                </a:lnTo>
                <a:lnTo>
                  <a:pt x="11567" y="5788"/>
                </a:lnTo>
                <a:lnTo>
                  <a:pt x="11487" y="5788"/>
                </a:lnTo>
                <a:lnTo>
                  <a:pt x="11467" y="5927"/>
                </a:lnTo>
                <a:lnTo>
                  <a:pt x="11309" y="5370"/>
                </a:lnTo>
                <a:lnTo>
                  <a:pt x="11080" y="5211"/>
                </a:lnTo>
                <a:lnTo>
                  <a:pt x="10642" y="4585"/>
                </a:lnTo>
                <a:lnTo>
                  <a:pt x="10841" y="4425"/>
                </a:lnTo>
                <a:close/>
                <a:moveTo>
                  <a:pt x="12024" y="3162"/>
                </a:moveTo>
                <a:lnTo>
                  <a:pt x="12670" y="3987"/>
                </a:lnTo>
                <a:lnTo>
                  <a:pt x="13127" y="4833"/>
                </a:lnTo>
                <a:lnTo>
                  <a:pt x="13504" y="6066"/>
                </a:lnTo>
                <a:lnTo>
                  <a:pt x="13604" y="7090"/>
                </a:lnTo>
                <a:lnTo>
                  <a:pt x="12700" y="7090"/>
                </a:lnTo>
                <a:lnTo>
                  <a:pt x="12630" y="6245"/>
                </a:lnTo>
                <a:lnTo>
                  <a:pt x="12312" y="5231"/>
                </a:lnTo>
                <a:lnTo>
                  <a:pt x="12491" y="5131"/>
                </a:lnTo>
                <a:lnTo>
                  <a:pt x="12491" y="5012"/>
                </a:lnTo>
                <a:lnTo>
                  <a:pt x="12164" y="4644"/>
                </a:lnTo>
                <a:lnTo>
                  <a:pt x="11945" y="4286"/>
                </a:lnTo>
                <a:lnTo>
                  <a:pt x="11865" y="4266"/>
                </a:lnTo>
                <a:lnTo>
                  <a:pt x="11507" y="3709"/>
                </a:lnTo>
                <a:lnTo>
                  <a:pt x="12024" y="3162"/>
                </a:lnTo>
                <a:close/>
                <a:moveTo>
                  <a:pt x="10503" y="9935"/>
                </a:moveTo>
                <a:lnTo>
                  <a:pt x="10663" y="10054"/>
                </a:lnTo>
                <a:lnTo>
                  <a:pt x="10722" y="10353"/>
                </a:lnTo>
                <a:lnTo>
                  <a:pt x="10802" y="10451"/>
                </a:lnTo>
                <a:lnTo>
                  <a:pt x="10941" y="10372"/>
                </a:lnTo>
                <a:lnTo>
                  <a:pt x="11110" y="10531"/>
                </a:lnTo>
                <a:lnTo>
                  <a:pt x="10265" y="11147"/>
                </a:lnTo>
                <a:lnTo>
                  <a:pt x="10265" y="10928"/>
                </a:lnTo>
                <a:lnTo>
                  <a:pt x="10464" y="10472"/>
                </a:lnTo>
                <a:lnTo>
                  <a:pt x="10464" y="10232"/>
                </a:lnTo>
                <a:lnTo>
                  <a:pt x="10285" y="10113"/>
                </a:lnTo>
                <a:lnTo>
                  <a:pt x="10503" y="9935"/>
                </a:lnTo>
                <a:close/>
                <a:moveTo>
                  <a:pt x="6310" y="3123"/>
                </a:moveTo>
                <a:lnTo>
                  <a:pt x="6429" y="3162"/>
                </a:lnTo>
                <a:lnTo>
                  <a:pt x="6400" y="3312"/>
                </a:lnTo>
                <a:lnTo>
                  <a:pt x="6251" y="3281"/>
                </a:lnTo>
                <a:lnTo>
                  <a:pt x="6310" y="3123"/>
                </a:lnTo>
                <a:close/>
                <a:moveTo>
                  <a:pt x="9262" y="1869"/>
                </a:moveTo>
                <a:lnTo>
                  <a:pt x="9341" y="1869"/>
                </a:lnTo>
                <a:lnTo>
                  <a:pt x="9401" y="1939"/>
                </a:lnTo>
                <a:lnTo>
                  <a:pt x="9241" y="2059"/>
                </a:lnTo>
                <a:lnTo>
                  <a:pt x="8864" y="1999"/>
                </a:lnTo>
                <a:lnTo>
                  <a:pt x="9262" y="1869"/>
                </a:lnTo>
                <a:close/>
                <a:moveTo>
                  <a:pt x="10702" y="2864"/>
                </a:moveTo>
                <a:lnTo>
                  <a:pt x="10881" y="2864"/>
                </a:lnTo>
                <a:lnTo>
                  <a:pt x="11060" y="3043"/>
                </a:lnTo>
                <a:lnTo>
                  <a:pt x="10861" y="3003"/>
                </a:lnTo>
                <a:lnTo>
                  <a:pt x="10702" y="2864"/>
                </a:lnTo>
                <a:close/>
                <a:moveTo>
                  <a:pt x="8526" y="8234"/>
                </a:moveTo>
                <a:lnTo>
                  <a:pt x="8646" y="8294"/>
                </a:lnTo>
                <a:lnTo>
                  <a:pt x="8586" y="8463"/>
                </a:lnTo>
                <a:lnTo>
                  <a:pt x="8437" y="8503"/>
                </a:lnTo>
                <a:lnTo>
                  <a:pt x="8417" y="8443"/>
                </a:lnTo>
                <a:lnTo>
                  <a:pt x="8526" y="8234"/>
                </a:lnTo>
                <a:close/>
                <a:moveTo>
                  <a:pt x="8646" y="2198"/>
                </a:moveTo>
                <a:lnTo>
                  <a:pt x="9143" y="2258"/>
                </a:lnTo>
                <a:lnTo>
                  <a:pt x="9699" y="2506"/>
                </a:lnTo>
                <a:lnTo>
                  <a:pt x="10166" y="2904"/>
                </a:lnTo>
                <a:lnTo>
                  <a:pt x="10424" y="3461"/>
                </a:lnTo>
                <a:lnTo>
                  <a:pt x="10464" y="3928"/>
                </a:lnTo>
                <a:lnTo>
                  <a:pt x="10344" y="4325"/>
                </a:lnTo>
                <a:lnTo>
                  <a:pt x="9848" y="4962"/>
                </a:lnTo>
                <a:lnTo>
                  <a:pt x="9380" y="5211"/>
                </a:lnTo>
                <a:lnTo>
                  <a:pt x="7781" y="5629"/>
                </a:lnTo>
                <a:lnTo>
                  <a:pt x="7403" y="5807"/>
                </a:lnTo>
                <a:lnTo>
                  <a:pt x="7185" y="6016"/>
                </a:lnTo>
                <a:lnTo>
                  <a:pt x="7105" y="6185"/>
                </a:lnTo>
                <a:lnTo>
                  <a:pt x="7085" y="6484"/>
                </a:lnTo>
                <a:lnTo>
                  <a:pt x="7185" y="6712"/>
                </a:lnTo>
                <a:lnTo>
                  <a:pt x="7403" y="6931"/>
                </a:lnTo>
                <a:lnTo>
                  <a:pt x="7582" y="7031"/>
                </a:lnTo>
                <a:lnTo>
                  <a:pt x="7582" y="7657"/>
                </a:lnTo>
                <a:lnTo>
                  <a:pt x="6827" y="7329"/>
                </a:lnTo>
                <a:lnTo>
                  <a:pt x="6628" y="7130"/>
                </a:lnTo>
                <a:lnTo>
                  <a:pt x="6459" y="6812"/>
                </a:lnTo>
                <a:lnTo>
                  <a:pt x="6390" y="6245"/>
                </a:lnTo>
                <a:lnTo>
                  <a:pt x="6488" y="5897"/>
                </a:lnTo>
                <a:lnTo>
                  <a:pt x="6628" y="5649"/>
                </a:lnTo>
                <a:lnTo>
                  <a:pt x="6827" y="5449"/>
                </a:lnTo>
                <a:lnTo>
                  <a:pt x="7264" y="5152"/>
                </a:lnTo>
                <a:lnTo>
                  <a:pt x="9063" y="4604"/>
                </a:lnTo>
                <a:lnTo>
                  <a:pt x="9480" y="4325"/>
                </a:lnTo>
                <a:lnTo>
                  <a:pt x="9619" y="4047"/>
                </a:lnTo>
                <a:lnTo>
                  <a:pt x="8605" y="3689"/>
                </a:lnTo>
                <a:lnTo>
                  <a:pt x="8615" y="3550"/>
                </a:lnTo>
                <a:lnTo>
                  <a:pt x="9679" y="3868"/>
                </a:lnTo>
                <a:lnTo>
                  <a:pt x="9679" y="3610"/>
                </a:lnTo>
                <a:lnTo>
                  <a:pt x="9560" y="3262"/>
                </a:lnTo>
                <a:lnTo>
                  <a:pt x="9401" y="3062"/>
                </a:lnTo>
                <a:lnTo>
                  <a:pt x="8646" y="2765"/>
                </a:lnTo>
                <a:lnTo>
                  <a:pt x="8646" y="2198"/>
                </a:lnTo>
                <a:close/>
                <a:moveTo>
                  <a:pt x="8556" y="7369"/>
                </a:moveTo>
                <a:lnTo>
                  <a:pt x="8765" y="7409"/>
                </a:lnTo>
                <a:lnTo>
                  <a:pt x="9262" y="7717"/>
                </a:lnTo>
                <a:lnTo>
                  <a:pt x="9421" y="7946"/>
                </a:lnTo>
                <a:lnTo>
                  <a:pt x="9500" y="8343"/>
                </a:lnTo>
                <a:lnTo>
                  <a:pt x="9421" y="8652"/>
                </a:lnTo>
                <a:lnTo>
                  <a:pt x="9241" y="8890"/>
                </a:lnTo>
                <a:lnTo>
                  <a:pt x="8844" y="9129"/>
                </a:lnTo>
                <a:lnTo>
                  <a:pt x="7890" y="9487"/>
                </a:lnTo>
                <a:lnTo>
                  <a:pt x="7711" y="9646"/>
                </a:lnTo>
                <a:lnTo>
                  <a:pt x="7662" y="10273"/>
                </a:lnTo>
                <a:lnTo>
                  <a:pt x="7403" y="10113"/>
                </a:lnTo>
                <a:lnTo>
                  <a:pt x="7264" y="9706"/>
                </a:lnTo>
                <a:lnTo>
                  <a:pt x="7264" y="9487"/>
                </a:lnTo>
                <a:lnTo>
                  <a:pt x="7453" y="9209"/>
                </a:lnTo>
                <a:lnTo>
                  <a:pt x="7662" y="9069"/>
                </a:lnTo>
                <a:lnTo>
                  <a:pt x="8646" y="8691"/>
                </a:lnTo>
                <a:lnTo>
                  <a:pt x="8844" y="8503"/>
                </a:lnTo>
                <a:lnTo>
                  <a:pt x="8904" y="8263"/>
                </a:lnTo>
                <a:lnTo>
                  <a:pt x="8864" y="8124"/>
                </a:lnTo>
                <a:lnTo>
                  <a:pt x="8744" y="8005"/>
                </a:lnTo>
                <a:lnTo>
                  <a:pt x="8526" y="7905"/>
                </a:lnTo>
                <a:lnTo>
                  <a:pt x="8556" y="7369"/>
                </a:lnTo>
                <a:close/>
                <a:moveTo>
                  <a:pt x="7363" y="6155"/>
                </a:moveTo>
                <a:lnTo>
                  <a:pt x="7582" y="6225"/>
                </a:lnTo>
                <a:lnTo>
                  <a:pt x="7582" y="6693"/>
                </a:lnTo>
                <a:lnTo>
                  <a:pt x="7384" y="6544"/>
                </a:lnTo>
                <a:lnTo>
                  <a:pt x="7324" y="6216"/>
                </a:lnTo>
                <a:lnTo>
                  <a:pt x="7363" y="6155"/>
                </a:lnTo>
                <a:close/>
                <a:moveTo>
                  <a:pt x="8049" y="0"/>
                </a:moveTo>
                <a:lnTo>
                  <a:pt x="8298" y="20"/>
                </a:lnTo>
                <a:lnTo>
                  <a:pt x="8526" y="199"/>
                </a:lnTo>
                <a:lnTo>
                  <a:pt x="8605" y="696"/>
                </a:lnTo>
                <a:lnTo>
                  <a:pt x="8377" y="1224"/>
                </a:lnTo>
                <a:lnTo>
                  <a:pt x="8377" y="4544"/>
                </a:lnTo>
                <a:lnTo>
                  <a:pt x="7771" y="4704"/>
                </a:lnTo>
                <a:lnTo>
                  <a:pt x="7771" y="1441"/>
                </a:lnTo>
                <a:lnTo>
                  <a:pt x="7642" y="547"/>
                </a:lnTo>
                <a:lnTo>
                  <a:pt x="7691" y="358"/>
                </a:lnTo>
                <a:lnTo>
                  <a:pt x="7930" y="39"/>
                </a:lnTo>
                <a:lnTo>
                  <a:pt x="8049" y="0"/>
                </a:lnTo>
                <a:close/>
                <a:moveTo>
                  <a:pt x="7840" y="5867"/>
                </a:moveTo>
                <a:lnTo>
                  <a:pt x="8258" y="5768"/>
                </a:lnTo>
                <a:lnTo>
                  <a:pt x="8258" y="8672"/>
                </a:lnTo>
                <a:lnTo>
                  <a:pt x="7840" y="8761"/>
                </a:lnTo>
                <a:lnTo>
                  <a:pt x="7840" y="5867"/>
                </a:lnTo>
                <a:close/>
                <a:moveTo>
                  <a:pt x="8139" y="9587"/>
                </a:moveTo>
                <a:lnTo>
                  <a:pt x="8198" y="9587"/>
                </a:lnTo>
                <a:lnTo>
                  <a:pt x="8198" y="12580"/>
                </a:lnTo>
                <a:lnTo>
                  <a:pt x="8089" y="12719"/>
                </a:lnTo>
                <a:lnTo>
                  <a:pt x="7890" y="12639"/>
                </a:lnTo>
                <a:lnTo>
                  <a:pt x="7890" y="9735"/>
                </a:lnTo>
                <a:lnTo>
                  <a:pt x="8139" y="9587"/>
                </a:lnTo>
                <a:close/>
                <a:moveTo>
                  <a:pt x="3925" y="1641"/>
                </a:moveTo>
                <a:lnTo>
                  <a:pt x="3686" y="2049"/>
                </a:lnTo>
                <a:lnTo>
                  <a:pt x="2921" y="2864"/>
                </a:lnTo>
                <a:lnTo>
                  <a:pt x="1958" y="3639"/>
                </a:lnTo>
                <a:lnTo>
                  <a:pt x="2485" y="2745"/>
                </a:lnTo>
                <a:lnTo>
                  <a:pt x="2902" y="2258"/>
                </a:lnTo>
                <a:lnTo>
                  <a:pt x="3925" y="1641"/>
                </a:lnTo>
                <a:close/>
                <a:moveTo>
                  <a:pt x="12381" y="1780"/>
                </a:moveTo>
                <a:lnTo>
                  <a:pt x="12640" y="1869"/>
                </a:lnTo>
                <a:lnTo>
                  <a:pt x="12948" y="2059"/>
                </a:lnTo>
                <a:lnTo>
                  <a:pt x="13643" y="2704"/>
                </a:lnTo>
                <a:lnTo>
                  <a:pt x="13892" y="3062"/>
                </a:lnTo>
                <a:lnTo>
                  <a:pt x="14170" y="3689"/>
                </a:lnTo>
                <a:lnTo>
                  <a:pt x="13008" y="2606"/>
                </a:lnTo>
                <a:lnTo>
                  <a:pt x="12381" y="1780"/>
                </a:lnTo>
                <a:close/>
                <a:moveTo>
                  <a:pt x="1699" y="2824"/>
                </a:moveTo>
                <a:lnTo>
                  <a:pt x="1719" y="3202"/>
                </a:lnTo>
                <a:lnTo>
                  <a:pt x="1440" y="4724"/>
                </a:lnTo>
                <a:lnTo>
                  <a:pt x="1719" y="4306"/>
                </a:lnTo>
                <a:lnTo>
                  <a:pt x="2017" y="4008"/>
                </a:lnTo>
                <a:lnTo>
                  <a:pt x="3121" y="3202"/>
                </a:lnTo>
                <a:lnTo>
                  <a:pt x="2802" y="3779"/>
                </a:lnTo>
                <a:lnTo>
                  <a:pt x="1620" y="4892"/>
                </a:lnTo>
                <a:lnTo>
                  <a:pt x="1172" y="5390"/>
                </a:lnTo>
                <a:lnTo>
                  <a:pt x="1172" y="4087"/>
                </a:lnTo>
                <a:lnTo>
                  <a:pt x="1282" y="3570"/>
                </a:lnTo>
                <a:lnTo>
                  <a:pt x="1699" y="2824"/>
                </a:lnTo>
                <a:close/>
                <a:moveTo>
                  <a:pt x="14289" y="2864"/>
                </a:moveTo>
                <a:lnTo>
                  <a:pt x="14449" y="3003"/>
                </a:lnTo>
                <a:lnTo>
                  <a:pt x="14827" y="3660"/>
                </a:lnTo>
                <a:lnTo>
                  <a:pt x="15015" y="4167"/>
                </a:lnTo>
                <a:lnTo>
                  <a:pt x="15015" y="4952"/>
                </a:lnTo>
                <a:lnTo>
                  <a:pt x="14966" y="5529"/>
                </a:lnTo>
                <a:lnTo>
                  <a:pt x="14727" y="5191"/>
                </a:lnTo>
                <a:lnTo>
                  <a:pt x="13504" y="4008"/>
                </a:lnTo>
                <a:lnTo>
                  <a:pt x="13166" y="3461"/>
                </a:lnTo>
                <a:lnTo>
                  <a:pt x="13763" y="3809"/>
                </a:lnTo>
                <a:lnTo>
                  <a:pt x="14191" y="4186"/>
                </a:lnTo>
                <a:lnTo>
                  <a:pt x="14786" y="5012"/>
                </a:lnTo>
                <a:lnTo>
                  <a:pt x="14289" y="2864"/>
                </a:lnTo>
                <a:close/>
                <a:moveTo>
                  <a:pt x="726" y="4206"/>
                </a:moveTo>
                <a:lnTo>
                  <a:pt x="964" y="6792"/>
                </a:lnTo>
                <a:lnTo>
                  <a:pt x="994" y="6773"/>
                </a:lnTo>
                <a:lnTo>
                  <a:pt x="1084" y="6414"/>
                </a:lnTo>
                <a:lnTo>
                  <a:pt x="1461" y="5629"/>
                </a:lnTo>
                <a:lnTo>
                  <a:pt x="2117" y="4833"/>
                </a:lnTo>
                <a:lnTo>
                  <a:pt x="2057" y="5191"/>
                </a:lnTo>
                <a:lnTo>
                  <a:pt x="1859" y="5688"/>
                </a:lnTo>
                <a:lnTo>
                  <a:pt x="1342" y="6484"/>
                </a:lnTo>
                <a:lnTo>
                  <a:pt x="994" y="7409"/>
                </a:lnTo>
                <a:lnTo>
                  <a:pt x="536" y="6155"/>
                </a:lnTo>
                <a:lnTo>
                  <a:pt x="417" y="5608"/>
                </a:lnTo>
                <a:lnTo>
                  <a:pt x="417" y="5022"/>
                </a:lnTo>
                <a:lnTo>
                  <a:pt x="577" y="4445"/>
                </a:lnTo>
                <a:lnTo>
                  <a:pt x="726" y="4206"/>
                </a:lnTo>
                <a:close/>
                <a:moveTo>
                  <a:pt x="15402" y="4206"/>
                </a:moveTo>
                <a:lnTo>
                  <a:pt x="15671" y="5310"/>
                </a:lnTo>
                <a:lnTo>
                  <a:pt x="15671" y="5867"/>
                </a:lnTo>
                <a:lnTo>
                  <a:pt x="15214" y="7479"/>
                </a:lnTo>
                <a:lnTo>
                  <a:pt x="14966" y="6812"/>
                </a:lnTo>
                <a:lnTo>
                  <a:pt x="14389" y="5967"/>
                </a:lnTo>
                <a:lnTo>
                  <a:pt x="14081" y="5430"/>
                </a:lnTo>
                <a:lnTo>
                  <a:pt x="13962" y="4902"/>
                </a:lnTo>
                <a:lnTo>
                  <a:pt x="14528" y="5569"/>
                </a:lnTo>
                <a:lnTo>
                  <a:pt x="15194" y="6851"/>
                </a:lnTo>
                <a:lnTo>
                  <a:pt x="15253" y="6832"/>
                </a:lnTo>
                <a:lnTo>
                  <a:pt x="15253" y="5549"/>
                </a:lnTo>
                <a:lnTo>
                  <a:pt x="15402" y="4206"/>
                </a:lnTo>
                <a:close/>
                <a:moveTo>
                  <a:pt x="0" y="6066"/>
                </a:moveTo>
                <a:lnTo>
                  <a:pt x="278" y="6851"/>
                </a:lnTo>
                <a:lnTo>
                  <a:pt x="1162" y="8830"/>
                </a:lnTo>
                <a:lnTo>
                  <a:pt x="1362" y="7369"/>
                </a:lnTo>
                <a:lnTo>
                  <a:pt x="1620" y="6673"/>
                </a:lnTo>
                <a:lnTo>
                  <a:pt x="1798" y="6484"/>
                </a:lnTo>
                <a:lnTo>
                  <a:pt x="1798" y="7170"/>
                </a:lnTo>
                <a:lnTo>
                  <a:pt x="1421" y="8672"/>
                </a:lnTo>
                <a:lnTo>
                  <a:pt x="1321" y="9377"/>
                </a:lnTo>
                <a:lnTo>
                  <a:pt x="477" y="8234"/>
                </a:lnTo>
                <a:lnTo>
                  <a:pt x="219" y="7766"/>
                </a:lnTo>
                <a:lnTo>
                  <a:pt x="0" y="7031"/>
                </a:lnTo>
                <a:lnTo>
                  <a:pt x="0" y="6066"/>
                </a:lnTo>
                <a:close/>
                <a:moveTo>
                  <a:pt x="16048" y="6335"/>
                </a:moveTo>
                <a:lnTo>
                  <a:pt x="16128" y="6892"/>
                </a:lnTo>
                <a:lnTo>
                  <a:pt x="16048" y="7409"/>
                </a:lnTo>
                <a:lnTo>
                  <a:pt x="15909" y="7827"/>
                </a:lnTo>
                <a:lnTo>
                  <a:pt x="14667" y="9706"/>
                </a:lnTo>
                <a:lnTo>
                  <a:pt x="14667" y="9109"/>
                </a:lnTo>
                <a:lnTo>
                  <a:pt x="14310" y="7329"/>
                </a:lnTo>
                <a:lnTo>
                  <a:pt x="14310" y="6484"/>
                </a:lnTo>
                <a:lnTo>
                  <a:pt x="14707" y="7488"/>
                </a:lnTo>
                <a:lnTo>
                  <a:pt x="14886" y="8433"/>
                </a:lnTo>
                <a:lnTo>
                  <a:pt x="14886" y="9029"/>
                </a:lnTo>
                <a:lnTo>
                  <a:pt x="16048" y="6335"/>
                </a:lnTo>
                <a:close/>
                <a:moveTo>
                  <a:pt x="0" y="8324"/>
                </a:moveTo>
                <a:lnTo>
                  <a:pt x="1679" y="10551"/>
                </a:lnTo>
                <a:lnTo>
                  <a:pt x="1679" y="9149"/>
                </a:lnTo>
                <a:lnTo>
                  <a:pt x="1839" y="8343"/>
                </a:lnTo>
                <a:lnTo>
                  <a:pt x="2017" y="8910"/>
                </a:lnTo>
                <a:lnTo>
                  <a:pt x="2076" y="9765"/>
                </a:lnTo>
                <a:lnTo>
                  <a:pt x="2076" y="10820"/>
                </a:lnTo>
                <a:lnTo>
                  <a:pt x="2176" y="11287"/>
                </a:lnTo>
                <a:lnTo>
                  <a:pt x="1540" y="10820"/>
                </a:lnTo>
                <a:lnTo>
                  <a:pt x="855" y="10153"/>
                </a:lnTo>
                <a:lnTo>
                  <a:pt x="298" y="9328"/>
                </a:lnTo>
                <a:lnTo>
                  <a:pt x="0" y="8324"/>
                </a:lnTo>
                <a:close/>
                <a:moveTo>
                  <a:pt x="14130" y="8383"/>
                </a:moveTo>
                <a:lnTo>
                  <a:pt x="14349" y="10034"/>
                </a:lnTo>
                <a:lnTo>
                  <a:pt x="14230" y="10730"/>
                </a:lnTo>
                <a:lnTo>
                  <a:pt x="14330" y="10670"/>
                </a:lnTo>
                <a:lnTo>
                  <a:pt x="14747" y="10034"/>
                </a:lnTo>
                <a:lnTo>
                  <a:pt x="15870" y="8672"/>
                </a:lnTo>
                <a:lnTo>
                  <a:pt x="15770" y="9188"/>
                </a:lnTo>
                <a:lnTo>
                  <a:pt x="15343" y="9994"/>
                </a:lnTo>
                <a:lnTo>
                  <a:pt x="14886" y="10511"/>
                </a:lnTo>
                <a:lnTo>
                  <a:pt x="13753" y="11466"/>
                </a:lnTo>
                <a:lnTo>
                  <a:pt x="13952" y="10531"/>
                </a:lnTo>
                <a:lnTo>
                  <a:pt x="13952" y="8851"/>
                </a:lnTo>
                <a:lnTo>
                  <a:pt x="14130" y="8383"/>
                </a:lnTo>
                <a:close/>
                <a:moveTo>
                  <a:pt x="2405" y="9905"/>
                </a:moveTo>
                <a:lnTo>
                  <a:pt x="2763" y="10571"/>
                </a:lnTo>
                <a:lnTo>
                  <a:pt x="3240" y="12172"/>
                </a:lnTo>
                <a:lnTo>
                  <a:pt x="3557" y="12789"/>
                </a:lnTo>
                <a:lnTo>
                  <a:pt x="2405" y="12351"/>
                </a:lnTo>
                <a:lnTo>
                  <a:pt x="1600" y="11933"/>
                </a:lnTo>
                <a:lnTo>
                  <a:pt x="984" y="11397"/>
                </a:lnTo>
                <a:lnTo>
                  <a:pt x="726" y="11028"/>
                </a:lnTo>
                <a:lnTo>
                  <a:pt x="457" y="10492"/>
                </a:lnTo>
                <a:lnTo>
                  <a:pt x="1053" y="10969"/>
                </a:lnTo>
                <a:lnTo>
                  <a:pt x="1978" y="11516"/>
                </a:lnTo>
                <a:lnTo>
                  <a:pt x="3001" y="12271"/>
                </a:lnTo>
                <a:lnTo>
                  <a:pt x="2524" y="11108"/>
                </a:lnTo>
                <a:lnTo>
                  <a:pt x="2405" y="10690"/>
                </a:lnTo>
                <a:lnTo>
                  <a:pt x="2405" y="9905"/>
                </a:lnTo>
                <a:close/>
                <a:moveTo>
                  <a:pt x="13544" y="9964"/>
                </a:moveTo>
                <a:lnTo>
                  <a:pt x="13544" y="10372"/>
                </a:lnTo>
                <a:lnTo>
                  <a:pt x="13346" y="11456"/>
                </a:lnTo>
                <a:lnTo>
                  <a:pt x="12968" y="12351"/>
                </a:lnTo>
                <a:lnTo>
                  <a:pt x="13326" y="12172"/>
                </a:lnTo>
                <a:lnTo>
                  <a:pt x="15314" y="10820"/>
                </a:lnTo>
                <a:lnTo>
                  <a:pt x="15551" y="10591"/>
                </a:lnTo>
                <a:lnTo>
                  <a:pt x="15194" y="11287"/>
                </a:lnTo>
                <a:lnTo>
                  <a:pt x="14786" y="11714"/>
                </a:lnTo>
                <a:lnTo>
                  <a:pt x="13763" y="12291"/>
                </a:lnTo>
                <a:lnTo>
                  <a:pt x="12282" y="12918"/>
                </a:lnTo>
                <a:lnTo>
                  <a:pt x="12700" y="12113"/>
                </a:lnTo>
                <a:lnTo>
                  <a:pt x="13107" y="10730"/>
                </a:lnTo>
                <a:lnTo>
                  <a:pt x="13544" y="9964"/>
                </a:lnTo>
                <a:close/>
                <a:moveTo>
                  <a:pt x="12610" y="11257"/>
                </a:moveTo>
                <a:lnTo>
                  <a:pt x="12442" y="11814"/>
                </a:lnTo>
                <a:lnTo>
                  <a:pt x="12004" y="12699"/>
                </a:lnTo>
                <a:lnTo>
                  <a:pt x="11567" y="13435"/>
                </a:lnTo>
                <a:lnTo>
                  <a:pt x="13465" y="12958"/>
                </a:lnTo>
                <a:lnTo>
                  <a:pt x="13952" y="12778"/>
                </a:lnTo>
                <a:lnTo>
                  <a:pt x="14766" y="12291"/>
                </a:lnTo>
                <a:lnTo>
                  <a:pt x="14608" y="12610"/>
                </a:lnTo>
                <a:lnTo>
                  <a:pt x="14310" y="12918"/>
                </a:lnTo>
                <a:lnTo>
                  <a:pt x="13485" y="13405"/>
                </a:lnTo>
                <a:lnTo>
                  <a:pt x="12610" y="13663"/>
                </a:lnTo>
                <a:lnTo>
                  <a:pt x="10990" y="13663"/>
                </a:lnTo>
                <a:lnTo>
                  <a:pt x="11199" y="13376"/>
                </a:lnTo>
                <a:lnTo>
                  <a:pt x="12044" y="11794"/>
                </a:lnTo>
                <a:lnTo>
                  <a:pt x="12610" y="11257"/>
                </a:lnTo>
                <a:close/>
                <a:moveTo>
                  <a:pt x="3379" y="11337"/>
                </a:moveTo>
                <a:lnTo>
                  <a:pt x="3727" y="11635"/>
                </a:lnTo>
                <a:lnTo>
                  <a:pt x="4283" y="12580"/>
                </a:lnTo>
                <a:lnTo>
                  <a:pt x="4819" y="13703"/>
                </a:lnTo>
                <a:lnTo>
                  <a:pt x="3319" y="13554"/>
                </a:lnTo>
                <a:lnTo>
                  <a:pt x="2604" y="13355"/>
                </a:lnTo>
                <a:lnTo>
                  <a:pt x="2107" y="13137"/>
                </a:lnTo>
                <a:lnTo>
                  <a:pt x="1679" y="12838"/>
                </a:lnTo>
                <a:lnTo>
                  <a:pt x="1262" y="12291"/>
                </a:lnTo>
                <a:lnTo>
                  <a:pt x="1998" y="12639"/>
                </a:lnTo>
                <a:lnTo>
                  <a:pt x="3021" y="12918"/>
                </a:lnTo>
                <a:lnTo>
                  <a:pt x="4461" y="13415"/>
                </a:lnTo>
                <a:lnTo>
                  <a:pt x="3925" y="12639"/>
                </a:lnTo>
                <a:lnTo>
                  <a:pt x="3488" y="11755"/>
                </a:lnTo>
                <a:lnTo>
                  <a:pt x="3379" y="11337"/>
                </a:lnTo>
                <a:close/>
                <a:moveTo>
                  <a:pt x="6141" y="13614"/>
                </a:moveTo>
                <a:lnTo>
                  <a:pt x="6768" y="13614"/>
                </a:lnTo>
                <a:lnTo>
                  <a:pt x="7582" y="13853"/>
                </a:lnTo>
                <a:lnTo>
                  <a:pt x="7125" y="14181"/>
                </a:lnTo>
                <a:lnTo>
                  <a:pt x="6578" y="14221"/>
                </a:lnTo>
                <a:lnTo>
                  <a:pt x="4760" y="14539"/>
                </a:lnTo>
                <a:lnTo>
                  <a:pt x="3925" y="14539"/>
                </a:lnTo>
                <a:lnTo>
                  <a:pt x="3220" y="14320"/>
                </a:lnTo>
                <a:lnTo>
                  <a:pt x="2643" y="13932"/>
                </a:lnTo>
                <a:lnTo>
                  <a:pt x="3180" y="14101"/>
                </a:lnTo>
                <a:lnTo>
                  <a:pt x="4025" y="14101"/>
                </a:lnTo>
                <a:lnTo>
                  <a:pt x="4363" y="14082"/>
                </a:lnTo>
                <a:lnTo>
                  <a:pt x="5445" y="13733"/>
                </a:lnTo>
                <a:lnTo>
                  <a:pt x="6141" y="13614"/>
                </a:lnTo>
                <a:close/>
                <a:moveTo>
                  <a:pt x="9162" y="13703"/>
                </a:moveTo>
                <a:lnTo>
                  <a:pt x="9867" y="13703"/>
                </a:lnTo>
                <a:lnTo>
                  <a:pt x="11587" y="14062"/>
                </a:lnTo>
                <a:lnTo>
                  <a:pt x="12372" y="14141"/>
                </a:lnTo>
                <a:lnTo>
                  <a:pt x="12809" y="14101"/>
                </a:lnTo>
                <a:lnTo>
                  <a:pt x="13365" y="13922"/>
                </a:lnTo>
                <a:lnTo>
                  <a:pt x="13246" y="14041"/>
                </a:lnTo>
                <a:lnTo>
                  <a:pt x="12401" y="14459"/>
                </a:lnTo>
                <a:lnTo>
                  <a:pt x="11448" y="14618"/>
                </a:lnTo>
                <a:lnTo>
                  <a:pt x="10782" y="14539"/>
                </a:lnTo>
                <a:lnTo>
                  <a:pt x="9182" y="14181"/>
                </a:lnTo>
                <a:lnTo>
                  <a:pt x="8377" y="14181"/>
                </a:lnTo>
                <a:lnTo>
                  <a:pt x="7930" y="14280"/>
                </a:lnTo>
                <a:lnTo>
                  <a:pt x="7284" y="14559"/>
                </a:lnTo>
                <a:lnTo>
                  <a:pt x="6946" y="14797"/>
                </a:lnTo>
                <a:lnTo>
                  <a:pt x="6390" y="15384"/>
                </a:lnTo>
                <a:lnTo>
                  <a:pt x="6132" y="15205"/>
                </a:lnTo>
                <a:lnTo>
                  <a:pt x="6429" y="14907"/>
                </a:lnTo>
                <a:lnTo>
                  <a:pt x="7602" y="14111"/>
                </a:lnTo>
                <a:lnTo>
                  <a:pt x="8526" y="13783"/>
                </a:lnTo>
                <a:lnTo>
                  <a:pt x="9162" y="13703"/>
                </a:lnTo>
                <a:close/>
                <a:moveTo>
                  <a:pt x="8744" y="14360"/>
                </a:moveTo>
                <a:lnTo>
                  <a:pt x="9788" y="15265"/>
                </a:lnTo>
                <a:lnTo>
                  <a:pt x="9818" y="15345"/>
                </a:lnTo>
                <a:lnTo>
                  <a:pt x="9550" y="15384"/>
                </a:lnTo>
                <a:lnTo>
                  <a:pt x="8486" y="14439"/>
                </a:lnTo>
                <a:lnTo>
                  <a:pt x="8744" y="143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1295280"/>
            <a:ext cx="716148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Nutrición óptima</a:t>
            </a:r>
            <a:r>
              <a:rPr b="0" lang="es-UY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Lactantes amaman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limentación complementaria aprop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Entorno ópt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usencia de contaminación microbi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usencia de consumo de tab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tención de salud óp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Inmun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tención pediátrica normal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04160" y="3201840"/>
            <a:ext cx="21398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recimiento ópt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000000"/>
                </a:solidFill>
                <a:latin typeface="Times New Roman"/>
              </a:rPr>
              <a:t>Enfoque prescrip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01640" y="5950080"/>
            <a:ext cx="7921440" cy="504720"/>
            <a:chOff x="701640" y="5950080"/>
            <a:chExt cx="7921440" cy="504720"/>
          </a:xfrm>
        </p:grpSpPr>
        <p:sp>
          <p:nvSpPr>
            <p:cNvPr id="101" name=""/>
            <p:cNvSpPr/>
            <p:nvPr/>
          </p:nvSpPr>
          <p:spPr>
            <a:xfrm>
              <a:off x="701640" y="595008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71080" y="602172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516720" y="1700280"/>
            <a:ext cx="1066680" cy="4038480"/>
          </a:xfrm>
          <a:custGeom>
            <a:avLst/>
            <a:gdLst>
              <a:gd name="textAreaLeft" fmla="*/ 0 w 1066680"/>
              <a:gd name="textAreaRight" fmla="*/ 385200 w 106668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4:47:28Z</dcterms:created>
  <dc:creator>G4</dc:creator>
  <dc:description/>
  <dc:language>en-US</dc:language>
  <cp:lastModifiedBy>tpizarro</cp:lastModifiedBy>
  <dcterms:modified xsi:type="dcterms:W3CDTF">2006-06-20T00:30:07Z</dcterms:modified>
  <cp:revision>57</cp:revision>
  <dc:subject/>
  <dc:title>Presentación de PowerPoint</dc:title>
</cp:coreProperties>
</file>