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3CA4-15B8-472D-BBFD-EB759F3F9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E0FC-6744-4C60-A322-5AAFD6E9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F68D-23ED-457F-BE00-0E95933D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D6E-19D3-46C4-B88E-732457AC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DA78-5ABE-48D8-9E04-96AEBFC3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A098B-6820-4240-9A2B-01C1A757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A637-8E5C-478C-A056-74E0FD06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8999-49F3-4661-A9FB-79DD925F1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66FF2-7525-440E-ABED-7E7F761F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5BE02-A344-4BFE-9539-783999F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96AED-DA6F-452B-BB24-43D6A1A0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B0AB-CC44-449E-808D-34BC553A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24D6D-4670-4325-B8A2-6ACCE11F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581E9-3737-40E2-A270-69B8B368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C26D-7ED9-4A60-B0F8-880A0809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D5520-7538-4310-8F6D-5BB38C10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6B3E7-AFE6-4233-A093-D2EA7E808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923-7AF0-4DEF-B1E5-BAB19ACA7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7A90-3F50-46C9-8E2D-1328EDB42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5D00-CE9D-423B-84A7-0E2D3C52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5B5F-7420-4659-9527-3E8BBD464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AAE4-FB5D-47DC-A928-FA11F4A9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3922-B7CA-4916-B6B3-74953D4A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1511-508D-4111-9A82-3FB2BF30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70CBE-F9FB-45E8-8639-D9E84F51D3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456BB-0796-4C8D-B408-FE23988604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920" y="2130480"/>
            <a:ext cx="7632720" cy="21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eaeaea"/>
                </a:solidFill>
                <a:latin typeface="Tahoma"/>
              </a:rPr>
              <a:t>NEMOTECNIAS PARA RECORDAR EN ENTREVISTA DE ADOLESCENTES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771280" y="4508640"/>
            <a:ext cx="396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Dra. Mónica Cuev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Tahoma"/>
                <a:ea typeface="Times New Roman"/>
              </a:rPr>
              <a:t>HEADS--A mnemonic useful in the evaluation of adolescent patients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Home, hab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Education, employment, exercis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Accidents, ambition, activities, ab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Drugs (tobacco, alcohol, others), diet, de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</a:t>
            </a: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=Sex, suici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SAFE TEENS--A mnemonic useful in the evaluation of adolescent patients.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Sexual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Accident, abu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F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Firearms/homic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motions (suicide/depression)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Toxins (tobacco/alcohol, oth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nvironment (school, home, friend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Exerci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Nutri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=Shots (immunization status, school performan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4:16:45Z</dcterms:created>
  <dc:creator>Ana Luisa</dc:creator>
  <dc:description/>
  <dc:language>en-US</dc:language>
  <cp:lastModifiedBy>Ana Luisa</cp:lastModifiedBy>
  <dcterms:modified xsi:type="dcterms:W3CDTF">2006-04-30T04:26:20Z</dcterms:modified>
  <cp:revision>2</cp:revision>
  <dc:subject/>
  <dc:title>Diapositiva 1</dc:title>
</cp:coreProperties>
</file>