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CF3-31FC-4DD4-BC6A-F10B50A4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E66-0434-48E5-8011-588B7BCB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5B4-67CC-42C5-A72F-1BEC5237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790-7954-416B-A5E8-8184F5F1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8AB3-1193-44D2-96E6-CF416A4B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C15A-38BF-4F07-8F1C-D95320AE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CF4F-70BA-4100-82FA-658E9BDD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6DC9-DB8E-45D7-98A2-41E88D66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0C3A-27AC-40A4-BD54-F3017A42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35F1-EE80-4320-B4F9-0D2D7A29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3FA1-3EC1-4C63-960D-2C8B87B1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8218-925D-493B-9B95-13CF929F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922F-7BC6-47D7-878C-7F598A6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126B-230E-41EE-B84A-A6D4491F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252E-34F6-48F3-AA2C-0A6CB208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9E77-F4CD-4DCC-B78A-BD4D41CD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EC9A-7452-43FC-8547-D19321EA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533D-3C3A-4E74-863F-A590DE27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04D-FA81-454A-8A46-C0FA961A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D93B-7704-4A07-8FBA-E8F7712E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5055-1E4E-49F3-B0BB-F43DE88F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944-4E46-477A-8FE8-4CF6FB4C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E8E-D4C6-4FA4-A257-D976E8F4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6D0-B342-4F60-BC03-CD7B15D8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F958-0822-4B76-AF34-C84231D036F8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358A-9890-475A-A91B-6558B8760715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8f8f8"/>
                </a:solidFill>
                <a:latin typeface="Arial Black"/>
              </a:rPr>
              <a:t>Sindrome de apneas obstructivas del sueño ( SAHOS )</a:t>
            </a:r>
            <a:endParaRPr b="1" lang="en-US" sz="48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Apne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Ápnoia , pnê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da del acto de la respiració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oluntaria : buc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volunta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Apnea del sueñ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Cese de flujo aéreo en nariz y boca durante el sueñ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&gt; a 10 segundo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Hipopne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Disminución al 50% del bas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Clasificación de las apneas del sueñ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neas central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neas obstructiv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pnea mixta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Apnea central del sueñ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se del flujo aér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bolición transitoria de actividad del drive respirator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in actividad de músculos inspirat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Apnea obstructiva del sueñ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ese del flujo aér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or oclusión completa de vía aérea alta a nivel de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orofarin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 pesar de actividad continua de músculos inspirator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vento definitivo de Apnea obstructiva del sueño : 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miento posterior de lengua y paladar en aposición con pared faríngea posterio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427640" y="2276640"/>
            <a:ext cx="442728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84216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8f8f8"/>
                </a:solidFill>
                <a:latin typeface="Arial Black"/>
              </a:rPr>
              <a:t>Prevalencia de la apnea obstructiva del sueño</a:t>
            </a:r>
            <a:r>
              <a:rPr b="1" lang="es-CL" sz="4000" spc="-1" strike="noStrike">
                <a:solidFill>
                  <a:srgbClr val="f8f8f8"/>
                </a:solidFill>
                <a:latin typeface="Arial Black"/>
              </a:rPr>
              <a:t>	</a:t>
            </a:r>
            <a:r>
              <a:rPr b="1" lang="es-CL" sz="4000" spc="-1" strike="noStrike">
                <a:solidFill>
                  <a:srgbClr val="f8f8f8"/>
                </a:solidFill>
                <a:latin typeface="Arial Black"/>
              </a:rPr>
              <a:t>	</a:t>
            </a:r>
            <a:r>
              <a:rPr b="1" lang="es-CL" sz="4000" spc="-1" strike="noStrike">
                <a:solidFill>
                  <a:srgbClr val="f8f8f8"/>
                </a:solidFill>
                <a:latin typeface="Arial Black"/>
              </a:rPr>
              <a:t>	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% de mujeres edad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% de hombres edad med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estima % mayor a mayor edad y en obes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Factores predisponentes anatómicos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amaño farínge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besi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orma craneofac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icrognat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trognat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 fac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ipertrofia amigdali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dema faríng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Factores asociados 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Sedant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Obstrucción nas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Deprivación de sueñ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Objetivos de la clase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rigen de la apnea obstructiva del sue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pidemiologí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isiopatalogí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iagnósti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lín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das ge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PA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678880" cy="44924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Fisiopatologí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Síndrome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nifestaciones diur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cundarias a fragmentación y deprivación de s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cundarias a alteración intercambio gase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mostración de apneas  e hipopneas  obstructivas durante  el sue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Manifestaciones clínicas</a:t>
            </a:r>
            <a:br>
              <a:rPr sz="4400"/>
            </a:b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neuropsiquiátricas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Hipersomnolencia diu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efalea mat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capacidad cognit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Sueño poco reparador ( fatig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Depres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nquietud psicomotora noctu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impot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Manifestaciones cardiorespiratorias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nqu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nea percatada por famili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ritm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Enfrentamiento diagnóstico, recordar que…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malías respiratorias desaparecen con la vig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aciones inespecí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tud metódica de sospecha y búsque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468360" y="341280"/>
          <a:ext cx="8209080" cy="651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41280"/>
                    <a:ext cx="8209080" cy="65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xamen físic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besid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ructura craneofaci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ircunferencia de cuell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( 43 cms – 48 cm 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ofarinfe estrecha, úvula edematos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8130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Diagnóstico diferencial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onquido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pneas centrales del sueñ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as causas de somnolencia diurna excesi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eño insufic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lteraciones del ritmo circadi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arcolepsia, et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4140360" y="260280"/>
          <a:ext cx="4600440" cy="64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60280"/>
                    <a:ext cx="460044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50920" y="263700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SOMNOGR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258920" y="1989000"/>
          <a:ext cx="6983280" cy="413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6983280" cy="413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Polisomnogram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1700280"/>
            <a:ext cx="4562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Año 330 A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Dionisius de Heraclia Rey de Pont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Glotón, obeso, con gran dificultad para respirar, era despertado con agujas para evitar que se ahog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                                                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080808"/>
                </a:solidFill>
                <a:latin typeface="Arial"/>
              </a:rPr>
              <a:t>Aelianu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Oximetría nocturna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2060640"/>
          <a:ext cx="792144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79214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684360" y="1413000"/>
          <a:ext cx="7956360" cy="32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13000"/>
                    <a:ext cx="7956360" cy="32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t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os mayores cardiovasculares o cerbrovascul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identes automovilístic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r la calidad de vi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Para qué  tratar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Medidas generales de tratamiento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tar alcohol y seda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tar posición supina al dorm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040360" cy="36734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68360" y="1197000"/>
            <a:ext cx="417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19280" y="54936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AP: presión positiva constante en vía aér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700360" y="692280"/>
          <a:ext cx="3867120" cy="55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692280"/>
                    <a:ext cx="386712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1403280" y="836640"/>
          <a:ext cx="619308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836640"/>
                    <a:ext cx="619308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8440" y="42840"/>
            <a:ext cx="90871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36640" y="3246480"/>
            <a:ext cx="2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4289400" cy="6435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987640" y="5950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3141720"/>
            <a:ext cx="8713800" cy="2489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58920" y="765000"/>
            <a:ext cx="655308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as durante el sueñ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eño no RE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eño R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fectos respiratorios del sueñ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dad del centro  respirato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i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 C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ves apneas centr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stencia vía aérea al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481040" y="1049400"/>
          <a:ext cx="6186600" cy="47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1049400"/>
                    <a:ext cx="618660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Efectos cardiovasculares del sueño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fecto general de descan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 No RE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dad simp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dad vag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to cardíac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ón arteri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8f8f8"/>
                </a:solidFill>
                <a:latin typeface="Arial Black"/>
              </a:rPr>
              <a:t>Microdespertares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ci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 respirator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dad de musculos vía aérea a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jo de 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ciación de respuestas protect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añ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agmentación de s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privación de su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ga sistema CV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(descarg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mpáti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0:06:54Z</dcterms:created>
  <dc:creator>Jaime Escobar D</dc:creator>
  <dc:description/>
  <dc:language>en-US</dc:language>
  <cp:lastModifiedBy>Laura Mendoza I</cp:lastModifiedBy>
  <dcterms:modified xsi:type="dcterms:W3CDTF">2006-08-11T08:48:23Z</dcterms:modified>
  <cp:revision>17</cp:revision>
  <dc:subject/>
  <dc:title>Diapositiva 1</dc:title>
</cp:coreProperties>
</file>