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316-6040-4DBA-9886-675C85BC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496-2DFC-4794-947A-5910C026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F41-1F59-4E7C-8056-C05A77FE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979-2DB2-4798-8E8C-CAD64172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2834-709E-459A-A154-8F4CE6B4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905E-9FAB-49AC-9295-5F79A671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A8DD-06C1-4673-B16F-7DA622DC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E613-32C0-4B23-9586-A6B4ECE0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031B-2F2C-4C4F-B388-8CEBAC88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78A5-3812-488E-9325-0E8ED075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56EB-1184-4E14-8731-10A2F5AD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547-E2AA-4ED7-BF79-7A1773A6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5737-C996-4BA1-AC1F-82CFFFB4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E9D5-8908-407F-906A-88E1FA69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B3B2-E033-447B-A3F5-AF454524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86A1-4602-4331-B423-5CFB1882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9892-87B0-4806-8BAF-A17B5816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800-13B1-4725-AFE6-FBA5F48D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089-188D-4D83-AD21-B028634F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F60-C36B-46BB-857C-35542F24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452-91D6-479C-8506-93C78D2C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DD7-E3EC-48DD-9193-C2DB44C0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226-94D9-4E04-A524-B9799FC2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683-1852-4D54-9BE5-8B94BE77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1164-2E51-4538-9D8B-672C75718DA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8E4B-69DE-47CD-9C7A-C3471610338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Pleur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49528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. Laura Mendoz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ción Respir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U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canismos y causas del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presión hidrostática en la microvasculatura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minución de la presión oncótica intravascu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negatividad de la presión inra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permeabilidad capilar con salida de líquido y proteí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canismos y causas del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táculo de drenaje linfático por bloqueo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omas pariet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nglios mediastínic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o de transudado peritoneal ( ascitis) a través de linfáticos o de pequeños orificios del diafrag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ptura de vasos sanguíneos o del conducto torác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trans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ficiencia cardíaca conges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nefrót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rosis hepática con asc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anismos no precis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bolia pulmo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rcoidos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ed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cio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cterianas agud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berculos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r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agación directa o metástas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sotelio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ía pulmon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ermedades colageno-vascul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reumato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g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iopá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ión de enfermedades del aparato digestiv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ncreatit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sceso hep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foracion esofágic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s misceáne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índrome post perocardiotomía o post infarto ( Síndrome de Dressle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motóra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liotóra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amen físic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el líquido es mayor de 300 ml se dete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ide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lencio respir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380988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adiografía de tórax P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419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3214800" cy="44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fía de tórax lateral y &lt; 300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leural locul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91160" y="1981080"/>
            <a:ext cx="37242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intercis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581280" y="2862360"/>
            <a:ext cx="4876920" cy="3011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anifestaciones clínicas 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advert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or pelurí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s se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derrame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neumotór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infrapulmonar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156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mas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0" y="1905120"/>
            <a:ext cx="4270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studio de las características del líquido pleural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oracocentesi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1912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specto macroscópico del líquido pleural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62320" y="990720"/>
            <a:ext cx="4938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 LÍQUIDO/PROT PLASMA &gt; 0.5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FRAS ABSOLUTAS PUEDEN VARI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ITERIOS DE LIGHT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 LÍQUIDO ES EXUDADO SI CUMPLE 1 O MAS DE LAS SIGUIENTES CARACTERISTIC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ón entre proteínas del líquido y plasma es &gt; 0.5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ón entre LDH líquido y del plasma &gt; 0.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ntración de LDH pleural sobre 2/3 del Límite superior de lo n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este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 &gt; 45 mg/d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a &lt; 60 mg/d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anismos difer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bolización de la gluc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érmenes, leucocitos, células tumor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iema (8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plasias ( 3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berculosis(2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queo selectivo de difusión de gluco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5728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reumatoide ( 85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Tahoma"/>
              </a:rPr>
              <a:t>Exudado con glucosa &lt; 60 mg/dl</a:t>
            </a:r>
            <a:endParaRPr b="0" i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515880" y="1332000"/>
            <a:ext cx="8274600" cy="52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Diagnóstico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Incidencia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mg/d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mpiem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leuresia reumatoide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5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Rotura esofágic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80-10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Neoplasi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leuresia TBC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30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14300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8108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55308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íquido norm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≥ 7,50 ( mayor concentración de bicarbona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udados 7,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s : la mayoría &lt; 7,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 bajos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ie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Fisopat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leva a limitación ventilatoria restric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lor pleu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nución del volumen pulmo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ventaja mecánica de los músculos inspiratorios por distensión del 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idez toracopulmonar por engrosamiento y sínfisis ple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Diagnóstico diferencial de un exudado con pH &lt; 7,30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35720" y="1204920"/>
            <a:ext cx="86691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Diagnóstico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Incidencia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mpiem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00-7,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raneumónico complicad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9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euresia reumatoide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7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otura esofág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8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eoplasi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euresia TBC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15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828800"/>
            <a:ext cx="8839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DA ( adenosindeamidasa)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focitos T aactiv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ada 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s por TB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ritis Reumatoi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fom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 razones no precisadas: empi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iterios diagnósticos del AD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30 U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C extremadamente improbab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e 30 y 80 U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discrimina bi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 en muchos lugares si es mayor de 45 U/L igual se considera probable TB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 debe evaluarse probabilidad Pre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 80 U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C, empiema, AR, linfo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orte de probablidad clínica pre test : permite confirmar TBC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milas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sobre 2 veces el valor normal 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ncreatitis aguda y pseudoquiste pancreá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ptura de esófag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Otros 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adores inmunológic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élulas del lup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, AAN, complem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glicéri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óstico de quilo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 110 mg/d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lomicron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citológicos : Leucocit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PM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rocesos agud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rames paraneumó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ncreatitis agu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e inicial de pleuresía tuberculos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 Linfocit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udad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erculo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osinófil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e o sangre en ple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ritrocit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ausencia de trauma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oplasi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mbolí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B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índrome post-injuria cardíac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euresía por asbest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elulas mesoteliales y neoplásica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ulas mesotel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laro rol diagnós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élulas neoplásic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ibilidad variab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º muestra o centrifugado puede aumentar rendimi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microbiológ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nción de gra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ltivos aerobios y anaerobi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iloscopía y cultivo de Ko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ja sensi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histológ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pleural con agu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toracoscóp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quirúrgic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Líquido Pleural</a:t>
            </a:r>
            <a:endParaRPr b="0" i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udad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udad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angr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1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il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TRANSUDAT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uficiencia cardía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pertensión venosa pulmonar 2º a insuficncia cardiaca izquierda o estenosis mit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rame bilateral y cuantía simil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ica clara : no es necesario la punción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udas : punción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cha magnitud : punción pleural evacuador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TRANSUDAT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rosis Hepá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% de los pacientes con asciti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 frecuente al lado derech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iración del líquido por presión negativa del tórax a través de defectos del diafrag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EXUDATIV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ARANEUMÓNICO SIMP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 estéri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ARANEUMONICO COMPLI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cion bacteriana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brina, lóculos múltip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casa llegada de antibiótico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esgo alto de muerte sin tratamiento apropi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paraneumonico complicado </a:t>
            </a: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ecto macroscópico purul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 baj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7, 2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a ba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40 mg /d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m (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ivo (+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ctato al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DH elev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Clasificación de los derrames paraneumónicos y empiema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no complic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H &gt; 7,20. Glucosa 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limitro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7 &lt; pH &lt; 7,20 y/o LDH &gt; 1000 y glucosa 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complicado si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H &lt; 7,0 y/o glucosa &lt; 40 mg/d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complicado comple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Gram o cultivo posi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mpie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Derrame paraneumonico complicado Conducta terapeútica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racocentesis  precoz y Evacuadora en lo posible en todo derrame paraneumón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lvo sólo en el fondo de seno costofré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hay dudas: repetir pu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fía y ecografía : derrame locul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naje en paraneumónico complic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o por ciruja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OPLASIAS PLEURALE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oplasias primitivas de la pleur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telioma fibroso beni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telioma mali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osición a fibras de asbes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tencia de 20 a 40 añ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íquio pleu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 hemorrágic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7,30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óstico difícil histológico inmunohistoquím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Etiología del derrame pleural maligno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9040" y="1981080"/>
          <a:ext cx="7758000" cy="41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981080"/>
                    <a:ext cx="775800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ahoma"/>
              </a:rPr>
              <a:t>Derrame pleural masivo sin desviación contralateral del mediastino</a:t>
            </a: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allazgo ominos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ncer pulmon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astino encarcel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sotelioma malig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apón mu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 afecciones de la pleura consisten casi siempre en alteraciones diversas de la serosidad que ella secreta en el estado norm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ennec 18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ORAX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finición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e en cavidad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 frecuencia : urg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gún mecanismo cau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um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pontáne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 pulmón san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spontáneo primari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licación de enfermedad pulmonar preexistent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pontáneo secundario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órax espontáneo primari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bres/ Mujeres = 6/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óvenes, longilíne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mado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ptura de pequeñas vesiculas subpleurales ( bleb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Neumotórax espontáneo primario Manifestaciones Clínica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or pleurítico súbi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neumotórax al examen físco si la magnitud es significa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fía de tórax es diagnóst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438280" y="533520"/>
            <a:ext cx="47894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ducta terapeútic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e 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ntensidad de los síntom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ción del volumen del neumo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istencia de la entrada de a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 muy raro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68996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ducta terapéutica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 15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ación : resolución espontán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15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naje con sonda fina o tub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exión a trampa de agu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ir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stente: manejo quirúrg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órax espontáneo secundari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al primari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: síntomas de mayor intens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as mas frecu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M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ejo: quirúrg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MOTÓRAX TRAUMA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MOTORAX A TEN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343400" y="1066680"/>
            <a:ext cx="38052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ransudad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ultrafiltración a nivel capi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 la presión hidrostá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nución de la presión coloido- osmótica intracapil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caracteriza p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ja concentración de proteín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sencia de indicadores de inflam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or permeabilidad capi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en proteínas sanguíneas al líquido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D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 permea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eración local por celulas inflamator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angre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ptura de los vasos sanguíneos de la pleur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TO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Quil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iones en el conducto torácico  p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iltración tumo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LOTOR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1:23:34Z</dcterms:created>
  <dc:creator>Laura Mendoza</dc:creator>
  <dc:description/>
  <dc:language>en-US</dc:language>
  <cp:lastModifiedBy>Laura Mendoza</cp:lastModifiedBy>
  <dcterms:modified xsi:type="dcterms:W3CDTF">2007-08-08T16:50:11Z</dcterms:modified>
  <cp:revision>55</cp:revision>
  <dc:subject/>
  <dc:title>PowerPoint Presentation</dc:title>
</cp:coreProperties>
</file>