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61F-6ED8-4F21-ADE8-188512FC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28F-E839-4A1A-BDF7-67C582BD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C81D-B357-4714-B7CE-D520D0AC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95D-BA87-47FD-AFEA-865596B2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09CA-4A3F-4336-AC91-04C5BEB2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0FF7-45C8-47BB-99EE-00752758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4AAE-42ED-458E-9886-7A2FC532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17F4-135D-4D42-A4CA-7F7F97BD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F2EA-A399-4D05-AACC-698866FF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416D-143C-4499-A41D-4E7FDB85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FB54-A411-48CE-8A56-DE37C503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302-3DCF-4103-A304-09AAB79B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9B1E-2ACE-4F69-A3D2-5DE2CE81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839B-E247-43B7-80C8-91E5DB22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57FA-D330-417A-AD9E-C88B9F4E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7986-8366-4205-A4FD-D456F26D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09F2-18E3-4F34-B569-7A460025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1C7-73BB-4684-BFC9-5219CEDE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671-F5CB-4C95-9353-0E736A3B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BA7-2AE7-4A32-8462-D755762F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3E3-6435-46FB-A7F5-727CF6FC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E68-F6D4-461A-A113-A59E3066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805-BC05-48C2-BC23-DA073DE9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E44-FC75-49C3-AD4C-7E44D7C3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DA2E-65C2-4743-9545-1FC2C5076BA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4E9F-03FF-4C3B-A304-5CBD63AFA28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Pleur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49528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. Laura Mendoz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ción Respir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U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canismos y causas del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presión hidrostática en la microvasculatura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minución de la presión oncótica intravascu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negatividad de la presión inra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permeabilidad capilar con salida de líquido y proteí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canismos y causas del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táculo de drenaje linfático por bloqueo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omas pariet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nglios mediastínic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o de transudado peritoneal ( ascitis) a través de linfáticos o de pequeños orificios del diafrag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ptura de vasos sanguíneos o del conducto torác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trans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ficiencia cardíaca conges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nefrót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rosis hepática con asc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anismos no precis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bolia pulmo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rcoidos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ed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cio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cterianas agud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berculos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r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agación directa o metástas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sotelio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olía pulmon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ermedades colageno-vascul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reumato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og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iopá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ión de enfermedades del aparato digestiv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ncreatit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sceso hepátic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foracion esofágic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s misceáne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índrome post perocardiotomía o post infarto ( Síndrome de Dressle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motóra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liotóra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amen físic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el líquido es mayor de 300 ml se dete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ide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lencio respir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380988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adiografía de tórax P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419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3214800" cy="44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fía de tórax lateral y &lt; 300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leural locul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91160" y="1981080"/>
            <a:ext cx="37242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intercis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581280" y="2862360"/>
            <a:ext cx="4876920" cy="3011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anifestaciones clínicas 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advert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or pelurí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s se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derrame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neumotór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infrapulmonar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156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mas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0" y="1905120"/>
            <a:ext cx="4270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studio de las características del líquido pleural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oracocentesi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1912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specto macroscópico del líquido pleural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62320" y="990720"/>
            <a:ext cx="4938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I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 LÍQUIDO/PROT PLASMA &gt; 0.5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FRAS ABSOLUTAS PUEDEN VARI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ITERIOS DE LIGHT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 LÍQUIDO ES EXUDADO SI CUMPLE 1 O MAS DE LAS SIGUIENTES CARACTERISTIC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ón entre proteínas del líquido y plasma es &gt; 0.5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ón entre LDH líquido y del plasma &gt; 0.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entración de LDH pleural sobre 2/3 del Límite superior de lo n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este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 &gt; 45 mg/d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a &lt; 60 mg/d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anismos difer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bolización de la gluc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érmenes, leucocitos, células tumor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iema (8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oplasias ( 3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berculosis(2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queo selectivo de difusión de gluco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5728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reumatoide ( 85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Tahoma"/>
              </a:rPr>
              <a:t>Exudado con glucosa &lt; 60 mg/dl</a:t>
            </a:r>
            <a:endParaRPr b="0" i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515880" y="1332000"/>
            <a:ext cx="8274600" cy="52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Diagnóstico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Incidencia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mg/d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mpiem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leuresia reumatoide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5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Rotura esofágic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80-10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Neoplasi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leuresia TBC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ES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30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14300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8108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55308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íquido norma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 ≥ 7,50 ( mayor concentración de bicarbona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udados 7,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s : la mayoría &lt; 7,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 bajos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ie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Fisopat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leva a limitación ventilatoria restric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lor pleu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nución del volumen pulmo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ventaja mecánica de los músculos inspiratorios por distensión del 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idez toracopulmonar por engrosamiento y sínfisis ple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Diagnóstico diferencial de un exudado con pH &lt; 7,30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35720" y="1204920"/>
            <a:ext cx="86691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Diagnóstico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Incidencia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mpiem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00-7,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raneumónico complicad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9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euresia reumatoide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7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otura esofágic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8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eoplasi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euresia TBC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15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828800"/>
            <a:ext cx="8839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DA ( adenosindeamidasa)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focitos T aactiv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ada 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s por TB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ritis Reumatoi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fom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 razones no precisadas: empi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iterios diagnósticos del AD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30 U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C extremadamente improbab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e 30 y 80 U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discrimina bi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 en muchos lugares si es mayor de 45 U/L igual se considera probable TB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 debe evaluarse probabilidad Pre 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 80 U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C, empiema, AR, linfo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orte de probablidad clínica pre test : permite confirmar TBC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milas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sobre 2 veces el valor normal 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ncreatitis aguda y pseudoquiste pancreá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ptura de esófag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Otros 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adores inmunológic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élulas del lup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, AAN, complem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glicéri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óstico de quilo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 110 mg/d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lomicron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citológicos : Leucocit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PM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rocesos agud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rames paraneumó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olí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ncreatitis agu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se inicial de pleuresía tuberculos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 Linfocit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udad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erculo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osinófil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e o sangre en ple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ritrocit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ausencia de trauma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oplasi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mbolí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B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índrome post-injuria cardíac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euresía por asbest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elulas mesoteliales y neoplásica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ulas mesotelia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laro rol diagnós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élulas neoplásic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ibilidad variab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º muestra o centrifugado puede aumentar rendimi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microbiológ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nción de gra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ltivos aerobios y anaerobi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iloscopía y cultivo de Ko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ja sensibi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histológ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pleural con agu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toracoscóp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quirúrgic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Líquido Pleural</a:t>
            </a:r>
            <a:endParaRPr b="0" i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udad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udad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angr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1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il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TRANSUDAT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uficiencia cardía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pertensión venosa pulmonar 2º a insuficncia cardiaca izquierda o estenosis mit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rame bilateral y cuantía simil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nica clara : no es necesario la punción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udas : punción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cha magnitud : punción pleural evacuador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TRANSUDAT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rosis Hepá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 % de los pacientes con asciti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 frecuente al lado derech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iración del líquido por presión negativa del tórax a través de defectos del diafrag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EXUDATIV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ARANEUMÓNICO SIMP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 estéri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ARANEUMONICO COMPLI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cion bacteriana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brina, lóculos múltip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casa llegada de antibiótico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esgo alto de muerte sin tratamiento apropi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paraneumonico complicado </a:t>
            </a: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ecto macroscópico purul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 baj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7, 2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a ba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40 mg /d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m (+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ivo (+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ctato al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DH elev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Clasificación de los derrames paraneumónicos y empiema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no complic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H &gt; 7,20. Glucosa 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limitro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7 &lt; pH &lt; 7,20 y/o LDH &gt; 1000 y glucosa 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complicado si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H &lt; 7,0 y/o glucosa &lt; 40 mg/d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complicado comple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Gram o cultivo posi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mpie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Derrame paraneumonico complicado Conducta terapeútica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racocentesis  precoz y Evacuadora en lo posible en todo derrame paraneumón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lvo sólo en el fondo de seno costofré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hay dudas: repetir pu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fía y ecografía : derrame locul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naje en paraneumónico complic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o por ciruja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OPLASIAS PLEURALE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oplasias primitivas de la pleur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telioma fibroso benig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telioma malig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osición a fibras de asbes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tencia de 20 a 40 añ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íquio pleu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 hemorrágic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 7,30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óstico difícil histológico inmunohistoquím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Etiología del derrame pleural maligno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9040" y="1981080"/>
          <a:ext cx="7758000" cy="41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981080"/>
                    <a:ext cx="775800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ahoma"/>
              </a:rPr>
              <a:t>Derrame pleural masivo sin desviación contralateral del mediastino</a:t>
            </a: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Hallazgo ominos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ncer pulmon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astino encarcel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sotelioma malig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apón mu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 afecciones de la pleura consisten casi siempre en alteraciones diversas de la serosidad que ella secreta en el estado norm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ennec 18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ORAX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finición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e en cavidad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 frecuencia : urg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gún mecanismo caus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umátic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pontáne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 pulmón san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spontáneo primari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licación de enfermedad pulmonar preexistent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pontáneo secundario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órax espontáneo primari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bres/ Mujeres = 6/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óvenes, longilíne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mado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ptura de pequeñas vesiculas subpleurales ( bleb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Neumotórax espontáneo primario Manifestaciones Clínica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or pleurítico súbi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neumotórax al examen físco si la magnitud es significa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fía de tórax es diagnóst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438280" y="533520"/>
            <a:ext cx="47894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ducta terapeútic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e 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ntensidad de los síntom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ción del volumen del neumo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istencia de la entrada de a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 muy raro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68996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ducta terapéutica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 15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ervación : resolución espontán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 15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naje con sonda fina o tub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exión a trampa de agu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ir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stente: manejo quirúrg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órax espontáneo secundari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al primari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: síntomas de mayor intens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as mas frecue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M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ejo: quirúrg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MOTÓRAX TRAUMA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MOTORAX A TEN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343400" y="1066680"/>
            <a:ext cx="38052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ransudad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ultrafiltración a nivel capi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mento de la presión hidrostá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nución de la presión coloido- osmótica intracapil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 caracteriza p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ja concentración de proteín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sencia de indicadores de inflam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or permeabilidad capi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en proteínas sanguíneas al líquido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D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mento de permeabi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eración local por celulas inflamator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angre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ptura de los vasos sanguíneos de la pleur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TO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Quil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iones en el conducto torácico  p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iltración tumo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LOTOR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1:23:34Z</dcterms:created>
  <dc:creator>Laura Mendoza</dc:creator>
  <dc:description/>
  <dc:language>en-US</dc:language>
  <cp:lastModifiedBy>Laura Mendoza</cp:lastModifiedBy>
  <dcterms:modified xsi:type="dcterms:W3CDTF">2007-08-08T16:50:11Z</dcterms:modified>
  <cp:revision>55</cp:revision>
  <dc:subject/>
  <dc:title>PowerPoint Presentation</dc:title>
</cp:coreProperties>
</file>