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ct" ContentType="image/x-pict"/>
  <Override PartName="/ppt/media/image9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D94A-9AA8-435C-A8A3-6002AF85A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891A-D68A-4AF9-9E19-7C693891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79CC-F22F-4876-833C-F62E20466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4968-C062-4A4A-9FBF-F5838566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F29F-9FA4-4116-98F7-732E514B9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E96E-DAEA-4FAC-8599-C9C0D852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6E54-077A-4B8A-8BE5-7A1E3359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BACF-FE4B-4453-9277-F3FB4599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CAAF-C906-4E62-B9FC-1546A87A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11B1-FF44-4880-B338-1EE99A50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492C-81D8-46C5-9E48-67507371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6C10-1D4B-4B59-9227-9ED07A6F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9B4F-E777-4F48-9120-AFF96DAC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C632-BC4E-4BCA-B7A6-14C0DF7A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0937-CE08-411B-AABB-B05BAB6D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346E-BB20-4620-B7D3-CA6E71E34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6815-5E26-48EB-8A79-34FBD7051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3BAD-AEAE-4124-9D96-FC4909D3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0149-B408-4E46-BC46-94F5AC27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4E72-A3C6-43FE-99D5-9493AB70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9C75-4A53-4785-BCB5-A62657B6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F0C9-487A-4B41-94FE-88C4B463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8F32-E7FD-43AC-A0F2-7940B186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9599-6201-4BEC-A12B-6881121D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7E7C-3D6B-4DDE-9FC3-6B39A699E759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FD33-B847-480C-BC6E-13AE205CAE2C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Pleur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38280" y="4952880"/>
            <a:ext cx="6400800" cy="1447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. Laura Mendoz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ción Respirato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CU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Mecanismos y causas del derrame pleural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de la presión hidrostática en la microvasculatura pleur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minución de la presión oncótica intravascul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de la negatividad de la presión inrapleur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de la permeabilidad capilar con salida de líquido y proteín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Mecanismos y causas del derrame pleural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stáculo de drenaje linfático por bloqueo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omas parietal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nglios mediastínic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so de transudado peritoneal ( ascitis) a través de linfáticos o de pequeños orificios del diafrag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ptura de vasos sanguíneos o del conducto torác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ausas mas frecuentes de transudado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uficiencia cardíaca congestiv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índrome nefrótic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rrosis hepática con ascit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anismos no precisad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bolia pulmon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rcoidosi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xede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ausas mas frecuentes de Exudado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eccion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cterianas agud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uberculosi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iru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oplasi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pagación directa o metástasi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sotelio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bolía pulmona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fermedades colageno-vascular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tritis reumatoi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og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iopá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ausas mas frecuentes de exudado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ensión de enfermedades del aparato digestiv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ncreatiti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bsceso hepátic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foracion esofágic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udados misceáne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índrome post perocardiotomía o post infarto ( Síndrome de Dressler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motórax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liotórax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amen físic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 el líquido es mayor de 300 ml se detec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idez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lencio respirato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876920" y="3809880"/>
            <a:ext cx="380988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Imageneología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Radiografía de tórax P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286000" y="1981080"/>
            <a:ext cx="4419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Imageneologí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43000" y="1828800"/>
            <a:ext cx="3214800" cy="4464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diografía de tórax lateral y &lt; 300 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Imageneologí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rame pleural loculad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91160" y="1981080"/>
            <a:ext cx="372420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Imageneologí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rame intercisu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581280" y="2862360"/>
            <a:ext cx="4876920" cy="30114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Manifestaciones clínicas 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adverti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lor pelurít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s sec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ne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índrome de derrame pleur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índrome de neumotór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Derrame infrapulmonar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295280" y="1600200"/>
            <a:ext cx="715644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Derrame masiv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286000" y="1905120"/>
            <a:ext cx="4270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studio de las características del líquido pleural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Toracocentesi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619128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specto macroscópico del líquido pleural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362320" y="990720"/>
            <a:ext cx="4938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bioquím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EIN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UDAD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 LÍQUIDO/PROT PLASMA &gt; 0.5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FRAS ABSOLUTAS PUEDEN VARIA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D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RITERIOS DE LIGHT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 LÍQUIDO ES EXUDADO SI CUMPLE 1 O MAS DE LAS SIGUIENTES CARACTERISTIC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ación entre proteínas del líquido y plasma es &gt; 0.5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ación entre LDH líquido y del plasma &gt; 0.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entración de LDH pleural sobre 2/3 del Límite superior de lo norm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Bioquím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ester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udado &gt; 45 mg/d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7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sa &lt; 60 mg/d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canismos diferent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tabolización de la gluco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érmenes, leucocitos, células tumor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piema (80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oplasias ( 30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uberculosis(20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queo selectivo de difusión de glucos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57280" indent="-291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tritis reumatoide ( 85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Tahoma"/>
              </a:rPr>
              <a:t>Exudado con glucosa &lt; 60 mg/dl</a:t>
            </a:r>
            <a:endParaRPr b="0" i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515880" y="1332000"/>
            <a:ext cx="8274600" cy="52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Diagnóstico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Incidencia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mg/d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Empiema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100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0-4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leuresia reumatoidea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85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0-5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Rotura esofágica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80-100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0-4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Neoplasia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30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15-5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leuresia TBC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20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15-5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ES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15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30-5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143000"/>
            <a:ext cx="830556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81080"/>
            <a:ext cx="830556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6553080"/>
            <a:ext cx="830556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bioquím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íquido normal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 ≥ 7,50 ( mayor concentración de bicarbonat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udados 7,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udados : la mayoría &lt; 7,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 bajos 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pie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triti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oplasi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Fisopatologí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leva a limitación ventilatoria restrictiv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lor pleur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minución del volumen pulmon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ventaja mecánica de los músculos inspiratorios por distensión del tórax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gidez toracopulmonar por engrosamiento y sínfisis pleu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Diagnóstico diferencial de un exudado con pH &lt; 7,30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135720" y="1204920"/>
            <a:ext cx="866916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Diagnóstico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Incidencia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mpiem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10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6,00-7,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araneumónico complicad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10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6,90-7,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leuresia reumatoide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85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7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otura esofágic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8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6,00-7,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eoplasi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3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7,00-7,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leuresia TBC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2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7,00-7,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E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1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7,15-7,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1828800"/>
            <a:ext cx="8839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ADA ( adenosindeamidasa)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focitos T aactivad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ada 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rames por TBC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tritis Reumatoi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fom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 razones no precisadas: empie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riterios diagnósticos del AD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 30 U/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C extremadamente improbabl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tre 30 y 80 U/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discrimina bi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o en muchos lugares si es mayor de 45 U/L igual se considera probable TBC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o debe evaluarse probabilidad Pre T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 80 U/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C, empiema, AR, linfom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orte de probablidad clínica pre test : permite confirmar TBC pleu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Amilas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sobre 2 veces el valor normal 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ncreatitis aguda y pseudoquiste pancreát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oplasi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ptura de esófag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Otros exámenes bioquím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cadores inmunológic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élulas del lup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, AAN, complemen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iglicérid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gnóstico de quilotórax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 110 mg/d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ilomicron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citológicos : Leucocit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PM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Procesos agudo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rrames paraneumón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bolí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ncreatitis agud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se inicial de pleuresía tuberculosa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 Linfocit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nsudad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berculosi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oplasi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osinófil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re o sangre en ple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ritrocit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 ausencia de trauma: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eoplasi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mbolí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B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índrome post-injuria cardíac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leuresía por asbesto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elulas mesoteliales y neoplásica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ulas mesotelial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claro rol diagnóst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élulas neoplásic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sibilidad variabl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º muestra o centrifugado puede aumentar rendimien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microbiológ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nción de gra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ltivos aerobios y anaerobi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ciloscopía y cultivo de Ko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ja sensibilida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histológ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psia pleural con agu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psia toracoscópic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psia quirúrgica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ahoma"/>
              </a:rPr>
              <a:t>Líquido Pleural</a:t>
            </a:r>
            <a:endParaRPr b="0" i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10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ransudado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10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udado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10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angr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11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uilo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NFERMEDADES CON DERRAME PLEURAL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NFERMEDADES CON DERRAME TRANSUDATIV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uficiencia cardía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pertensión venosa pulmonar 2º a insuficncia cardiaca izquierda o estenosis mit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rrame bilateral y cuantía simila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nica clara : no es necesario la punción pleu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 hay dudas : punción pleu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cha magnitud : punción pleural evacuador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NFERMEDADES CON DERRAME TRANSUDATIV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rrosis Hepáti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 % de los pacientes con asciti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 frecuente al lado derech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piración del líquido por presión negativa del tórax a través de defectos del diafragm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NFERMEDADES CON DERRAME EXUDATIVO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RAME PARANEUMÓNICO SIMPL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udado estéri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RAME PARANEUMONICO COMPLIC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eccion bacteriana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brina, lóculos múltip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casa llegada de antibiótico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esgo alto de muerte sin tratamiento apropiad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Derrame paraneumonico complicado </a:t>
            </a:r>
            <a:br>
              <a:rPr sz="4400"/>
            </a:b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lvl="3" marL="156816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pecto macroscópico purulen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 baj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 7, 2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sa baj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 40 mg /d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m (+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ltivo (+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ctato alt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DH eleva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Clasificación de los derrames paraneumónicos y empiema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neumónico no complic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pH &gt; 7,20. Glucosa &gt; 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neumónico limitrof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7 &lt; pH &lt; 7,20 y/o LDH &gt; 1000 y glucosa &gt; 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neumónico complicado sim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pH &lt; 7,0 y/o glucosa &lt; 40 mg/d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neumónico complicado complej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Gram o cultivo posi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mpie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P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Derrame paraneumonico complicado Conducta terapeútica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racocentesis  precoz y Evacuadora en lo posible en todo derrame paraneumón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alvo sólo en el fondo de seno costofré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 hay dudas: repetir pun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diografía y ecografía : derrame locul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enaje en paraneumónico complicad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bo por cirujan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EOPLASIAS PLEURALE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oplasias primitivas de la pleur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sotelioma fibroso benign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sotelioma malign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posición a fibras de asbest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tencia de 20 a 40 año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íquio pleur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udado hemorrágic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 7,30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gnóstico difícil histológico inmunohistoquím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Tahoma"/>
              </a:rPr>
              <a:t>Etiología del derrame pleural maligno</a:t>
            </a: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89040" y="1981080"/>
          <a:ext cx="7758000" cy="410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9040" y="1981080"/>
                    <a:ext cx="7758000" cy="41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ahoma"/>
              </a:rPr>
              <a:t>Derrame pleural masivo sin desviación contralateral del mediastino</a:t>
            </a:r>
            <a:endParaRPr b="0" i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Hallazgo ominos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ncer pulmon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ediastino encarcel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esotelioma malig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apón muco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s afecciones de la pleura consisten casi siempre en alteraciones diversas de la serosidad que ella secreta en el estado norm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ennec 185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EUMOTORAX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Definición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re en cavidad pleu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 frecuencia : urge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gún mecanismo caus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aumátic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spontáne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 pulmón sano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spontáneo primario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plicación de enfermedad pulmonar preexistente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spontáneo secundario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eumotórax espontáneo primari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bres/ Mujeres = 6/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óvenes, longilíne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mador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ptura de pequeñas vesiculas subpleurales ( bleb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Neumotórax espontáneo primario Manifestaciones Clínicas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lor pleurítico súbit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ne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índrome de neumotórax al examen físco si la magnitud es significativ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diografía de tórax es diagnóstic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2438280" y="533520"/>
            <a:ext cx="478944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onducta terapeútic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ende 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ntensidad de los síntom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imación del volumen del neumotórax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istencia de la entrada de a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 muy raro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768996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onducta terapéutica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 15%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servación : resolución espontáne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 15%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enaje con sonda fina o tub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exión a trampa de agu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pira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sistente: manejo quirúrgic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eumotórax espontáneo secundari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ilar al primari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o: síntomas de mayor intens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usas mas frecuen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PO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MA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ejo: quirúrgic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UMOTÓRAX TRAUMAT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UMOTORAX A TEN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343400" y="1066680"/>
            <a:ext cx="380520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Transudad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de la ultrafiltración a nivel capil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mento de la presión hidrostáti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minución de la presión coloido- osmótica intracapil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 caracteriza por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ja concentración de proteín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sencia de indicadores de inflama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udado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or permeabilidad capil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len proteínas sanguíneas al líquido pleur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de LD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mento de permeabilida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eración local por celulas inflamatori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Sangre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ptura de los vasos sanguíneos de la pleur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MOTORAX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Quil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iones en el conducto torácico  por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um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iltración tumor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ILOTORA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01:23:34Z</dcterms:created>
  <dc:creator>Laura Mendoza</dc:creator>
  <dc:description/>
  <dc:language>en-US</dc:language>
  <cp:lastModifiedBy>Laura Mendoza</cp:lastModifiedBy>
  <dcterms:modified xsi:type="dcterms:W3CDTF">2007-08-08T16:50:11Z</dcterms:modified>
  <cp:revision>55</cp:revision>
  <dc:subject/>
  <dc:title>PowerPoint Presentation</dc:title>
</cp:coreProperties>
</file>