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1.pct" ContentType="image/x-pict"/>
  <Override PartName="/ppt/media/image9.jpeg" ContentType="image/jpeg"/>
  <Override PartName="/ppt/media/image12.pct" ContentType="image/x-pict"/>
  <Override PartName="/ppt/media/image7.pct" ContentType="image/x-pict"/>
  <Override PartName="/ppt/media/image10.pct" ContentType="image/x-pict"/>
  <Override PartName="/ppt/media/image6.jpeg" ContentType="image/jpeg"/>
  <Override PartName="/ppt/media/image8.gif" ContentType="image/gif"/>
  <Override PartName="/ppt/media/image24.pct" ContentType="image/x-pict"/>
  <Override PartName="/ppt/media/image3.png" ContentType="image/png"/>
  <Override PartName="/ppt/media/image17.jpeg" ContentType="image/jpeg"/>
  <Override PartName="/ppt/media/image26.png" ContentType="image/png"/>
  <Override PartName="/ppt/media/image23.pct" ContentType="image/x-pict"/>
  <Override PartName="/ppt/media/image21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6.png" ContentType="image/png"/>
  <Override PartName="/ppt/media/image2.pct" ContentType="image/x-pict"/>
  <Override PartName="/ppt/media/image25.pct" ContentType="image/x-pict"/>
  <Override PartName="/ppt/media/image15.png" ContentType="image/png"/>
  <Override PartName="/ppt/media/image14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F3E-E552-4391-BF52-1AC043F9A7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iagnosis of COPD should be considered in any patient who has cough, sputum production, or dyspnea and/or a history of exposure to risk factors.  The diagnosis is confirmed by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help identify individuals earlier in the course of disease, spirometry should be performed for patients who have chronic cough and sputum production even if they do not have dyspne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irometry is the best way to diagnose COPD and to monitor its progression and health care workers to care for COPD patients should have assess to spiromet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11320" y="654120"/>
            <a:ext cx="4651200" cy="3487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2320" y="4358880"/>
            <a:ext cx="5030640" cy="40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of total personal exposure to tobacco smoke, occupational dusts and chemicals, and indoor and outdoor air pollutants are important goals to prevent the onset and progression of CO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cessation is the single most effective - and cost effective - intervention to reduce the risk of developing COPD and stop its pro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tobacco dependence treatment is effective, and every tobacco user should be offered at least this treatment at every visit to a health care prov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a5ff4b"/>
              </a:buClr>
              <a:buFont typeface="Agfa Rotis Semisan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types of counseling are especially effective: practical counseling, social support as part of treatment, and social support arranged outside of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563-8098-47F9-90A1-660D0B5A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4E4-7D6C-47C5-9A6B-3A84E5E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D63-E4B9-401A-A50C-3D0E1DC0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39D-3CC2-413C-868D-840F7351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DF8C-4D76-4174-9DF6-BE94D41E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A07C-5948-43E0-B66F-09B3285B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B87E-E32F-4705-9BF6-3E816020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3F0-1DEE-4596-AC60-F4E5F25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4602-7D78-4F0B-98AF-74C365A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5472-F804-4146-B2CB-783AEB1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FE18-DFA8-4A53-8260-27417A96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B45-25E2-45DF-AEF3-6A6898E2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3707-E20F-41F4-8FF9-9E47337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E947-D996-471D-B07E-7DC848A5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C07A-6D3C-4798-8EA7-92CE3209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AE68-274D-4E32-8549-706F91B9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59CB-9ECD-4DD5-9AB1-4AC6A1C8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F19-7DFD-4F5E-BB0E-497C0A1A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C05-E245-4368-B60D-3FBBE26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0D3-4CC1-4F54-80F1-92C36B5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33F-ED2A-407F-80B0-EC42ECA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2E5-E231-4216-AD3A-DA8A6FD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65E-E9C5-4468-8711-12B8082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7FC-C826-436B-8A4E-58CDA08F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15C2-6721-4964-90F4-8FB8947D6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50A4-8ACB-4F42-9C8C-10D40381A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d467"/>
                </a:solidFill>
                <a:latin typeface="Arial"/>
              </a:rPr>
              <a:t>EPOC AMBULATORIO</a:t>
            </a: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47239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ra. Laura Mendoza I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ección respiratori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Hospital Clínico Universidad de Chil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640080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453360"/>
            <a:ext cx="316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17160" y="312840"/>
            <a:ext cx="53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At Risk”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6160" y="1735200"/>
            <a:ext cx="883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D includes four stages of severity classified by spiromet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h category-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0: At Ris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hat appeared in the 2001 report is no longer included as a stage of COPD, as there is incomplete evidence that the individuals who meet the definition of “At Risk” (chronic cough and sputum production, normal spirometry) necessarily progress on to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ge I: Mild CO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ffcc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ublic health message is that chronic cough and sputum are not normal remains important  - their presence should trigger a search for underlying cause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7080" y="90360"/>
            <a:ext cx="71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lassification of COPD Seve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y Spiromet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735200"/>
            <a:ext cx="830556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:   Mild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80% predi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:  Moderat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8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II: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age IV: Very Severe</a:t>
            </a:r>
            <a:r>
              <a:rPr b="0" lang="en-US" sz="2400" spc="-1" strike="noStrike">
                <a:solidFill>
                  <a:srgbClr val="4e119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FVC &lt; 0.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3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&lt; 50% predicte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l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respiratory fail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IDEMIOLOG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LTA PREVALENCIA MUNDI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2° LUGAR COMO CAUSA DE INVALIDEZ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4° CAUSA DE MUERT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Prevalencia de la EPOC n latinoam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  <a:ea typeface="ＭＳ Ｐゴシック"/>
              </a:rPr>
              <a:t>éric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3048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 frecuencia de relaci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VEF1/CVF post broncodilatador &lt; 0.70 aumenta progresivamente con l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da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5 ciudades latinoamerica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5029200" cy="3929040"/>
          </a:xfrm>
          <a:prstGeom prst="rect">
            <a:avLst/>
          </a:prstGeom>
          <a:ln w="28440">
            <a:solidFill>
              <a:srgbClr val="cc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806760" y="6248520"/>
            <a:ext cx="32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Menezes AM et al.  </a:t>
            </a:r>
            <a:r>
              <a:rPr b="0" i="1" lang="en-US" sz="1600" spc="-1" strike="noStrike">
                <a:solidFill>
                  <a:srgbClr val="ffd467"/>
                </a:solidFill>
                <a:latin typeface="Tahoma"/>
              </a:rPr>
              <a:t>Lancet </a:t>
            </a:r>
            <a:r>
              <a:rPr b="0" lang="en-US" sz="1600" spc="-1" strike="noStrike">
                <a:solidFill>
                  <a:srgbClr val="ffd467"/>
                </a:solidFill>
                <a:latin typeface="Tahoma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4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24040" y="2343240"/>
            <a:ext cx="7894440" cy="3806640"/>
          </a:xfrm>
          <a:prstGeom prst="rect">
            <a:avLst/>
          </a:prstGeom>
          <a:gradFill rotWithShape="0">
            <a:gsLst>
              <a:gs pos="0">
                <a:srgbClr val="0097a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52320" y="247320"/>
            <a:ext cx="7064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192"/>
                </a:solidFill>
                <a:latin typeface="Tahoma"/>
              </a:rPr>
              <a:t>Percent Change in Age-Adjusted Death Rates, U.S., 1965-1998</a:t>
            </a:r>
            <a:endParaRPr b="0" lang="en-US" sz="36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960" y="5991120"/>
            <a:ext cx="127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520" y="53881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520" y="47340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5520" y="410544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520" y="347652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5520" y="284796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20" y="2219400"/>
            <a:ext cx="317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1192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6040" y="1873080"/>
            <a:ext cx="2747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rtion of 1965 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01640" y="2282760"/>
          <a:ext cx="811044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282760"/>
                    <a:ext cx="811044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8438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000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04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964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55720" y="6232680"/>
            <a:ext cx="1360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1192"/>
                </a:solidFill>
                <a:latin typeface="Arial"/>
              </a:rPr>
              <a:t>1965 -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65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8324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6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50320" y="5792760"/>
            <a:ext cx="6516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5760" y="5792760"/>
            <a:ext cx="801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+16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54320" y="5792760"/>
            <a:ext cx="50976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cf004"/>
                </a:solidFill>
                <a:latin typeface="Arial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8920" y="2496960"/>
            <a:ext cx="1132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ro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He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5200" y="2496960"/>
            <a:ext cx="79308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Stro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34960" y="2496960"/>
            <a:ext cx="128844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Other CV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73480" y="249696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O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76040" y="2496960"/>
            <a:ext cx="10753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All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ff4b"/>
                </a:solidFill>
                <a:latin typeface="Arial"/>
              </a:rPr>
              <a:t>Ca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76960" y="6546960"/>
            <a:ext cx="37670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 NHLBI/NIH/DH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067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875480" cy="6172200"/>
          </a:xfrm>
          <a:prstGeom prst="rect">
            <a:avLst/>
          </a:prstGeom>
          <a:ln w="38160">
            <a:solidFill>
              <a:srgbClr val="ff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54" name=""/>
          <p:cNvSpPr/>
          <p:nvPr/>
        </p:nvSpPr>
        <p:spPr>
          <a:xfrm>
            <a:off x="552600" y="5970600"/>
            <a:ext cx="22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mal A. et al.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JAM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 principales caus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 muerte en EEU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sde 19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sta el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962520"/>
            <a:ext cx="1447920" cy="6094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54200" y="210960"/>
            <a:ext cx="67276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COPD Mortality by Gender,</a:t>
            </a:r>
            <a:br>
              <a:rPr sz="4000"/>
            </a:br>
            <a:r>
              <a:rPr b="0" lang="en-US" sz="3200" spc="-1" strike="noStrike">
                <a:solidFill>
                  <a:srgbClr val="ffd467"/>
                </a:solidFill>
                <a:latin typeface="Tahoma"/>
                <a:ea typeface="ＭＳ Ｐゴシック"/>
              </a:rPr>
              <a:t>U.S., 1980-2000</a:t>
            </a:r>
            <a:endParaRPr b="0" lang="en-US" sz="32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001960"/>
          <a:ext cx="831852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01960"/>
                    <a:ext cx="8318520" cy="4378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27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rot="16200000">
            <a:off x="-1374480" y="3510000"/>
            <a:ext cx="4038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Number Deaths x 1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747800" y="2838240"/>
            <a:ext cx="4770360" cy="11286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8800" y="2803320"/>
            <a:ext cx="4789440" cy="2251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886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437160"/>
            <a:ext cx="5845320" cy="580680"/>
          </a:xfrm>
          <a:prstGeom prst="rect">
            <a:avLst/>
          </a:prstGeom>
          <a:solidFill>
            <a:srgbClr val="4e1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Source: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 Centers for Disease Control and Prevention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BAQUISMO : MAS DEL 90%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Inhalación humo de leñ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Factores genét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éficit de alfa 1 antitripsin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os Factor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ocioeconómico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tras exposiciones: cadmio, sílice ??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mbiente, infecciones, etc ??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Principal factor d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riesgo (90%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15 % de los fumado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desarrolla EPO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(factores genéticos, ambientales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737080" cy="256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abaquism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Déficit alfa 1-antitripsin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1% de los casos de EPOC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taminación ambiental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ovoca o agrava síntoma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ol etiológico no demostrad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Times New Roman"/>
              </a:rPr>
              <a:t>Exposición a humo de leña intradomiciliario: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demostrado , medio rur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CAUSAS DE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y clasificació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mpacto de la EPO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actores de riesg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tiopatogenia de la EPOC y Fisiopatología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íntomas y signos de la EPOC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onsideraciones pr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ctic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85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3049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isk Factors for COP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05740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2895480"/>
            <a:ext cx="1905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657600"/>
            <a:ext cx="2666880" cy="825480"/>
          </a:xfrm>
          <a:prstGeom prst="rect">
            <a:avLst/>
          </a:prstGeom>
          <a:solidFill>
            <a:srgbClr val="ffffcc"/>
          </a:solidFill>
          <a:ln w="3816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ocio-economic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5748480"/>
            <a:ext cx="5715000" cy="825120"/>
          </a:xfrm>
          <a:prstGeom prst="rect">
            <a:avLst/>
          </a:prstGeom>
          <a:solidFill>
            <a:srgbClr val="ffffcc"/>
          </a:solidFill>
          <a:ln w="57240">
            <a:solidFill>
              <a:srgbClr val="fa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ging Popul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B15-2986-499C-BBEF-85F565AC5B72}" type="slidenum">
              <a:t>20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45600" cy="533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959520" cy="514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43800" y="4572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447920"/>
            <a:ext cx="762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19051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13200" y="644832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36600" y="1568520"/>
            <a:ext cx="8470800" cy="3720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84872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456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22680" y="6461280"/>
            <a:ext cx="38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STUDIO PLATINO CHIL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72164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153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396252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e de tabaquismo : </a:t>
            </a:r>
            <a:br>
              <a:rPr sz="4000"/>
            </a:b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Paquetes-añ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785080" cy="4674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N° de cigarrillos al dí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x años de fumador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0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POC = &gt; 20 paquetes -añ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MUJERES: &gt; 15 paquete –añ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5327640" cy="321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175280"/>
            <a:ext cx="38862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Histopat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esión destructiva de alvéolos: enfis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Inflamación crónica de la vía aérea pequeña                                                                       ( bronquio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4b15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PATOGENIA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89280" y="307800"/>
            <a:ext cx="610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1397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5840" y="98280"/>
            <a:ext cx="668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pirometry:  Normal and Patients with COP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7440" y="1501920"/>
            <a:ext cx="6697800" cy="53305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Síntoma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precoces y medias : </a:t>
            </a:r>
            <a:r>
              <a:rPr b="1" i="1" lang="es-ES" sz="3200" spc="-1" strike="noStrike">
                <a:solidFill>
                  <a:srgbClr val="c88f00"/>
                </a:solidFill>
                <a:latin typeface="Times New Roman"/>
              </a:rPr>
              <a:t>ASINTOMÁT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88f00"/>
                </a:solidFill>
                <a:latin typeface="Times New Roman"/>
              </a:rPr>
              <a:t>TOS Y EXPECTORACION CRONICA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 mas avanzad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isnea progresiva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grandes 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edianos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sfuerzos </a:t>
            </a:r>
            <a:r>
              <a:rPr b="1" i="1" lang="es-E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 mínimos esfuerz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isminución de la tolerancia al 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Deterioro de la calidad de vi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0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ncepto fisiopatológic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bstrucción irreversible del flujo aére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spirometrí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/CVF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VEF1 bajo LI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No se normaliza con el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xamen físico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Generalmente norma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n etapas avanzada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Aumento de volumen toráci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Baja de pes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Signos de aumento del esfuerzo inspiratori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Uso de musculatura accesoria inspirator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Espiración activa,uso de musculatura abdomin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spiración alternante y paradojal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Fijación  de la cintura escapul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19280" y="333360"/>
          <a:ext cx="508932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3360"/>
                    <a:ext cx="508932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30492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5240" y="5645160"/>
            <a:ext cx="3520800" cy="836640"/>
          </a:xfrm>
          <a:custGeom>
            <a:avLst/>
            <a:gdLst/>
            <a:ahLst/>
            <a:rect l="l" t="t" r="r" b="b"/>
            <a:pathLst>
              <a:path w="2496" h="527">
                <a:moveTo>
                  <a:pt x="79" y="0"/>
                </a:moveTo>
                <a:lnTo>
                  <a:pt x="62" y="2"/>
                </a:lnTo>
                <a:lnTo>
                  <a:pt x="48" y="8"/>
                </a:lnTo>
                <a:lnTo>
                  <a:pt x="35" y="16"/>
                </a:lnTo>
                <a:lnTo>
                  <a:pt x="23" y="26"/>
                </a:lnTo>
                <a:lnTo>
                  <a:pt x="14" y="40"/>
                </a:lnTo>
                <a:lnTo>
                  <a:pt x="7" y="54"/>
                </a:lnTo>
                <a:lnTo>
                  <a:pt x="1" y="70"/>
                </a:lnTo>
                <a:lnTo>
                  <a:pt x="0" y="89"/>
                </a:lnTo>
                <a:lnTo>
                  <a:pt x="0" y="440"/>
                </a:lnTo>
                <a:lnTo>
                  <a:pt x="1" y="458"/>
                </a:lnTo>
                <a:lnTo>
                  <a:pt x="7" y="475"/>
                </a:lnTo>
                <a:lnTo>
                  <a:pt x="14" y="489"/>
                </a:lnTo>
                <a:lnTo>
                  <a:pt x="23" y="503"/>
                </a:lnTo>
                <a:lnTo>
                  <a:pt x="35" y="513"/>
                </a:lnTo>
                <a:lnTo>
                  <a:pt x="48" y="521"/>
                </a:lnTo>
                <a:lnTo>
                  <a:pt x="62" y="525"/>
                </a:lnTo>
                <a:lnTo>
                  <a:pt x="79" y="527"/>
                </a:lnTo>
                <a:lnTo>
                  <a:pt x="2419" y="527"/>
                </a:lnTo>
                <a:lnTo>
                  <a:pt x="2435" y="525"/>
                </a:lnTo>
                <a:lnTo>
                  <a:pt x="2449" y="521"/>
                </a:lnTo>
                <a:lnTo>
                  <a:pt x="2462" y="513"/>
                </a:lnTo>
                <a:lnTo>
                  <a:pt x="2475" y="503"/>
                </a:lnTo>
                <a:lnTo>
                  <a:pt x="2484" y="489"/>
                </a:lnTo>
                <a:lnTo>
                  <a:pt x="2491" y="475"/>
                </a:lnTo>
                <a:lnTo>
                  <a:pt x="2494" y="458"/>
                </a:lnTo>
                <a:lnTo>
                  <a:pt x="2496" y="440"/>
                </a:lnTo>
                <a:lnTo>
                  <a:pt x="2496" y="89"/>
                </a:lnTo>
                <a:lnTo>
                  <a:pt x="2494" y="70"/>
                </a:lnTo>
                <a:lnTo>
                  <a:pt x="2491" y="54"/>
                </a:lnTo>
                <a:lnTo>
                  <a:pt x="2484" y="40"/>
                </a:lnTo>
                <a:lnTo>
                  <a:pt x="2475" y="26"/>
                </a:lnTo>
                <a:lnTo>
                  <a:pt x="2462" y="16"/>
                </a:lnTo>
                <a:lnTo>
                  <a:pt x="2449" y="8"/>
                </a:lnTo>
                <a:lnTo>
                  <a:pt x="2435" y="2"/>
                </a:lnTo>
                <a:lnTo>
                  <a:pt x="2419" y="0"/>
                </a:lnTo>
                <a:lnTo>
                  <a:pt x="79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130480"/>
            <a:ext cx="3638520" cy="2206440"/>
          </a:xfrm>
          <a:custGeom>
            <a:avLst/>
            <a:gdLst/>
            <a:ahLst/>
            <a:rect l="l" t="t" r="r" b="b"/>
            <a:pathLst>
              <a:path w="1664" h="1390">
                <a:moveTo>
                  <a:pt x="206" y="0"/>
                </a:moveTo>
                <a:lnTo>
                  <a:pt x="185" y="2"/>
                </a:lnTo>
                <a:lnTo>
                  <a:pt x="165" y="4"/>
                </a:lnTo>
                <a:lnTo>
                  <a:pt x="145" y="10"/>
                </a:lnTo>
                <a:lnTo>
                  <a:pt x="125" y="18"/>
                </a:lnTo>
                <a:lnTo>
                  <a:pt x="91" y="38"/>
                </a:lnTo>
                <a:lnTo>
                  <a:pt x="61" y="67"/>
                </a:lnTo>
                <a:lnTo>
                  <a:pt x="35" y="101"/>
                </a:lnTo>
                <a:lnTo>
                  <a:pt x="16" y="141"/>
                </a:lnTo>
                <a:lnTo>
                  <a:pt x="8" y="161"/>
                </a:lnTo>
                <a:lnTo>
                  <a:pt x="3" y="184"/>
                </a:lnTo>
                <a:lnTo>
                  <a:pt x="1" y="206"/>
                </a:lnTo>
                <a:lnTo>
                  <a:pt x="0" y="230"/>
                </a:lnTo>
                <a:lnTo>
                  <a:pt x="0" y="1160"/>
                </a:lnTo>
                <a:lnTo>
                  <a:pt x="1" y="1184"/>
                </a:lnTo>
                <a:lnTo>
                  <a:pt x="3" y="1206"/>
                </a:lnTo>
                <a:lnTo>
                  <a:pt x="8" y="1228"/>
                </a:lnTo>
                <a:lnTo>
                  <a:pt x="16" y="1249"/>
                </a:lnTo>
                <a:lnTo>
                  <a:pt x="35" y="1289"/>
                </a:lnTo>
                <a:lnTo>
                  <a:pt x="61" y="1323"/>
                </a:lnTo>
                <a:lnTo>
                  <a:pt x="91" y="1352"/>
                </a:lnTo>
                <a:lnTo>
                  <a:pt x="125" y="1372"/>
                </a:lnTo>
                <a:lnTo>
                  <a:pt x="145" y="1380"/>
                </a:lnTo>
                <a:lnTo>
                  <a:pt x="165" y="1386"/>
                </a:lnTo>
                <a:lnTo>
                  <a:pt x="185" y="1388"/>
                </a:lnTo>
                <a:lnTo>
                  <a:pt x="206" y="1390"/>
                </a:lnTo>
                <a:lnTo>
                  <a:pt x="1458" y="1390"/>
                </a:lnTo>
                <a:lnTo>
                  <a:pt x="1479" y="1388"/>
                </a:lnTo>
                <a:lnTo>
                  <a:pt x="1499" y="1386"/>
                </a:lnTo>
                <a:lnTo>
                  <a:pt x="1519" y="1380"/>
                </a:lnTo>
                <a:lnTo>
                  <a:pt x="1539" y="1372"/>
                </a:lnTo>
                <a:lnTo>
                  <a:pt x="1573" y="1352"/>
                </a:lnTo>
                <a:lnTo>
                  <a:pt x="1603" y="1323"/>
                </a:lnTo>
                <a:lnTo>
                  <a:pt x="1629" y="1289"/>
                </a:lnTo>
                <a:lnTo>
                  <a:pt x="1648" y="1249"/>
                </a:lnTo>
                <a:lnTo>
                  <a:pt x="1655" y="1228"/>
                </a:lnTo>
                <a:lnTo>
                  <a:pt x="1661" y="1206"/>
                </a:lnTo>
                <a:lnTo>
                  <a:pt x="1663" y="1184"/>
                </a:lnTo>
                <a:lnTo>
                  <a:pt x="1664" y="1160"/>
                </a:lnTo>
                <a:lnTo>
                  <a:pt x="1664" y="230"/>
                </a:lnTo>
                <a:lnTo>
                  <a:pt x="1663" y="206"/>
                </a:lnTo>
                <a:lnTo>
                  <a:pt x="1661" y="184"/>
                </a:lnTo>
                <a:lnTo>
                  <a:pt x="1655" y="161"/>
                </a:lnTo>
                <a:lnTo>
                  <a:pt x="1648" y="141"/>
                </a:lnTo>
                <a:lnTo>
                  <a:pt x="1629" y="101"/>
                </a:lnTo>
                <a:lnTo>
                  <a:pt x="1603" y="67"/>
                </a:lnTo>
                <a:lnTo>
                  <a:pt x="1573" y="38"/>
                </a:lnTo>
                <a:lnTo>
                  <a:pt x="1539" y="18"/>
                </a:lnTo>
                <a:lnTo>
                  <a:pt x="1519" y="10"/>
                </a:lnTo>
                <a:lnTo>
                  <a:pt x="1499" y="4"/>
                </a:lnTo>
                <a:lnTo>
                  <a:pt x="1479" y="2"/>
                </a:lnTo>
                <a:lnTo>
                  <a:pt x="1458" y="0"/>
                </a:lnTo>
                <a:lnTo>
                  <a:pt x="206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300400"/>
            <a:ext cx="235116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06360" y="2327400"/>
            <a:ext cx="20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2960" y="2776680"/>
            <a:ext cx="1064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01200" y="3235320"/>
            <a:ext cx="1282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u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2840" y="3657600"/>
            <a:ext cx="33199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893960"/>
            <a:ext cx="4419720" cy="2628720"/>
          </a:xfrm>
          <a:custGeom>
            <a:avLst/>
            <a:gdLst/>
            <a:ahLst/>
            <a:rect l="l" t="t" r="r" b="b"/>
            <a:pathLst>
              <a:path w="2496" h="1584">
                <a:moveTo>
                  <a:pt x="235" y="0"/>
                </a:moveTo>
                <a:lnTo>
                  <a:pt x="212" y="2"/>
                </a:lnTo>
                <a:lnTo>
                  <a:pt x="188" y="6"/>
                </a:lnTo>
                <a:lnTo>
                  <a:pt x="165" y="12"/>
                </a:lnTo>
                <a:lnTo>
                  <a:pt x="143" y="20"/>
                </a:lnTo>
                <a:lnTo>
                  <a:pt x="124" y="32"/>
                </a:lnTo>
                <a:lnTo>
                  <a:pt x="104" y="44"/>
                </a:lnTo>
                <a:lnTo>
                  <a:pt x="70" y="77"/>
                </a:lnTo>
                <a:lnTo>
                  <a:pt x="39" y="115"/>
                </a:lnTo>
                <a:lnTo>
                  <a:pt x="28" y="137"/>
                </a:lnTo>
                <a:lnTo>
                  <a:pt x="18" y="159"/>
                </a:lnTo>
                <a:lnTo>
                  <a:pt x="10" y="184"/>
                </a:lnTo>
                <a:lnTo>
                  <a:pt x="5" y="210"/>
                </a:lnTo>
                <a:lnTo>
                  <a:pt x="1" y="236"/>
                </a:lnTo>
                <a:lnTo>
                  <a:pt x="0" y="263"/>
                </a:lnTo>
                <a:lnTo>
                  <a:pt x="0" y="1319"/>
                </a:lnTo>
                <a:lnTo>
                  <a:pt x="1" y="1346"/>
                </a:lnTo>
                <a:lnTo>
                  <a:pt x="5" y="1372"/>
                </a:lnTo>
                <a:lnTo>
                  <a:pt x="10" y="1398"/>
                </a:lnTo>
                <a:lnTo>
                  <a:pt x="18" y="1422"/>
                </a:lnTo>
                <a:lnTo>
                  <a:pt x="28" y="1445"/>
                </a:lnTo>
                <a:lnTo>
                  <a:pt x="39" y="1467"/>
                </a:lnTo>
                <a:lnTo>
                  <a:pt x="70" y="1507"/>
                </a:lnTo>
                <a:lnTo>
                  <a:pt x="104" y="1540"/>
                </a:lnTo>
                <a:lnTo>
                  <a:pt x="124" y="1552"/>
                </a:lnTo>
                <a:lnTo>
                  <a:pt x="143" y="1564"/>
                </a:lnTo>
                <a:lnTo>
                  <a:pt x="165" y="1572"/>
                </a:lnTo>
                <a:lnTo>
                  <a:pt x="188" y="1578"/>
                </a:lnTo>
                <a:lnTo>
                  <a:pt x="212" y="1582"/>
                </a:lnTo>
                <a:lnTo>
                  <a:pt x="235" y="1584"/>
                </a:lnTo>
                <a:lnTo>
                  <a:pt x="2261" y="1584"/>
                </a:lnTo>
                <a:lnTo>
                  <a:pt x="2286" y="1582"/>
                </a:lnTo>
                <a:lnTo>
                  <a:pt x="2309" y="1578"/>
                </a:lnTo>
                <a:lnTo>
                  <a:pt x="2331" y="1572"/>
                </a:lnTo>
                <a:lnTo>
                  <a:pt x="2353" y="1564"/>
                </a:lnTo>
                <a:lnTo>
                  <a:pt x="2374" y="1552"/>
                </a:lnTo>
                <a:lnTo>
                  <a:pt x="2394" y="1540"/>
                </a:lnTo>
                <a:lnTo>
                  <a:pt x="2428" y="1507"/>
                </a:lnTo>
                <a:lnTo>
                  <a:pt x="2457" y="1467"/>
                </a:lnTo>
                <a:lnTo>
                  <a:pt x="2467" y="1445"/>
                </a:lnTo>
                <a:lnTo>
                  <a:pt x="2478" y="1422"/>
                </a:lnTo>
                <a:lnTo>
                  <a:pt x="2485" y="1398"/>
                </a:lnTo>
                <a:lnTo>
                  <a:pt x="2491" y="1372"/>
                </a:lnTo>
                <a:lnTo>
                  <a:pt x="2494" y="1346"/>
                </a:lnTo>
                <a:lnTo>
                  <a:pt x="2496" y="1319"/>
                </a:lnTo>
                <a:lnTo>
                  <a:pt x="2496" y="263"/>
                </a:lnTo>
                <a:lnTo>
                  <a:pt x="2494" y="236"/>
                </a:lnTo>
                <a:lnTo>
                  <a:pt x="2491" y="210"/>
                </a:lnTo>
                <a:lnTo>
                  <a:pt x="2485" y="184"/>
                </a:lnTo>
                <a:lnTo>
                  <a:pt x="2478" y="159"/>
                </a:lnTo>
                <a:lnTo>
                  <a:pt x="2467" y="137"/>
                </a:lnTo>
                <a:lnTo>
                  <a:pt x="2457" y="115"/>
                </a:lnTo>
                <a:lnTo>
                  <a:pt x="2428" y="77"/>
                </a:lnTo>
                <a:lnTo>
                  <a:pt x="2394" y="44"/>
                </a:lnTo>
                <a:lnTo>
                  <a:pt x="2374" y="32"/>
                </a:lnTo>
                <a:lnTo>
                  <a:pt x="2353" y="20"/>
                </a:lnTo>
                <a:lnTo>
                  <a:pt x="2331" y="12"/>
                </a:lnTo>
                <a:lnTo>
                  <a:pt x="2309" y="6"/>
                </a:lnTo>
                <a:lnTo>
                  <a:pt x="2286" y="2"/>
                </a:lnTo>
                <a:lnTo>
                  <a:pt x="2261" y="0"/>
                </a:lnTo>
                <a:lnTo>
                  <a:pt x="235" y="0"/>
                </a:lnTo>
                <a:close/>
              </a:path>
            </a:pathLst>
          </a:custGeom>
          <a:solidFill>
            <a:srgbClr val="f08f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19560" y="1982880"/>
            <a:ext cx="35560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9400" y="2048040"/>
            <a:ext cx="35074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URE TO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48440" y="2949480"/>
            <a:ext cx="13633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4200" y="3408480"/>
            <a:ext cx="189504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60280" y="3863880"/>
            <a:ext cx="414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oor/outdoor pol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65400" y="5742000"/>
            <a:ext cx="3436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48040" y="5789520"/>
            <a:ext cx="30229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PIROME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5400" y="438120"/>
            <a:ext cx="6806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04920"/>
            <a:ext cx="63248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Diagnosis of COP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949200" y="2709720"/>
            <a:ext cx="490320" cy="4157640"/>
          </a:xfrm>
          <a:custGeom>
            <a:avLst/>
            <a:gdLst>
              <a:gd name="textAreaLeft" fmla="*/ 0 w 490320"/>
              <a:gd name="textAreaRight" fmla="*/ 177120 w 490320"/>
              <a:gd name="textAreaTop" fmla="*/ 108360 h 4157640"/>
              <a:gd name="textAreaBottom" fmla="*/ 4049280 h 41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a5ff4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38898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3875400" y="490140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3877200" y="4892040"/>
            <a:ext cx="691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ff4b"/>
                </a:solidFill>
                <a:latin typeface="Monotype Sorts"/>
                <a:ea typeface="Monotype Sorts"/>
              </a:rPr>
              <a:t>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DIAGNOSTICO DIFERENCIAL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SM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CC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UEL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UBERCULOSI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RONQUIOLITIS OBLITERANT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NBRONQUIOLITIS DIFUS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HECHOS SUGERENTES DE ASMA EN FASE IRREVERSI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IENZO ANTES DE LOS 40 AÑ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SENCIA DE TABAQUISMO U OTRA EXPOSICION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RISIS PROVOCADAS POR ALERGENO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LTA VARIABLIDAD ESPIROMETR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VOLUCION INHABITUAL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 : Objetivo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etener la progres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cuperar parcialmente la fun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pacidad fís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os síntomas ( DISNE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revenir las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isminuir las hospitaliz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calidad de vida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jorar la sobrevi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Tratamiento: fase estable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edidas preventivas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tener tabaquism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acuna Antiinfluenza, antineumocócica cada 5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ratamiento broncodilatador </a:t>
            </a:r>
            <a:r>
              <a:rPr b="1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alonad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nticolinérgicos ó betaadrenérgic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Uso combinado de anticolinérgicos y betaagonist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ofilina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rticoides inhalado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Symbol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Rehabilitaci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66600"/>
            <a:ext cx="71578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Management of Stable CO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  <a:ea typeface="ＭＳ Ｐゴシック"/>
              </a:rPr>
              <a:t>Reduce Risk Factors:  Key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5680" y="1866960"/>
            <a:ext cx="86342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eduction of total personal exposure to tobacco smoke, occupational dusts and chemicals, and indoor and outdoor air pollutants are important goals to prevent the onset and progression of COPD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Smoking cessation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is the single most effective — and cost effective — intervention in most people to reduce the risk of developing COPD and stop its progression </a:t>
            </a:r>
            <a:r>
              <a:rPr b="0" lang="en-US" sz="3000" spc="-1" strike="noStrike">
                <a:solidFill>
                  <a:srgbClr val="fab300"/>
                </a:solidFill>
                <a:latin typeface="Tahoma"/>
                <a:ea typeface="ＭＳ Ｐゴシック"/>
              </a:rPr>
              <a:t>(Evidence A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901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72B-1394-46CC-97EB-C381EC86C8E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Principales causas de LCF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( COPD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sma en fase irreversibl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Bronquiectasi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ecuela de TBC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Fibrosis quí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coni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arcoi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792600" y="2286000"/>
            <a:ext cx="379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51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2680" y="79200"/>
            <a:ext cx="76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rief Strategies to Help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atient Willing to Quit Sm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00080"/>
            <a:ext cx="845820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ff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ff4b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atically identify al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bacco users at every vis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IS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ly urge all tobacc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to q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ASSES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illingness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quit atte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ASSIST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the patient in quit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R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 follow-up cont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0200" y="1560600"/>
            <a:ext cx="8372520" cy="0"/>
          </a:xfrm>
          <a:prstGeom prst="line">
            <a:avLst/>
          </a:prstGeom>
          <a:ln w="28440">
            <a:solidFill>
              <a:srgbClr val="f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42920" y="404640"/>
          <a:ext cx="7632720" cy="6215400"/>
        </p:xfrm>
        <a:graphic>
          <a:graphicData uri="http://schemas.openxmlformats.org/drawingml/2006/table">
            <a:tbl>
              <a:tblPr/>
              <a:tblGrid>
                <a:gridCol w="1165320"/>
                <a:gridCol w="241200"/>
                <a:gridCol w="1090800"/>
                <a:gridCol w="1506600"/>
                <a:gridCol w="1506240"/>
                <a:gridCol w="2122560"/>
              </a:tblGrid>
              <a:tr h="565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TRATAMIENTO DE LA EPOC SEGÚN ESTADI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 En ries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Le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Mode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Mu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ver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14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pirometría norm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íntomas crónicos: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s, expector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≥ 80% 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80% del valor predicho*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% ≤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5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 valor predicho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/CVF&lt; 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&lt; 30% del valor predicho, o VEF</a:t>
                      </a:r>
                      <a:r>
                        <a:rPr b="1" lang="en-US" sz="12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lt;50% con insuficiencia respiratoria crónica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  <a:tr h="3380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itar los factores de riesgo (tabaco). Vacuna Influenza anu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broncodilatadores de acción corta según necesid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uno o más broncodilatadores de acción prolongada en forma constante, y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corticoides inhalados si hay exacerbaciones a repeti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r oxigenoterapia si hay insuficiencia respiratori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iderar tratamientos quirúrgi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408000"/>
                      </a:solidFill>
                    </a:lnL>
                    <a:lnR w="9360">
                      <a:solidFill>
                        <a:srgbClr val="408000"/>
                      </a:solidFill>
                    </a:lnR>
                    <a:lnT w="9360">
                      <a:solidFill>
                        <a:srgbClr val="408000"/>
                      </a:solidFill>
                    </a:lnT>
                    <a:lnB w="9360">
                      <a:solidFill>
                        <a:srgbClr val="4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de la EPOC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vento en el desarrollo natural de la enfermedad caracterizado por un cambio de disnea, tos y/o expectoración basales del paciente mas allá de la variabilidad diaria, suficiente para justificar un cambio de tratamient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 EPOC, bases morfológic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inflamación en vía aérea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cúmulo de células inflamatorias y edema de las pared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ducción del lume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Tapones mucocelulares en bronquiolo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tiología de las exacerbaciones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xacerbaciones propiamente tal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virales y bacterianas (80%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ntaminación ambi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cumplimiento de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Defectos en técnica inhalatori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gravaciones por co-morbilidad agregad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Neumon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ánc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TEP, neumotórax, insuficiencia cardíac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xacerbaciones: enfoque práctic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element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Volumen de expectoració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uru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isne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6520" y="1828440"/>
            <a:ext cx="381168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ravedad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Grave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3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ana 2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Leve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1 síntom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EF&lt; 100l/min ó VEF1 &lt; 1 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GSA y SaO2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x Tx, ECG, etc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Manejo domiciliario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umento de tratamiento B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osi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Asociación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Corticoides sistémicos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Antibióticos ( neumococ, B.catarr, H, Influenzae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de hospitalización en exacerbaciones 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muy marcado de síntom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grav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ignos físicos nuevos ( edema, cianosis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a respuesta a tratamiento méd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Comorbilidad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rritmias nuev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dad avanzad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al soporte domiciliario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Corticoides sistémicos en EPOC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ffffff"/>
                </a:solidFill>
                <a:latin typeface="Times New Roman"/>
              </a:rPr>
              <a:t>Efectividad demostrada  en las exacerbaciones 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stadía hospital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Intervalo entre exacerbacione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EPOC estable: Se recomienda evitar su uso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4b15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d4b158"/>
                </a:solidFill>
                <a:latin typeface="Times New Roman"/>
              </a:rPr>
              <a:t>Evidencia grado A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Relación costo/beneficio desfavorabl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6-2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Bronquitis crónic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Tos y expectoración diar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3 meses por añ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2 años consecutivo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Histopatología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ipertrofia de las glándulas mucos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aumento de las células caliciform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0560" y="249228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!No signif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strucción bronquial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1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7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1476360" y="304920"/>
            <a:ext cx="65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MNV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♀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2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,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395280" y="3357720"/>
          <a:ext cx="8383680" cy="2644560"/>
        </p:xfrm>
        <a:graphic>
          <a:graphicData uri="http://schemas.openxmlformats.org/drawingml/2006/table">
            <a:tbl>
              <a:tblPr/>
              <a:tblGrid>
                <a:gridCol w="1576440"/>
                <a:gridCol w="958680"/>
                <a:gridCol w="1508400"/>
                <a:gridCol w="933480"/>
                <a:gridCol w="1968480"/>
                <a:gridCol w="143820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ONCODILATADO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93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cambi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r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centa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0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4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5 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CVF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990720" y="304920"/>
            <a:ext cx="70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Valores predeterminados</a:t>
            </a:r>
            <a:r>
              <a:rPr b="0" lang="es-MX" sz="2400" spc="-1" strike="noStrike">
                <a:solidFill>
                  <a:srgbClr val="fab300"/>
                </a:solidFill>
                <a:latin typeface="Arial"/>
              </a:rPr>
              <a:t>  OSS, </a:t>
            </a:r>
            <a:r>
              <a:rPr b="1" lang="es-MX" sz="2400" spc="-1" strike="noStrike">
                <a:solidFill>
                  <a:srgbClr val="ffd467"/>
                </a:solidFill>
                <a:latin typeface="Arial"/>
              </a:rPr>
              <a:t>( </a:t>
            </a:r>
            <a:r>
              <a:rPr b="0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hombre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, </a:t>
            </a:r>
            <a:r>
              <a:rPr b="0" lang="es-MX" sz="18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50 años</a:t>
            </a:r>
            <a:r>
              <a:rPr b="1" lang="es-MX" sz="2400" spc="-1" strike="noStrike">
                <a:solidFill>
                  <a:srgbClr val="ffd46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03280" y="981000"/>
          <a:ext cx="6313680" cy="1460520"/>
        </p:xfrm>
        <a:graphic>
          <a:graphicData uri="http://schemas.openxmlformats.org/drawingml/2006/table">
            <a:tbl>
              <a:tblPr/>
              <a:tblGrid>
                <a:gridCol w="1646280"/>
                <a:gridCol w="2511360"/>
                <a:gridCol w="215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ÍNDI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determinado(L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centil 5 (L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VF 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F</a:t>
                      </a:r>
                      <a:r>
                        <a:rPr b="0" lang="es-MX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/CVF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ab300"/>
                      </a:solidFill>
                    </a:lnL>
                    <a:lnR w="13680">
                      <a:solidFill>
                        <a:srgbClr val="fab300"/>
                      </a:solidFill>
                    </a:lnR>
                    <a:lnT w="13680">
                      <a:solidFill>
                        <a:srgbClr val="fab300"/>
                      </a:solidFill>
                    </a:lnT>
                    <a:lnB w="13680">
                      <a:solidFill>
                        <a:srgbClr val="fa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133720" y="281952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2852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ab300"/>
                </a:solidFill>
                <a:latin typeface="Arial"/>
              </a:rPr>
              <a:t>Espirometría 29-3-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52480" y="122400"/>
            <a:ext cx="532296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438280" y="1143000"/>
            <a:ext cx="2616480" cy="459720"/>
          </a:xfrm>
          <a:prstGeom prst="rect">
            <a:avLst/>
          </a:prstGeom>
          <a:solidFill>
            <a:srgbClr val="fab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hronic hypox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209680"/>
            <a:ext cx="4572000" cy="45972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vaso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1676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00720" y="2708280"/>
            <a:ext cx="2538360" cy="2214000"/>
          </a:xfrm>
          <a:prstGeom prst="rect">
            <a:avLst/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Muscular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Intim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hy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Fib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Oblit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27082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649840" y="30891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9840" y="354636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9840" y="3546360"/>
            <a:ext cx="60984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8240" y="3622680"/>
            <a:ext cx="54144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3394080"/>
            <a:ext cx="3849840" cy="45972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Pulmonary hyper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4495680"/>
            <a:ext cx="24577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56386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9625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50292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6520" y="5172120"/>
            <a:ext cx="1179000" cy="459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e1192"/>
                </a:solidFill>
                <a:latin typeface="Arial"/>
              </a:rPr>
              <a:t>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29120" y="4800600"/>
            <a:ext cx="4064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6720" y="210960"/>
            <a:ext cx="5554800" cy="9471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lmonary Hypertension in COP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6516720"/>
            <a:ext cx="3181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e1192"/>
                </a:solidFill>
                <a:latin typeface="Tahoma"/>
              </a:rPr>
              <a:t>Source</a:t>
            </a:r>
            <a:r>
              <a:rPr b="1" lang="en-US" sz="1400" spc="-1" strike="noStrike">
                <a:solidFill>
                  <a:srgbClr val="4e1192"/>
                </a:solidFill>
                <a:latin typeface="Tahoma"/>
              </a:rPr>
              <a:t>:  Peter J. Barnes, M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Indicación de oxigenoterapia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GSA : VEF1 &lt; 40%  </a:t>
            </a:r>
            <a:r>
              <a:rPr b="1" i="1" lang="es-CL" sz="3200" spc="-1" strike="noStrike">
                <a:solidFill>
                  <a:srgbClr val="ff0000"/>
                </a:solidFill>
                <a:latin typeface="Times New Roman"/>
              </a:rPr>
              <a:t>( ahora &lt; 50%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Oxigenoterapia: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en fase estable, al menos con 1mes de tratamiento y  PaO2 &lt; 55 mmHg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Pacientes con PaO2 entre 55 y 59 mmHg con signos de disfunción orgánica por hipox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ipertensión pulmon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r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to &gt; 55%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3080" y="6019920"/>
            <a:ext cx="73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spués de un mes de tratamiento farmacológico  ópt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ADMINISTRACIÓN DE OXÍGENO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05740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ánula bina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lujo necesario para Sa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ínimo 15 horas diari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trol mensual de saturación arterial de oxíge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38512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BENEFICIOS DE LA OXIGENOTERAPIA A LARGO PLAZO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921800" cy="424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umenta tolerancia al ejercici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 hospitalizacion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Mejora  estado ment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policitemia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isminuye arritmias durante el sueñ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Reduce o revierte la hipertensión pulmonar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Duda diagnóstic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Mala respuesta a tratamient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EPOC severo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corazón pulmona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ara confirmar diagnóstico y optimizar tratamient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ospecha de necesidad de oxigenoterapi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Medición de GSA, decisión de indicación y dos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d467"/>
                </a:solidFill>
                <a:latin typeface="Arial"/>
              </a:rPr>
              <a:t>Indicaciones para referir a especialista</a:t>
            </a:r>
            <a:endParaRPr b="0" lang="en-US" sz="40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nfisema bulos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evaluar posibles candidatos para cirug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POC en &lt; de 50 añ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identificar déficit de </a:t>
            </a:r>
            <a:r>
              <a:rPr b="1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 1 antitripsin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Síntomas desproporcionado a resultado de función pulmonar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buscar otras explicaciones 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nfecciones o exacerbaciones frecuentes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ara descartar bronquiectasias y decidir otras terapia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1440" y="609120"/>
            <a:ext cx="7439040" cy="4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00"/>
                </a:solidFill>
                <a:latin typeface="Times New Roman"/>
                <a:ea typeface="华文仿宋"/>
              </a:rPr>
              <a:t>Desafíos y perspectiva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076960" cy="5111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minuir la prevalenci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Combatir el tabaquis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el pronóstic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Diagnóstico precoz: espirometrí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Mejorar la calidad de 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broncodilatador óptimo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Tratamiento precoz de exacerbaciones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Rehabilitación pulmonar.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Prolongar la sobrevida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Oxigenoterapia en etapa avanzada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Definición de 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EPOC es una enfermedad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</a:rPr>
              <a:t>prevenible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 y tratable con consecuencias extrapulmonares que contribuyen a su gravedad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Se caracteriza por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que no es reversible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La limitaci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 del flujo aéreo es usualmente progresiva y se asocia a una respuesta inflamatoria anormal del pulmón a la inhalación de gases, principalmente </a:t>
            </a:r>
            <a:r>
              <a:rPr b="1" i="1" lang="es-CL" sz="2800" spc="-1" strike="noStrike">
                <a:solidFill>
                  <a:srgbClr val="fab300"/>
                </a:solidFill>
                <a:latin typeface="Times New Roman"/>
                <a:ea typeface="ＭＳ Ｐゴシック"/>
              </a:rPr>
              <a:t>humo del tabaco</a:t>
            </a:r>
            <a:r>
              <a:rPr b="1" i="1" lang="es-CL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207200" y="627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81800" y="667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43160" y="166680"/>
            <a:ext cx="4660920" cy="65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249640" y="179280"/>
            <a:ext cx="464796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62240" y="223920"/>
            <a:ext cx="462276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265560" y="2598840"/>
          <a:ext cx="228924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5560" y="2598840"/>
                    <a:ext cx="228924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92200" y="361800"/>
            <a:ext cx="8128080" cy="201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Arial"/>
              </a:rPr>
              <a:t>WORLD COPD DA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November 14, 200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759280"/>
            <a:ext cx="822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aising COPD Awareness Worldw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d467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81312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Enfermedad con LCF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Usualmente progresiva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Causa principal : Tabaco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imes New Roman"/>
              </a:rPr>
              <a:t>( humo de leña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75040" y="1857240"/>
            <a:ext cx="3603960" cy="35910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185240" cy="12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ESPIROMETRIA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1341360"/>
          <a:ext cx="914400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3840" cy="14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d4b158"/>
                </a:solidFill>
                <a:latin typeface="Arial"/>
              </a:rPr>
              <a:t>    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Clasificación de gravedad</a:t>
            </a:r>
            <a:br>
              <a:rPr sz="3200"/>
            </a:b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</a:rPr>
              <a:t>de la EPOC según </a:t>
            </a:r>
            <a:r>
              <a:rPr b="1" i="1" lang="es-ES_tradnl" sz="32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espirometría </a:t>
            </a:r>
            <a:br>
              <a:rPr sz="3200"/>
            </a:br>
            <a:r>
              <a:rPr b="1" i="1" lang="es-ES_tradnl" sz="1400" spc="-1" strike="noStrike">
                <a:solidFill>
                  <a:srgbClr val="ffff00"/>
                </a:solidFill>
                <a:latin typeface="Times New Roman"/>
              </a:rPr>
              <a:t>Clasificación de GOLD</a:t>
            </a:r>
            <a:endParaRPr b="0" lang="en-US" sz="1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828800"/>
            <a:ext cx="815364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0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Tos crónica. Función pulmonar normal ( en riesgo ) 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</a:rPr>
              <a:t>( esta etapa se retir</a:t>
            </a:r>
            <a:r>
              <a:rPr b="1" i="1" lang="es-ES_tradnl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ó actualmente)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leve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/CVF &lt; 70%. VEF&g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oderado. Disnea de esfuerzo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50% &lt; VEF1 &lt; 8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II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grave. Progresión de disnea. Exacerbaciones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0% &lt; VEF1 &lt; 50%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c88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c88f00"/>
                </a:solidFill>
                <a:latin typeface="Times New Roman"/>
              </a:rPr>
              <a:t>Estadio IV: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 EPOC muy grave.I Respiratoria Cronica. Afecta calidad de vida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EF1 &lt; 30%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05:15:16Z</dcterms:created>
  <dc:creator>Jaime Escobar D</dc:creator>
  <dc:description/>
  <dc:language>en-US</dc:language>
  <cp:lastModifiedBy>Laura Mendoza</cp:lastModifiedBy>
  <dcterms:modified xsi:type="dcterms:W3CDTF">2007-08-05T01:12:33Z</dcterms:modified>
  <cp:revision>68</cp:revision>
  <dc:subject/>
  <dc:title>EPOC </dc:title>
</cp:coreProperties>
</file>