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3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3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ct" ContentType="image/x-pict"/>
  <Override PartName="/ppt/media/image4.jpeg" ContentType="image/jpeg"/>
  <Override PartName="/ppt/media/image11.pct" ContentType="image/x-pict"/>
  <Override PartName="/ppt/media/image9.jpeg" ContentType="image/jpeg"/>
  <Override PartName="/ppt/media/image12.pct" ContentType="image/x-pict"/>
  <Override PartName="/ppt/media/image7.pct" ContentType="image/x-pict"/>
  <Override PartName="/ppt/media/image10.pct" ContentType="image/x-pict"/>
  <Override PartName="/ppt/media/image6.jpeg" ContentType="image/jpeg"/>
  <Override PartName="/ppt/media/image8.gif" ContentType="image/gif"/>
  <Override PartName="/ppt/media/image24.pct" ContentType="image/x-pict"/>
  <Override PartName="/ppt/media/image3.png" ContentType="image/png"/>
  <Override PartName="/ppt/media/image17.jpeg" ContentType="image/jpeg"/>
  <Override PartName="/ppt/media/image26.png" ContentType="image/png"/>
  <Override PartName="/ppt/media/image23.pct" ContentType="image/x-pict"/>
  <Override PartName="/ppt/media/image21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16.png" ContentType="image/png"/>
  <Override PartName="/ppt/media/image2.pct" ContentType="image/x-pict"/>
  <Override PartName="/ppt/media/image25.pct" ContentType="image/x-pict"/>
  <Override PartName="/ppt/media/image15.png" ContentType="image/png"/>
  <Override PartName="/ppt/media/image14.jpeg" ContentType="image/jpeg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D69A-24CA-473A-B56F-7A7977F03A5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diagnosis of COPD should be considered in any patient who has cough, sputum production, or dyspnea and/or a history of exposure to risk factors.  The diagnosis is confirmed by spirometr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help identify individuals earlier in the course of disease, spirometry should be performed for patients who have chronic cough and sputum production even if they do not have dyspne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irometry is the best way to diagnose COPD and to monitor its progression and health care workers to care for COPD patients should have assess to spirometr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11320" y="654120"/>
            <a:ext cx="4651200" cy="3487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22320" y="4358880"/>
            <a:ext cx="5030640" cy="40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tion of total personal exposure to tobacco smoke, occupational dusts and chemicals, and indoor and outdoor air pollutants are important goals to prevent the onset and progression of COP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 cessation is the single most effective - and cost effective - intervention to reduce the risk of developing COPD and stop its prog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a5ff4b"/>
              </a:buClr>
              <a:buFont typeface="Agfa Rotis Semisan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 tobacco dependence treatment is effective, and every tobacco user should be offered at least this treatment at every visit to a health care provi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a5ff4b"/>
              </a:buClr>
              <a:buFont typeface="Agfa Rotis Semisan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types of counseling are especially effective: practical counseling, social support as part of treatment, and social support arranged outside of trea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81E-01FA-4902-8965-796C8E99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32B-81AB-4788-AD46-B784A0EB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FB90-4F69-4419-B655-5344217F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09F5-7046-4EAC-9E96-073F1EC7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0E6F-07B2-4480-98BF-4818599C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7608-75C5-4016-9BF5-5591A46E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DBAA-A688-4168-9930-521F0336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D2C5-672D-4FF1-88FC-8E647BF8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C10C-6156-4F32-86D2-36F8B6B5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F7B1-3470-4B75-8048-52BDE282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D1FA-FDE0-45B2-9951-6C9A65D3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491E-B520-48AD-A517-2AF1871C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E451-6933-4C31-A3F6-04EEEC5E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BB35-AC77-4069-BADF-1C19C2D3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9A55-1252-4FA7-AE5F-74B46F55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CD95-542E-4BB4-959B-06D2B2B5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8751-9BBE-42D6-B469-FC878A7A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3C2-6B3A-4CB2-9558-C5FC182C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84BF-7CC9-49D2-943B-A564B857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2D5-01B9-42AF-B428-10AF1B1A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82D4-94E5-410D-96CC-08B6E177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4D7-7C82-4F2A-A850-3720FBA3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95A-D79C-4868-8977-3395FDBD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01BE-0F80-434E-9FCD-70C08593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2DD6-A4A2-478D-91E4-614142E14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D9A2-D8BB-4378-9661-853D4160A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d467"/>
                </a:solidFill>
                <a:latin typeface="Arial"/>
              </a:rPr>
              <a:t>EPOC AMBULATORIO</a:t>
            </a: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38280" y="47239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Dra. Laura Mendoza I.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Sección respiratori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Hospital Clínico Universidad de Chile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6400800"/>
            <a:ext cx="38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453360"/>
            <a:ext cx="31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17160" y="312840"/>
            <a:ext cx="53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At Risk” for COP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6160" y="1735200"/>
            <a:ext cx="8834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ffcc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PD includes four stages of severity classified by spirometr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buClr>
                <a:srgbClr val="ffcc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ifth category--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tage 0: At Ris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that appeared in the 2001 report is no longer included as a stage of COPD, as there is incomplete evidence that the individuals who meet the definition of “At Risk” (chronic cough and sputum production, normal spirometry) necessarily progress on to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tage I: Mild COP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buClr>
                <a:srgbClr val="ffcc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ublic health message is that chronic cough and sputum are not normal remains important  - their presence should trigger a search for underlying cause(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067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7080" y="90360"/>
            <a:ext cx="718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lassification of COPD Seve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by Spiromet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2680" y="1735200"/>
            <a:ext cx="830556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age I:   Mild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FVC &lt; 0.7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80% predic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age II:  Moderate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FVC &lt; 0.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%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&lt; 80% predi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age III: Severe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FVC &lt; 0.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0%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&lt; 50% predi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age IV: Very Severe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FVC &lt; 0.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&lt; 30% predicted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&lt; 50% predicted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l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ic respiratory fail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067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PIDEMIOLOGIA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ALTA PREVALENCIA MUNDIA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2° LUGAR COMO CAUSA DE INVALIDEZ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4° CAUSA DE MUERTE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Prevalencia de la EPOC n latinoam</a:t>
            </a:r>
            <a:r>
              <a:rPr b="0" lang="en-US" sz="4400" spc="-1" strike="noStrike">
                <a:solidFill>
                  <a:srgbClr val="ffd467"/>
                </a:solidFill>
                <a:latin typeface="Arial"/>
                <a:ea typeface="ＭＳ Ｐゴシック"/>
              </a:rPr>
              <a:t>érica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304812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a frecuencia de relaci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VEF1/CVF post broncodilatador &lt; 0.70 aumenta progresivamente con la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edad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en 5 ciudades latinoamericanas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5029200" cy="3929040"/>
          </a:xfrm>
          <a:prstGeom prst="rect">
            <a:avLst/>
          </a:prstGeom>
          <a:ln w="28440">
            <a:solidFill>
              <a:srgbClr val="cc0000"/>
            </a:solidFill>
            <a:miter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23" name=""/>
          <p:cNvSpPr/>
          <p:nvPr/>
        </p:nvSpPr>
        <p:spPr>
          <a:xfrm>
            <a:off x="806760" y="6248520"/>
            <a:ext cx="32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d467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d467"/>
                </a:solidFill>
                <a:latin typeface="Tahoma"/>
              </a:rPr>
              <a:t>Menezes AM et al.  </a:t>
            </a:r>
            <a:r>
              <a:rPr b="0" i="1" lang="en-US" sz="1600" spc="-1" strike="noStrike">
                <a:solidFill>
                  <a:srgbClr val="ffd467"/>
                </a:solidFill>
                <a:latin typeface="Tahoma"/>
              </a:rPr>
              <a:t>Lancet </a:t>
            </a:r>
            <a:r>
              <a:rPr b="0" lang="en-US" sz="1600" spc="-1" strike="noStrike">
                <a:solidFill>
                  <a:srgbClr val="ffd467"/>
                </a:solidFill>
                <a:latin typeface="Tahoma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4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24040" y="2343240"/>
            <a:ext cx="7894440" cy="3806640"/>
          </a:xfrm>
          <a:prstGeom prst="rect">
            <a:avLst/>
          </a:prstGeom>
          <a:gradFill rotWithShape="0">
            <a:gsLst>
              <a:gs pos="0">
                <a:srgbClr val="0097a8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52320" y="247320"/>
            <a:ext cx="706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1192"/>
                </a:solidFill>
                <a:latin typeface="Tahoma"/>
              </a:rPr>
              <a:t>Percent Change in Age-Adjusted Death Rates, U.S., 1965-1998</a:t>
            </a:r>
            <a:endParaRPr b="0" lang="en-US" sz="36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960" y="5991120"/>
            <a:ext cx="1270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5520" y="538812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520" y="473400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5520" y="410544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5520" y="347652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2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5520" y="284796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520" y="221940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6040" y="1873080"/>
            <a:ext cx="274788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ortion of 1965 R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01640" y="2282760"/>
          <a:ext cx="811044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2282760"/>
                    <a:ext cx="811044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843840" y="6232680"/>
            <a:ext cx="1360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1192"/>
                </a:solidFill>
                <a:latin typeface="Arial"/>
              </a:rPr>
              <a:t>1965 -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0000" y="6232680"/>
            <a:ext cx="1360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1192"/>
                </a:solidFill>
                <a:latin typeface="Arial"/>
              </a:rPr>
              <a:t>1965 -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04640" y="6232680"/>
            <a:ext cx="1360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1192"/>
                </a:solidFill>
                <a:latin typeface="Arial"/>
              </a:rPr>
              <a:t>1965 -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79640" y="6232680"/>
            <a:ext cx="1360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1192"/>
                </a:solidFill>
                <a:latin typeface="Arial"/>
              </a:rPr>
              <a:t>1965 -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55720" y="6232680"/>
            <a:ext cx="1360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1192"/>
                </a:solidFill>
                <a:latin typeface="Arial"/>
              </a:rPr>
              <a:t>1965 -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6520" y="5792760"/>
            <a:ext cx="6516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5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83240" y="5792760"/>
            <a:ext cx="6516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6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50320" y="5792760"/>
            <a:ext cx="6516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5760" y="5792760"/>
            <a:ext cx="8010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+16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54320" y="579276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78920" y="2496960"/>
            <a:ext cx="1132920" cy="8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Coron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He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15200" y="2496960"/>
            <a:ext cx="793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Stro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34960" y="2496960"/>
            <a:ext cx="12884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Other CV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73480" y="2496960"/>
            <a:ext cx="73692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COP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76040" y="2496960"/>
            <a:ext cx="107532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All 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Cau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76960" y="6546960"/>
            <a:ext cx="37670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ourc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 NHLBI/NIH/DH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067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4875480" cy="6172200"/>
          </a:xfrm>
          <a:prstGeom prst="rect">
            <a:avLst/>
          </a:prstGeom>
          <a:ln w="38160">
            <a:solidFill>
              <a:srgbClr val="ff0000"/>
            </a:solidFill>
            <a:miter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54" name=""/>
          <p:cNvSpPr/>
          <p:nvPr/>
        </p:nvSpPr>
        <p:spPr>
          <a:xfrm>
            <a:off x="552600" y="5970600"/>
            <a:ext cx="22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emal A. et al. 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JAMA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981080"/>
            <a:ext cx="30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6 principales caus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 muerte en EEU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sde 197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asta el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962520"/>
            <a:ext cx="1447920" cy="60948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54200" y="210960"/>
            <a:ext cx="672768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467"/>
                </a:solidFill>
                <a:latin typeface="Tahoma"/>
                <a:ea typeface="ＭＳ Ｐゴシック"/>
              </a:rPr>
              <a:t>COPD Mortality by Gender,</a:t>
            </a:r>
            <a:br>
              <a:rPr sz="4000"/>
            </a:br>
            <a:r>
              <a:rPr b="0" lang="en-US" sz="3200" spc="-1" strike="noStrike">
                <a:solidFill>
                  <a:srgbClr val="ffd467"/>
                </a:solidFill>
                <a:latin typeface="Tahoma"/>
                <a:ea typeface="ＭＳ Ｐゴシック"/>
              </a:rPr>
              <a:t>U.S., 1980-2000</a:t>
            </a:r>
            <a:endParaRPr b="0" lang="en-US" sz="3200" spc="-1" strike="noStrike">
              <a:solidFill>
                <a:srgbClr val="ffd467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2001960"/>
          <a:ext cx="8318520" cy="43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01960"/>
                    <a:ext cx="8318520" cy="4378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55" dir="27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 rot="16200000">
            <a:off x="-1374480" y="3510000"/>
            <a:ext cx="4038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ＭＳ Ｐゴシック"/>
              </a:rPr>
              <a:t>Number Deaths x 1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747800" y="2838240"/>
            <a:ext cx="4770360" cy="11286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098800" y="2803320"/>
            <a:ext cx="4789440" cy="22510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3886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13716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447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6437160"/>
            <a:ext cx="5845320" cy="580680"/>
          </a:xfrm>
          <a:prstGeom prst="rect">
            <a:avLst/>
          </a:prstGeom>
          <a:solidFill>
            <a:srgbClr val="4e1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Source: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S Centers for Disease Control and Prevention, 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CAUSAS DE EPOC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TABAQUISMO : MAS DEL 90%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Inhalación humo de leñ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Factores genéticos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éficit de alfa 1 antitripsina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Otros Factore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Socioeconómicos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Otras exposiciones: cadmio, sílice ?? 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Ambiente, infecciones, etc ??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Principal factor de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riesgo (90%).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15 % de los fumadore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desarrolla EPOC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(factores genéticos, ambientales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2737080" cy="2560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Tabaquismo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 u="sng">
                <a:solidFill>
                  <a:srgbClr val="ffff00"/>
                </a:solidFill>
                <a:uFillTx/>
                <a:latin typeface="Times New Roman"/>
              </a:rPr>
              <a:t>Déficit alfa 1-antitripsina: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1% de los casos de EPOC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 u="sng">
                <a:solidFill>
                  <a:srgbClr val="ffff00"/>
                </a:solidFill>
                <a:uFillTx/>
                <a:latin typeface="Times New Roman"/>
              </a:rPr>
              <a:t>Contaminación ambiental: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Provoca o agrava síntomas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Rol etiológico no demostrad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Exposición a humo de leña intradomiciliario: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demostrado , medio rural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CAUSAS DE EPOC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Objetivos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efinici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y clasificación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Impacto de la EPOC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Factores de riesgo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tiopatogenia de la EPOC y Fisiopatología de la EPOC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Síntomas y signos de la EPOC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Tratamient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Consideraciones pr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ácticas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848720" cy="4859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905120" y="30492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  <a:ea typeface="ＭＳ Ｐゴシック"/>
              </a:rPr>
              <a:t>Risk Factors for COP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2057400"/>
            <a:ext cx="190512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a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2895480"/>
            <a:ext cx="190512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a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Inf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657600"/>
            <a:ext cx="2666880" cy="825480"/>
          </a:xfrm>
          <a:prstGeom prst="rect">
            <a:avLst/>
          </a:prstGeom>
          <a:solidFill>
            <a:srgbClr val="ffffcc"/>
          </a:solidFill>
          <a:ln w="38160">
            <a:solidFill>
              <a:srgbClr val="fa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ocio-economic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5748480"/>
            <a:ext cx="5715000" cy="825120"/>
          </a:xfrm>
          <a:prstGeom prst="rect">
            <a:avLst/>
          </a:prstGeom>
          <a:solidFill>
            <a:srgbClr val="ffffcc"/>
          </a:solidFill>
          <a:ln w="57240">
            <a:solidFill>
              <a:srgbClr val="fa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ging Popul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232-7C00-4605-959C-32F096D4F941}" type="slidenum">
              <a:t>20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445600" cy="533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959520" cy="514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543800" y="4572000"/>
            <a:ext cx="60948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67480" y="1447920"/>
            <a:ext cx="76212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43800" y="1905120"/>
            <a:ext cx="60948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13200" y="6448320"/>
            <a:ext cx="38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STUDIO PLATINO CHILE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445600" cy="533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22680" y="6461280"/>
            <a:ext cx="38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STUDIO PLATINO CHILE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36600" y="1568520"/>
            <a:ext cx="8470800" cy="3720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848720" y="3962520"/>
            <a:ext cx="60948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445600" cy="533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522680" y="6461280"/>
            <a:ext cx="38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STUDIO PLATINO CHILE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7721640" cy="3429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15328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2400" y="3962520"/>
            <a:ext cx="60948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Indice de tabaquismo : </a:t>
            </a:r>
            <a:br>
              <a:rPr sz="4000"/>
            </a:b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Paquetes-año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000" y="1052640"/>
            <a:ext cx="8785080" cy="4674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N° de cigarrillos al día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 x años de fumador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20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POC = &gt; 20 paquetes -año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( MUJERES: &gt; 15 paquete –año)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5327640" cy="3210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4175280"/>
            <a:ext cx="388620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Histopatolog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esión destructiva de alvéolos: enfis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Inflamación crónica de la vía aérea pequeña                                                                       ( bronquiol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d4b15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TIOPATOGENIA DE LA EPOC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144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89280" y="307800"/>
            <a:ext cx="610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6320" y="81000"/>
            <a:ext cx="113976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792600" y="2286000"/>
            <a:ext cx="379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7512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85840" y="98280"/>
            <a:ext cx="668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pirometry:  Normal and Patients with COP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117440" y="1501920"/>
            <a:ext cx="6697800" cy="53305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Síntomas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n etapas precoces y medias : </a:t>
            </a:r>
            <a:r>
              <a:rPr b="1" i="1" lang="es-ES" sz="3200" spc="-1" strike="noStrike">
                <a:solidFill>
                  <a:srgbClr val="c88f00"/>
                </a:solidFill>
                <a:latin typeface="Times New Roman"/>
              </a:rPr>
              <a:t>ASINTOMÁTIC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88f00"/>
                </a:solidFill>
                <a:latin typeface="Times New Roman"/>
              </a:rPr>
              <a:t>TOS Y EXPECTORACION CRONICA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n etapa mas avanzad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Disnea progresiva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grandes esfuerzos </a:t>
            </a:r>
            <a:r>
              <a:rPr b="1" i="1" lang="es-E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medianos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esfuerzos </a:t>
            </a:r>
            <a:r>
              <a:rPr b="1" i="1" lang="es-E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mínimos esfuerz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Disminución de la tolerancia al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ejercici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Deterioro de la calidad de vida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LCFA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809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Concepto fisiopatológic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Obstrucción irreversible del flujo aére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Espirometría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VEF1/CVF bajo LI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VEF1 bajo LI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No se normaliza con el tratamient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Examen físico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Generalmente norma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n etapas avanzadas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Aumento de volumen torácico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Baja de peso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Signos de aumento del esfuerzo inspiratori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Uso de musculatura accesoria inspiratori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Espiración activa,uso de musculatura abdominal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Respiración alternante y paradojal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Fijación  de la cintura escapular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619280" y="333360"/>
          <a:ext cx="508932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33360"/>
                    <a:ext cx="508932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050920" y="304920"/>
            <a:ext cx="4876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05240" y="5645160"/>
            <a:ext cx="3520800" cy="836640"/>
          </a:xfrm>
          <a:custGeom>
            <a:avLst/>
            <a:gdLst/>
            <a:ahLst/>
            <a:rect l="l" t="t" r="r" b="b"/>
            <a:pathLst>
              <a:path w="2496" h="527">
                <a:moveTo>
                  <a:pt x="79" y="0"/>
                </a:moveTo>
                <a:lnTo>
                  <a:pt x="62" y="2"/>
                </a:lnTo>
                <a:lnTo>
                  <a:pt x="48" y="8"/>
                </a:lnTo>
                <a:lnTo>
                  <a:pt x="35" y="16"/>
                </a:lnTo>
                <a:lnTo>
                  <a:pt x="23" y="26"/>
                </a:lnTo>
                <a:lnTo>
                  <a:pt x="14" y="40"/>
                </a:lnTo>
                <a:lnTo>
                  <a:pt x="7" y="54"/>
                </a:lnTo>
                <a:lnTo>
                  <a:pt x="1" y="70"/>
                </a:lnTo>
                <a:lnTo>
                  <a:pt x="0" y="89"/>
                </a:lnTo>
                <a:lnTo>
                  <a:pt x="0" y="440"/>
                </a:lnTo>
                <a:lnTo>
                  <a:pt x="1" y="458"/>
                </a:lnTo>
                <a:lnTo>
                  <a:pt x="7" y="475"/>
                </a:lnTo>
                <a:lnTo>
                  <a:pt x="14" y="489"/>
                </a:lnTo>
                <a:lnTo>
                  <a:pt x="23" y="503"/>
                </a:lnTo>
                <a:lnTo>
                  <a:pt x="35" y="513"/>
                </a:lnTo>
                <a:lnTo>
                  <a:pt x="48" y="521"/>
                </a:lnTo>
                <a:lnTo>
                  <a:pt x="62" y="525"/>
                </a:lnTo>
                <a:lnTo>
                  <a:pt x="79" y="527"/>
                </a:lnTo>
                <a:lnTo>
                  <a:pt x="2419" y="527"/>
                </a:lnTo>
                <a:lnTo>
                  <a:pt x="2435" y="525"/>
                </a:lnTo>
                <a:lnTo>
                  <a:pt x="2449" y="521"/>
                </a:lnTo>
                <a:lnTo>
                  <a:pt x="2462" y="513"/>
                </a:lnTo>
                <a:lnTo>
                  <a:pt x="2475" y="503"/>
                </a:lnTo>
                <a:lnTo>
                  <a:pt x="2484" y="489"/>
                </a:lnTo>
                <a:lnTo>
                  <a:pt x="2491" y="475"/>
                </a:lnTo>
                <a:lnTo>
                  <a:pt x="2494" y="458"/>
                </a:lnTo>
                <a:lnTo>
                  <a:pt x="2496" y="440"/>
                </a:lnTo>
                <a:lnTo>
                  <a:pt x="2496" y="89"/>
                </a:lnTo>
                <a:lnTo>
                  <a:pt x="2494" y="70"/>
                </a:lnTo>
                <a:lnTo>
                  <a:pt x="2491" y="54"/>
                </a:lnTo>
                <a:lnTo>
                  <a:pt x="2484" y="40"/>
                </a:lnTo>
                <a:lnTo>
                  <a:pt x="2475" y="26"/>
                </a:lnTo>
                <a:lnTo>
                  <a:pt x="2462" y="16"/>
                </a:lnTo>
                <a:lnTo>
                  <a:pt x="2449" y="8"/>
                </a:lnTo>
                <a:lnTo>
                  <a:pt x="2435" y="2"/>
                </a:lnTo>
                <a:lnTo>
                  <a:pt x="2419" y="0"/>
                </a:lnTo>
                <a:lnTo>
                  <a:pt x="79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130480"/>
            <a:ext cx="3638520" cy="2206440"/>
          </a:xfrm>
          <a:custGeom>
            <a:avLst/>
            <a:gdLst/>
            <a:ahLst/>
            <a:rect l="l" t="t" r="r" b="b"/>
            <a:pathLst>
              <a:path w="1664" h="1390">
                <a:moveTo>
                  <a:pt x="206" y="0"/>
                </a:moveTo>
                <a:lnTo>
                  <a:pt x="185" y="2"/>
                </a:lnTo>
                <a:lnTo>
                  <a:pt x="165" y="4"/>
                </a:lnTo>
                <a:lnTo>
                  <a:pt x="145" y="10"/>
                </a:lnTo>
                <a:lnTo>
                  <a:pt x="125" y="18"/>
                </a:lnTo>
                <a:lnTo>
                  <a:pt x="91" y="38"/>
                </a:lnTo>
                <a:lnTo>
                  <a:pt x="61" y="67"/>
                </a:lnTo>
                <a:lnTo>
                  <a:pt x="35" y="101"/>
                </a:lnTo>
                <a:lnTo>
                  <a:pt x="16" y="141"/>
                </a:lnTo>
                <a:lnTo>
                  <a:pt x="8" y="161"/>
                </a:lnTo>
                <a:lnTo>
                  <a:pt x="3" y="184"/>
                </a:lnTo>
                <a:lnTo>
                  <a:pt x="1" y="206"/>
                </a:lnTo>
                <a:lnTo>
                  <a:pt x="0" y="230"/>
                </a:lnTo>
                <a:lnTo>
                  <a:pt x="0" y="1160"/>
                </a:lnTo>
                <a:lnTo>
                  <a:pt x="1" y="1184"/>
                </a:lnTo>
                <a:lnTo>
                  <a:pt x="3" y="1206"/>
                </a:lnTo>
                <a:lnTo>
                  <a:pt x="8" y="1228"/>
                </a:lnTo>
                <a:lnTo>
                  <a:pt x="16" y="1249"/>
                </a:lnTo>
                <a:lnTo>
                  <a:pt x="35" y="1289"/>
                </a:lnTo>
                <a:lnTo>
                  <a:pt x="61" y="1323"/>
                </a:lnTo>
                <a:lnTo>
                  <a:pt x="91" y="1352"/>
                </a:lnTo>
                <a:lnTo>
                  <a:pt x="125" y="1372"/>
                </a:lnTo>
                <a:lnTo>
                  <a:pt x="145" y="1380"/>
                </a:lnTo>
                <a:lnTo>
                  <a:pt x="165" y="1386"/>
                </a:lnTo>
                <a:lnTo>
                  <a:pt x="185" y="1388"/>
                </a:lnTo>
                <a:lnTo>
                  <a:pt x="206" y="1390"/>
                </a:lnTo>
                <a:lnTo>
                  <a:pt x="1458" y="1390"/>
                </a:lnTo>
                <a:lnTo>
                  <a:pt x="1479" y="1388"/>
                </a:lnTo>
                <a:lnTo>
                  <a:pt x="1499" y="1386"/>
                </a:lnTo>
                <a:lnTo>
                  <a:pt x="1519" y="1380"/>
                </a:lnTo>
                <a:lnTo>
                  <a:pt x="1539" y="1372"/>
                </a:lnTo>
                <a:lnTo>
                  <a:pt x="1573" y="1352"/>
                </a:lnTo>
                <a:lnTo>
                  <a:pt x="1603" y="1323"/>
                </a:lnTo>
                <a:lnTo>
                  <a:pt x="1629" y="1289"/>
                </a:lnTo>
                <a:lnTo>
                  <a:pt x="1648" y="1249"/>
                </a:lnTo>
                <a:lnTo>
                  <a:pt x="1655" y="1228"/>
                </a:lnTo>
                <a:lnTo>
                  <a:pt x="1661" y="1206"/>
                </a:lnTo>
                <a:lnTo>
                  <a:pt x="1663" y="1184"/>
                </a:lnTo>
                <a:lnTo>
                  <a:pt x="1664" y="1160"/>
                </a:lnTo>
                <a:lnTo>
                  <a:pt x="1664" y="230"/>
                </a:lnTo>
                <a:lnTo>
                  <a:pt x="1663" y="206"/>
                </a:lnTo>
                <a:lnTo>
                  <a:pt x="1661" y="184"/>
                </a:lnTo>
                <a:lnTo>
                  <a:pt x="1655" y="161"/>
                </a:lnTo>
                <a:lnTo>
                  <a:pt x="1648" y="141"/>
                </a:lnTo>
                <a:lnTo>
                  <a:pt x="1629" y="101"/>
                </a:lnTo>
                <a:lnTo>
                  <a:pt x="1603" y="67"/>
                </a:lnTo>
                <a:lnTo>
                  <a:pt x="1573" y="38"/>
                </a:lnTo>
                <a:lnTo>
                  <a:pt x="1539" y="18"/>
                </a:lnTo>
                <a:lnTo>
                  <a:pt x="1519" y="10"/>
                </a:lnTo>
                <a:lnTo>
                  <a:pt x="1499" y="4"/>
                </a:lnTo>
                <a:lnTo>
                  <a:pt x="1479" y="2"/>
                </a:lnTo>
                <a:lnTo>
                  <a:pt x="1458" y="0"/>
                </a:lnTo>
                <a:lnTo>
                  <a:pt x="206" y="0"/>
                </a:lnTo>
                <a:close/>
              </a:path>
            </a:pathLst>
          </a:custGeom>
          <a:solidFill>
            <a:srgbClr val="f08f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2300400"/>
            <a:ext cx="235116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06360" y="2327400"/>
            <a:ext cx="2029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32960" y="2776680"/>
            <a:ext cx="10645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01200" y="3235320"/>
            <a:ext cx="12823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pu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2840" y="3657600"/>
            <a:ext cx="33199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hortness of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1893960"/>
            <a:ext cx="4419720" cy="2628720"/>
          </a:xfrm>
          <a:custGeom>
            <a:avLst/>
            <a:gdLst/>
            <a:ahLst/>
            <a:rect l="l" t="t" r="r" b="b"/>
            <a:pathLst>
              <a:path w="2496" h="1584">
                <a:moveTo>
                  <a:pt x="235" y="0"/>
                </a:moveTo>
                <a:lnTo>
                  <a:pt x="212" y="2"/>
                </a:lnTo>
                <a:lnTo>
                  <a:pt x="188" y="6"/>
                </a:lnTo>
                <a:lnTo>
                  <a:pt x="165" y="12"/>
                </a:lnTo>
                <a:lnTo>
                  <a:pt x="143" y="20"/>
                </a:lnTo>
                <a:lnTo>
                  <a:pt x="124" y="32"/>
                </a:lnTo>
                <a:lnTo>
                  <a:pt x="104" y="44"/>
                </a:lnTo>
                <a:lnTo>
                  <a:pt x="70" y="77"/>
                </a:lnTo>
                <a:lnTo>
                  <a:pt x="39" y="115"/>
                </a:lnTo>
                <a:lnTo>
                  <a:pt x="28" y="137"/>
                </a:lnTo>
                <a:lnTo>
                  <a:pt x="18" y="159"/>
                </a:lnTo>
                <a:lnTo>
                  <a:pt x="10" y="184"/>
                </a:lnTo>
                <a:lnTo>
                  <a:pt x="5" y="210"/>
                </a:lnTo>
                <a:lnTo>
                  <a:pt x="1" y="236"/>
                </a:lnTo>
                <a:lnTo>
                  <a:pt x="0" y="263"/>
                </a:lnTo>
                <a:lnTo>
                  <a:pt x="0" y="1319"/>
                </a:lnTo>
                <a:lnTo>
                  <a:pt x="1" y="1346"/>
                </a:lnTo>
                <a:lnTo>
                  <a:pt x="5" y="1372"/>
                </a:lnTo>
                <a:lnTo>
                  <a:pt x="10" y="1398"/>
                </a:lnTo>
                <a:lnTo>
                  <a:pt x="18" y="1422"/>
                </a:lnTo>
                <a:lnTo>
                  <a:pt x="28" y="1445"/>
                </a:lnTo>
                <a:lnTo>
                  <a:pt x="39" y="1467"/>
                </a:lnTo>
                <a:lnTo>
                  <a:pt x="70" y="1507"/>
                </a:lnTo>
                <a:lnTo>
                  <a:pt x="104" y="1540"/>
                </a:lnTo>
                <a:lnTo>
                  <a:pt x="124" y="1552"/>
                </a:lnTo>
                <a:lnTo>
                  <a:pt x="143" y="1564"/>
                </a:lnTo>
                <a:lnTo>
                  <a:pt x="165" y="1572"/>
                </a:lnTo>
                <a:lnTo>
                  <a:pt x="188" y="1578"/>
                </a:lnTo>
                <a:lnTo>
                  <a:pt x="212" y="1582"/>
                </a:lnTo>
                <a:lnTo>
                  <a:pt x="235" y="1584"/>
                </a:lnTo>
                <a:lnTo>
                  <a:pt x="2261" y="1584"/>
                </a:lnTo>
                <a:lnTo>
                  <a:pt x="2286" y="1582"/>
                </a:lnTo>
                <a:lnTo>
                  <a:pt x="2309" y="1578"/>
                </a:lnTo>
                <a:lnTo>
                  <a:pt x="2331" y="1572"/>
                </a:lnTo>
                <a:lnTo>
                  <a:pt x="2353" y="1564"/>
                </a:lnTo>
                <a:lnTo>
                  <a:pt x="2374" y="1552"/>
                </a:lnTo>
                <a:lnTo>
                  <a:pt x="2394" y="1540"/>
                </a:lnTo>
                <a:lnTo>
                  <a:pt x="2428" y="1507"/>
                </a:lnTo>
                <a:lnTo>
                  <a:pt x="2457" y="1467"/>
                </a:lnTo>
                <a:lnTo>
                  <a:pt x="2467" y="1445"/>
                </a:lnTo>
                <a:lnTo>
                  <a:pt x="2478" y="1422"/>
                </a:lnTo>
                <a:lnTo>
                  <a:pt x="2485" y="1398"/>
                </a:lnTo>
                <a:lnTo>
                  <a:pt x="2491" y="1372"/>
                </a:lnTo>
                <a:lnTo>
                  <a:pt x="2494" y="1346"/>
                </a:lnTo>
                <a:lnTo>
                  <a:pt x="2496" y="1319"/>
                </a:lnTo>
                <a:lnTo>
                  <a:pt x="2496" y="263"/>
                </a:lnTo>
                <a:lnTo>
                  <a:pt x="2494" y="236"/>
                </a:lnTo>
                <a:lnTo>
                  <a:pt x="2491" y="210"/>
                </a:lnTo>
                <a:lnTo>
                  <a:pt x="2485" y="184"/>
                </a:lnTo>
                <a:lnTo>
                  <a:pt x="2478" y="159"/>
                </a:lnTo>
                <a:lnTo>
                  <a:pt x="2467" y="137"/>
                </a:lnTo>
                <a:lnTo>
                  <a:pt x="2457" y="115"/>
                </a:lnTo>
                <a:lnTo>
                  <a:pt x="2428" y="77"/>
                </a:lnTo>
                <a:lnTo>
                  <a:pt x="2394" y="44"/>
                </a:lnTo>
                <a:lnTo>
                  <a:pt x="2374" y="32"/>
                </a:lnTo>
                <a:lnTo>
                  <a:pt x="2353" y="20"/>
                </a:lnTo>
                <a:lnTo>
                  <a:pt x="2331" y="12"/>
                </a:lnTo>
                <a:lnTo>
                  <a:pt x="2309" y="6"/>
                </a:lnTo>
                <a:lnTo>
                  <a:pt x="2286" y="2"/>
                </a:lnTo>
                <a:lnTo>
                  <a:pt x="2261" y="0"/>
                </a:lnTo>
                <a:lnTo>
                  <a:pt x="235" y="0"/>
                </a:lnTo>
                <a:close/>
              </a:path>
            </a:pathLst>
          </a:custGeom>
          <a:solidFill>
            <a:srgbClr val="f08f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19560" y="1982880"/>
            <a:ext cx="355608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99400" y="2048040"/>
            <a:ext cx="350748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SURE TO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T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48440" y="2949480"/>
            <a:ext cx="13633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bac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84200" y="3408480"/>
            <a:ext cx="189504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cup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60280" y="3863880"/>
            <a:ext cx="414000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oor/outdoor pol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65400" y="5742000"/>
            <a:ext cx="34369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48040" y="5789520"/>
            <a:ext cx="302292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PIROME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65400" y="438120"/>
            <a:ext cx="6806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304920"/>
            <a:ext cx="6324840" cy="8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  <a:ea typeface="ＭＳ Ｐゴシック"/>
              </a:rPr>
              <a:t>Diagnosis of COP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949200" y="2709720"/>
            <a:ext cx="490320" cy="4157640"/>
          </a:xfrm>
          <a:custGeom>
            <a:avLst/>
            <a:gdLst>
              <a:gd name="textAreaLeft" fmla="*/ 0 w 490320"/>
              <a:gd name="textAreaRight" fmla="*/ 177120 w 490320"/>
              <a:gd name="textAreaTop" fmla="*/ 108360 h 4157640"/>
              <a:gd name="textAreaBottom" fmla="*/ 4049280 h 41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a5ff4b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3889800" y="4901400"/>
            <a:ext cx="691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ff4b"/>
                </a:solidFill>
                <a:latin typeface="Monotype Sorts"/>
                <a:ea typeface="Monotype Sorts"/>
              </a:rPr>
              <a:t>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5400000">
            <a:off x="3875400" y="4901400"/>
            <a:ext cx="691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ff4b"/>
                </a:solidFill>
                <a:latin typeface="Monotype Sorts"/>
                <a:ea typeface="Monotype Sorts"/>
              </a:rPr>
              <a:t>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3877200" y="4892040"/>
            <a:ext cx="691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ff4b"/>
                </a:solidFill>
                <a:latin typeface="Monotype Sorts"/>
                <a:ea typeface="Monotype Sorts"/>
              </a:rPr>
              <a:t>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DIAGNOSTICO DIFERENCIAL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SM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CC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RONQUIECTASIA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CUEL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UBERCULOSI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RONQUIOLITIS OBLITERANTE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ANBRONQUIOLITIS DIFUS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HECHOS SUGERENTES DE ASMA EN FASE IRREVERSIBLE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OMIENZO ANTES DE LOS 40 AÑO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USENCIA DE TABAQUISMO U OTRA EXPOSICION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RISIS PROVOCADAS POR ALERGENOS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LTA VARIABLIDAD ESPIROMETRIC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VOLUCION INHABITUAL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Tratamiento : Objetivos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etener la progresió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Recuperar parcialmente la funció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Mejorar la capacidad físic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isminuir los síntomas ( DISNEA)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Prevenir las exacerbacione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isminuir las hospitalizacione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Mejorar la calidad de vida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Mejorar la sobrevid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Tratamiento: fase estable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8007480" cy="4191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Medidas preventivas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 u="sng">
                <a:solidFill>
                  <a:srgbClr val="ff3300"/>
                </a:solidFill>
                <a:uFillTx/>
                <a:latin typeface="Times New Roman"/>
              </a:rPr>
              <a:t>Detener tabaquism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Vacuna Antiinfluenza, antineumocócica cada 5 añ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Tratamiento broncodilatador </a:t>
            </a:r>
            <a:r>
              <a:rPr b="1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escalonado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: 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Symbol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Anticolinérgicos ó betaadrenérgic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Symbol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Uso combinado de anticolinérgicos y betaagonistas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Symbol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Teofilinas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Symbol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Corticoides inhalados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Symbol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Rehabilitaci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pulmonar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76520" y="66600"/>
            <a:ext cx="715788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ＭＳ Ｐゴシック"/>
              </a:rPr>
              <a:t>Management of Stable COP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  <a:ea typeface="ＭＳ Ｐゴシック"/>
              </a:rPr>
              <a:t>Reduce Risk Factors:  Key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5680" y="1866960"/>
            <a:ext cx="863424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04640" indent="-29016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Reduction of total personal exposure to tobacco smoke, occupational dusts and chemicals, and indoor and outdoor air pollutants are important goals to prevent the onset and progression of COPD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9016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9016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b300"/>
                </a:solidFill>
                <a:latin typeface="Tahoma"/>
                <a:ea typeface="ＭＳ Ｐゴシック"/>
              </a:rPr>
              <a:t>Smoking cessation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is the single most effective — and cost effective — intervention in most people to reduce the risk of developing COPD and stop its progression </a:t>
            </a:r>
            <a:r>
              <a:rPr b="0" lang="en-US" sz="3000" spc="-1" strike="noStrike">
                <a:solidFill>
                  <a:srgbClr val="fab300"/>
                </a:solidFill>
                <a:latin typeface="Tahoma"/>
                <a:ea typeface="ＭＳ Ｐゴシック"/>
              </a:rPr>
              <a:t>(Evidence A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901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0200" y="1560600"/>
            <a:ext cx="8372520" cy="0"/>
          </a:xfrm>
          <a:prstGeom prst="line">
            <a:avLst/>
          </a:prstGeom>
          <a:ln w="28440">
            <a:solidFill>
              <a:srgbClr val="f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B5BD-17E2-4F46-BC80-B8528448CD7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Principales causas de LCFA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POC ( COPD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Asma en fase irreversible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Bronquiectasi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Secuela de TBC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Fibrosis quístic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Neumoconios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Sarcoidos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792600" y="2286000"/>
            <a:ext cx="379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7512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92680" y="79200"/>
            <a:ext cx="762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Brief Strategies to Help th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atient Willing to Quit Smo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900080"/>
            <a:ext cx="845820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5ff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ff4b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5ff4b"/>
                </a:solidFill>
                <a:latin typeface="Arial"/>
              </a:rPr>
              <a:t>AS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atically identify al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bacco users at every vis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IS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ly urge all tobacc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to q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ASSES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willingness t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quit attem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ASSIST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 the patient in quit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RAN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dule follow-up cont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0200" y="1560600"/>
            <a:ext cx="8372520" cy="0"/>
          </a:xfrm>
          <a:prstGeom prst="line">
            <a:avLst/>
          </a:prstGeom>
          <a:ln w="28440">
            <a:solidFill>
              <a:srgbClr val="f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042920" y="404640"/>
          <a:ext cx="7632720" cy="6215400"/>
        </p:xfrm>
        <a:graphic>
          <a:graphicData uri="http://schemas.openxmlformats.org/drawingml/2006/table">
            <a:tbl>
              <a:tblPr/>
              <a:tblGrid>
                <a:gridCol w="1165320"/>
                <a:gridCol w="241200"/>
                <a:gridCol w="1090800"/>
                <a:gridCol w="1506600"/>
                <a:gridCol w="1506240"/>
                <a:gridCol w="2122560"/>
              </a:tblGrid>
              <a:tr h="565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TRATAMIENTO DE LA EPOC SEGÚN ESTADI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 En ries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Le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 Modera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Seve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 Mu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ve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</a:tr>
              <a:tr h="149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pirometría norm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íntomas crónicos: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s, expector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/CVF&lt;7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≥ 80% del valor predicho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/CVF&lt;7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% ≤ 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&lt;80% del valor predicho*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/CVF&lt;7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% ≤ 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&lt;50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l valor predicho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/CVF&lt; 7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&lt; 30% del valor predicho, o 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50% con insuficiencia respiratoria crónica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</a:tr>
              <a:tr h="3380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vitar los factores de riesgo (tabaco). Vacuna Influenza anu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regar broncodilatadores de acción corta según necesida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regar uno o más broncodilatadores de acción prolongada en forma constante, y rehabilit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regar corticoides inhalados si hay exacerbaciones a repeti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1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regar oxigenoterapia si hay insuficiencia respiratoria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iderar tratamientos quirúrgic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xacerbaciones de la EPOC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Evento en el desarrollo natural de la enfermedad caracterizado por un cambio de disnea, tos y/o expectoración basales del paciente mas allá de la variabilidad diaria, suficiente para justificar un cambio de tratamient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xacerbaciones EPOC, bases morfológicas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Aumento de inflamación en vía aére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Acúmulo de células inflamatorias y edema de las parede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Reducción del lume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Tapones mucocelulares en bronquiolo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tiología de las exacerbaciones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xacerbaciones propiamente tale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nfecciones virales y bacterianas (80%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Contaminación ambiental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ncumplimiento de tratamient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Defectos en técnica inhalatoria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Agravaciones por co-morbilidad agregad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Neumoni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Cánce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TEP, neumotórax, insuficiencia cardíaca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xacerbaciones: enfoque práctico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81168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3 elemento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Volumen de expectoración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urulenci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Disnea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6520" y="1828440"/>
            <a:ext cx="381168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Gravedad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Grave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3 síntom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Mediana 2 síntom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Leve 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1 síntom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PEF&lt; 100l/min ó VEF1 &lt; 1 L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GSA y SaO2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Rx Tx, ECG, etc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Manejo domiciliario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Aumento de tratamiento BD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osi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Frecuenci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Asociació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Corticoides sistémicos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Antibióticos ( neumococ, B.catarr, H, Influenzae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Indicaciones de hospitalización en exacerbaciones 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Aumento muy marcado de síntom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POC grave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Signos físicos nuevos ( edema, cianosis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Mala respuesta a tratamiento médic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Comorbilidade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Arritmias nuev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Duda diagnóstic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dad avanzada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Mal soporte domiciliario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Corticoides sistémicos en EPOC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ffff"/>
                </a:solidFill>
                <a:latin typeface="Times New Roman"/>
              </a:rPr>
              <a:t>Efectividad demostrada  en las exacerbaciones  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4b15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d4b158"/>
                </a:solidFill>
                <a:latin typeface="Times New Roman"/>
              </a:rPr>
              <a:t>Evidencia grado 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stadía hospitalari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Intervalo entre exacerbacione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EPOC estable: Se recomienda evitar su us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4b15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d4b158"/>
                </a:solidFill>
                <a:latin typeface="Times New Roman"/>
              </a:rPr>
              <a:t>Evidencia grado A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Relación costo/beneficio desfavorable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95280" y="3357720"/>
          <a:ext cx="8383680" cy="2644560"/>
        </p:xfrm>
        <a:graphic>
          <a:graphicData uri="http://schemas.openxmlformats.org/drawingml/2006/table">
            <a:tbl>
              <a:tblPr/>
              <a:tblGrid>
                <a:gridCol w="1576440"/>
                <a:gridCol w="958680"/>
                <a:gridCol w="1508400"/>
                <a:gridCol w="933480"/>
                <a:gridCol w="1968480"/>
                <a:gridCol w="143820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NCODILATADO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cambi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3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5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90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93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CVF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1476360" y="304920"/>
            <a:ext cx="65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Valores predeterminados</a:t>
            </a:r>
            <a:r>
              <a:rPr b="0" lang="es-MX" sz="2400" spc="-1" strike="noStrike">
                <a:solidFill>
                  <a:srgbClr val="fab300"/>
                </a:solidFill>
                <a:latin typeface="Arial"/>
              </a:rPr>
              <a:t>  MNV, </a:t>
            </a:r>
            <a:r>
              <a:rPr b="1" lang="es-MX" sz="2400" spc="-1" strike="noStrike">
                <a:solidFill>
                  <a:srgbClr val="ffd467"/>
                </a:solidFill>
                <a:latin typeface="Arial"/>
              </a:rPr>
              <a:t>( </a:t>
            </a:r>
            <a:r>
              <a:rPr b="0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♀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, </a:t>
            </a:r>
            <a:r>
              <a:rPr b="0" lang="es-MX" sz="18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52 años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403280" y="981000"/>
          <a:ext cx="6313680" cy="1460520"/>
        </p:xfrm>
        <a:graphic>
          <a:graphicData uri="http://schemas.openxmlformats.org/drawingml/2006/table">
            <a:tbl>
              <a:tblPr/>
              <a:tblGrid>
                <a:gridCol w="1646280"/>
                <a:gridCol w="2511360"/>
                <a:gridCol w="215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Í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determinado(L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centil 5 (L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VF 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1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,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2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/CVF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2133720" y="281952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2852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Espirometría 6-2-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Bronquitis crónica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Tos y expectoración diari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+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3 meses por añ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+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2 años consecutivo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Histopatología: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ipertrofia de las glándulas mucos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aumento de las células caliciforme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70560" y="249228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!No signif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bstrucción bronquial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395280" y="3357720"/>
          <a:ext cx="8383680" cy="2644560"/>
        </p:xfrm>
        <a:graphic>
          <a:graphicData uri="http://schemas.openxmlformats.org/drawingml/2006/table">
            <a:tbl>
              <a:tblPr/>
              <a:tblGrid>
                <a:gridCol w="1576440"/>
                <a:gridCol w="958680"/>
                <a:gridCol w="1508400"/>
                <a:gridCol w="933480"/>
                <a:gridCol w="1968480"/>
                <a:gridCol w="143820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NCODILATADO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cambi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71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67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97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95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CVF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1476360" y="304920"/>
            <a:ext cx="65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Valores predeterminados</a:t>
            </a:r>
            <a:r>
              <a:rPr b="0" lang="es-MX" sz="2400" spc="-1" strike="noStrike">
                <a:solidFill>
                  <a:srgbClr val="fab300"/>
                </a:solidFill>
                <a:latin typeface="Arial"/>
              </a:rPr>
              <a:t>  MNV, </a:t>
            </a:r>
            <a:r>
              <a:rPr b="1" lang="es-MX" sz="2400" spc="-1" strike="noStrike">
                <a:solidFill>
                  <a:srgbClr val="ffd467"/>
                </a:solidFill>
                <a:latin typeface="Arial"/>
              </a:rPr>
              <a:t>( </a:t>
            </a:r>
            <a:r>
              <a:rPr b="0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♀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, </a:t>
            </a:r>
            <a:r>
              <a:rPr b="0" lang="es-MX" sz="18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52 años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403280" y="981000"/>
          <a:ext cx="6313680" cy="1460520"/>
        </p:xfrm>
        <a:graphic>
          <a:graphicData uri="http://schemas.openxmlformats.org/drawingml/2006/table">
            <a:tbl>
              <a:tblPr/>
              <a:tblGrid>
                <a:gridCol w="1646280"/>
                <a:gridCol w="2511360"/>
                <a:gridCol w="215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Í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determinado(L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centil 5 (L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VF 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1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,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2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/CVF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2133720" y="281952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56000" y="2852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Espirometría 29-3-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395280" y="3357720"/>
          <a:ext cx="8383680" cy="2644560"/>
        </p:xfrm>
        <a:graphic>
          <a:graphicData uri="http://schemas.openxmlformats.org/drawingml/2006/table">
            <a:tbl>
              <a:tblPr/>
              <a:tblGrid>
                <a:gridCol w="1576440"/>
                <a:gridCol w="958680"/>
                <a:gridCol w="1508400"/>
                <a:gridCol w="933480"/>
                <a:gridCol w="1968480"/>
                <a:gridCol w="143820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NCODILATADO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cambi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4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40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4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5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CVF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990720" y="304920"/>
            <a:ext cx="70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Valores predeterminados</a:t>
            </a:r>
            <a:r>
              <a:rPr b="0" lang="es-MX" sz="2400" spc="-1" strike="noStrike">
                <a:solidFill>
                  <a:srgbClr val="fab300"/>
                </a:solidFill>
                <a:latin typeface="Arial"/>
              </a:rPr>
              <a:t>  OSS, </a:t>
            </a:r>
            <a:r>
              <a:rPr b="1" lang="es-MX" sz="2400" spc="-1" strike="noStrike">
                <a:solidFill>
                  <a:srgbClr val="ffd467"/>
                </a:solidFill>
                <a:latin typeface="Arial"/>
              </a:rPr>
              <a:t>( </a:t>
            </a:r>
            <a:r>
              <a:rPr b="0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hombre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, </a:t>
            </a:r>
            <a:r>
              <a:rPr b="0" lang="es-MX" sz="18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50 años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403280" y="981000"/>
          <a:ext cx="6313680" cy="1460520"/>
        </p:xfrm>
        <a:graphic>
          <a:graphicData uri="http://schemas.openxmlformats.org/drawingml/2006/table">
            <a:tbl>
              <a:tblPr/>
              <a:tblGrid>
                <a:gridCol w="1646280"/>
                <a:gridCol w="2511360"/>
                <a:gridCol w="215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Í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determinado(L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centil 5 (L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VF 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,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3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/CVF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2133720" y="281952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56000" y="2852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Espirometría 29-3-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752480" y="122400"/>
            <a:ext cx="532296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438280" y="1143000"/>
            <a:ext cx="2616480" cy="459720"/>
          </a:xfrm>
          <a:prstGeom prst="rect">
            <a:avLst/>
          </a:prstGeom>
          <a:solidFill>
            <a:srgbClr val="fab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Chronic hypo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2209680"/>
            <a:ext cx="4572000" cy="45972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Pulmonary vasoconstri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167652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00720" y="2708280"/>
            <a:ext cx="2538360" cy="2214000"/>
          </a:xfrm>
          <a:prstGeom prst="rect">
            <a:avLst/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Muscular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Intim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hyperpl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Fibr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Oblit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33920" y="270828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649840" y="3089160"/>
            <a:ext cx="60984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49840" y="354636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49840" y="3546360"/>
            <a:ext cx="60984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18240" y="3622680"/>
            <a:ext cx="54144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3394080"/>
            <a:ext cx="3849840" cy="459720"/>
          </a:xfrm>
          <a:prstGeom prst="rect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Pulmonary hyper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4495680"/>
            <a:ext cx="24577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Cor pulmon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5638680"/>
            <a:ext cx="1219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396252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33920" y="50292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66520" y="5172120"/>
            <a:ext cx="1179000" cy="45972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29120" y="4800600"/>
            <a:ext cx="40644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6720" y="210960"/>
            <a:ext cx="5554800" cy="94716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ulmonary Hypertension in COP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6516720"/>
            <a:ext cx="3181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e1192"/>
                </a:solidFill>
                <a:latin typeface="Tahoma"/>
              </a:rPr>
              <a:t>Source</a:t>
            </a:r>
            <a:r>
              <a:rPr b="1" lang="en-US" sz="1400" spc="-1" strike="noStrike">
                <a:solidFill>
                  <a:srgbClr val="4e1192"/>
                </a:solidFill>
                <a:latin typeface="Tahoma"/>
              </a:rPr>
              <a:t>:  Peter J. Barnes, M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Indicación de oxigenoterapia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GSA : VEF1 &lt; 40%  </a:t>
            </a:r>
            <a:r>
              <a:rPr b="1" i="1" lang="es-CL" sz="3200" spc="-1" strike="noStrike">
                <a:solidFill>
                  <a:srgbClr val="ff0000"/>
                </a:solidFill>
                <a:latin typeface="Times New Roman"/>
              </a:rPr>
              <a:t>( ahora &lt; 50%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Oxigenoterapia: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Pacientes en fase estable, al menos con 1mes de tratamiento y  PaO2 &lt; 55 mmHg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Pacientes con PaO2 entre 55 y 59 mmHg con signos de disfunción orgánica por hipoxi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ipertensión pulmona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or pulmonar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to &gt; 55%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3080" y="6019920"/>
            <a:ext cx="73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00"/>
                </a:solidFill>
                <a:uFillTx/>
                <a:latin typeface="Times New Roman"/>
              </a:rPr>
              <a:t>Después de un mes de tratamiento farmacológico  ópti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ADMINISTRACIÓN DE OXÍGENO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205740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ánula bina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Flujo necesario para SaO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de 9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ínimo 15 horas diari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trol mensual de saturación arterial de oxígen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385120" cy="14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BENEFICIOS DE LA OXIGENOTERAPIA A LARGO PLAZO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7921800" cy="4248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Mejora sobrevid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Aumenta tolerancia al ejercici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Reduce  hospitalizacione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Mejora  estado mental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Reduce policitemia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Disminuye arritmias durante el sueñ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Reduce o revierte la hipertensión pulmonar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Indicaciones para referir a especialista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uda diagnóstic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Mala respuesta a tratamient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Sospecha de EPOC sever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ara confirmar diagnóstico y optimizar tratamient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Sospecha de corazón pulmonar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ara confirmar diagnóstico y optimizar tratamient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Sospecha de necesidad de oxigenoterapi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Medición de GSA, decisión de indicación y dos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Indicaciones para referir a especialista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nfisema bulos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ara evaluar posibles candidatos para cirugía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POC en &lt; de 50 añ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ara identificar déficit de </a:t>
            </a:r>
            <a:r>
              <a:rPr b="1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 1 antitripsina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Síntomas desproporcionado a resultado de función pulmonar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ara buscar otras explicaciones 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nfecciones o exacerbaciones frecuentes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ara descartar bronquiectasias y decidir otras terapias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1440" y="609120"/>
            <a:ext cx="7439040" cy="4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00"/>
                </a:solidFill>
                <a:latin typeface="Times New Roman"/>
                <a:ea typeface="华文仿宋"/>
              </a:rPr>
              <a:t>Desafíos y perspectivas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076960" cy="5111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Disminuir la prevalenci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Combatir el tabaquismo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Mejorar el pronóstic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Diagnóstico precoz: espirometría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Mejorar la calidad de vid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atamiento broncodilatador óptimo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atamiento precoz de exacerbaciones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Rehabilitación pulmonar.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Prolongar la sobrevid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Oxigenoterapia en etapa avanzada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Definición de EPOC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La EPOC es una enfermedad </a:t>
            </a:r>
            <a:r>
              <a:rPr b="1" i="1" lang="es-CL" sz="2800" spc="-1" strike="noStrike">
                <a:solidFill>
                  <a:srgbClr val="fab300"/>
                </a:solidFill>
                <a:latin typeface="Times New Roman"/>
              </a:rPr>
              <a:t>prevenible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y tratable con consecuencias extrapulmonares que contribuyen a su gravedad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Se caracteriza por Limitaci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del flujo </a:t>
            </a:r>
            <a:r>
              <a:rPr b="1" i="1" lang="es-CL" sz="2800" spc="-1" strike="noStrike">
                <a:solidFill>
                  <a:srgbClr val="fab300"/>
                </a:solidFill>
                <a:latin typeface="Times New Roman"/>
                <a:ea typeface="ＭＳ Ｐゴシック"/>
              </a:rPr>
              <a:t>que no es reversible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La limitaci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del flujo aéreo es usualmente progresiva y se asocia a una respuesta inflamatoria anormal del pulmón a la inhalación de gases, principalmente </a:t>
            </a:r>
            <a:r>
              <a:rPr b="1" i="1" lang="es-CL" sz="2800" spc="-1" strike="noStrike">
                <a:solidFill>
                  <a:srgbClr val="fab300"/>
                </a:solidFill>
                <a:latin typeface="Times New Roman"/>
                <a:ea typeface="ＭＳ Ｐゴシック"/>
              </a:rPr>
              <a:t>humo del tabaco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7207200" y="627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43160" y="166680"/>
            <a:ext cx="4660920" cy="65278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381800" y="6678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243160" y="166680"/>
            <a:ext cx="4660920" cy="65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249640" y="179280"/>
            <a:ext cx="4647960" cy="650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262240" y="223920"/>
            <a:ext cx="462276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3265560" y="2598840"/>
          <a:ext cx="2289240" cy="25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5560" y="2598840"/>
                    <a:ext cx="2289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592200" y="361800"/>
            <a:ext cx="8128080" cy="201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66"/>
                </a:solidFill>
                <a:latin typeface="Arial"/>
              </a:rPr>
              <a:t>WORLD COPD DA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November 14, 200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5759280"/>
            <a:ext cx="822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Raising COPD Awareness Worldw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POC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81312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nfermedad con LCF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Usualmente progresiv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Causa principal : Tabaco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( humo de leña)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75040" y="1857240"/>
            <a:ext cx="3603960" cy="35910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185240" cy="124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ESPIROMETRIA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1341360"/>
          <a:ext cx="9144000" cy="5105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3840" cy="14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d4b158"/>
                </a:solidFill>
                <a:latin typeface="Arial"/>
              </a:rPr>
              <a:t>     </a:t>
            </a: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Clasificación de gravedad</a:t>
            </a:r>
            <a:br>
              <a:rPr sz="3200"/>
            </a:b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de la EPOC según </a:t>
            </a: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espirometría </a:t>
            </a:r>
            <a:br>
              <a:rPr sz="3200"/>
            </a:br>
            <a:r>
              <a:rPr b="1" i="1" lang="es-ES_tradnl" sz="1400" spc="-1" strike="noStrike">
                <a:solidFill>
                  <a:srgbClr val="ffff00"/>
                </a:solidFill>
                <a:latin typeface="Times New Roman"/>
              </a:rPr>
              <a:t>Clasificación de GOLD</a:t>
            </a:r>
            <a:endParaRPr b="0" lang="en-US" sz="1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828800"/>
            <a:ext cx="8153640" cy="5029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c88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88f00"/>
                </a:solidFill>
                <a:latin typeface="Times New Roman"/>
              </a:rPr>
              <a:t>Estadio 0: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Tos crónica. Función pulmonar normal ( en riesgo ) </a:t>
            </a:r>
            <a:r>
              <a:rPr b="1" i="1" lang="es-ES_tradnl" sz="1800" spc="-1" strike="noStrike">
                <a:solidFill>
                  <a:srgbClr val="ff0000"/>
                </a:solidFill>
                <a:latin typeface="Times New Roman"/>
              </a:rPr>
              <a:t>( esta etapa se retir</a:t>
            </a:r>
            <a:r>
              <a:rPr b="1" i="1" lang="es-ES_tradnl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ó actualmente) 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c88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88f00"/>
                </a:solidFill>
                <a:latin typeface="Times New Roman"/>
              </a:rPr>
              <a:t>Estadio I: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EPOC leve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EF1/CVF &lt; 70%. VEF&gt; 80%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c88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88f00"/>
                </a:solidFill>
                <a:latin typeface="Times New Roman"/>
              </a:rPr>
              <a:t>Estadio II: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EPOC moderado. Disnea de esfuerzo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50% &lt; VEF1 &lt; 80%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c88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88f00"/>
                </a:solidFill>
                <a:latin typeface="Times New Roman"/>
              </a:rPr>
              <a:t>Estadio III: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EPOC grave. Progresión de disnea. Exacerbaciones 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30% &lt; VEF1 &lt; 50%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c88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88f00"/>
                </a:solidFill>
                <a:latin typeface="Times New Roman"/>
              </a:rPr>
              <a:t>Estadio IV: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EPOC muy grave.I Respiratoria Cronica. Afecta calidad de vida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EF1 &lt; 30%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05:15:16Z</dcterms:created>
  <dc:creator>Jaime Escobar D</dc:creator>
  <dc:description/>
  <dc:language>en-US</dc:language>
  <cp:lastModifiedBy>Laura Mendoza</cp:lastModifiedBy>
  <dcterms:modified xsi:type="dcterms:W3CDTF">2007-08-05T01:12:33Z</dcterms:modified>
  <cp:revision>68</cp:revision>
  <dc:subject/>
  <dc:title>EPOC </dc:title>
</cp:coreProperties>
</file>