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1567-C57E-4B96-B8F9-28757CCD3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FEB7-E9B7-473B-8677-F260E20D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44DE-1506-4BB5-BA21-9AEFF9FBF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D8A4-A74A-499D-A789-8A2D334FC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FB59-C4A3-447F-BE79-2758BA853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FE17-F461-4E5E-A7A7-F76774D2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5FFE-8ABE-4C6E-BBEF-5F0002A4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4364-687E-4D5D-88BE-7DFDB353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1946-22C8-4281-93FD-B79AEABD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F0AF-3644-4AB9-86A8-240BDF43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5DB2-F510-4097-B37B-2449A82D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B28E-C812-43AB-8F04-4D9973D1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2D75-AB8E-4C18-B79D-D94E09C0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7959-4DB2-4C7A-A3A6-4A23FEC8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8DAA-3AAA-45EA-B799-50E7A98E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A800-4679-488C-B8F9-65D15BA14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15C8-0BE7-4AEA-806E-BDAA35043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0A5E-4F11-482C-8DF2-E0715AA2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FDFC-5962-4CDB-97AA-FF75B099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277B-EAE5-4CF5-A6BA-CF2493CC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A92D-F779-4CB5-A20E-4A1C1E01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102A-B278-49D6-8ECA-6CEF3FCF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E916-4A1F-4203-849A-979EBC09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FD3D-F0E8-4A4C-86B2-9ED8C227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38A9-42E8-4660-A0B5-0EECC1FE44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E6A4-D6C1-45FA-B47C-255EDA594B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COMITÉS DE ÉTICA HOSPITALARI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Defini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Grupo multiprofesional autorizado en el ámbito hospitalario que asesora y recomienda sobre aspectos éticos de casos clínico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Se encarga también de la formación ética de los profesiona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Elabora protocolos en casos que requieran una política instituciona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Integrant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Miembros permanentes e invitado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Nº impa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De ambos sexo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Que representen perspectivas médica, legal, filosófica y religio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Con capacidad de escuchar al otro y respetar las diferencia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Miembros estab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Profesionales de la Salu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Abogad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Religios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Representante de la comunida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Dilem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Continuar o no tratamiento en casos de mal pronóstic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Alta en casos de terminalida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Proporcionalidad terapéutic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Extensión de cuidados paliativo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Orden de no resucitar (ODNR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Desconexión de ventilación mecánic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Qué y cómo informa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Transplante de órgano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Asignación de recursos limitado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Problemas de práctica profesiona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La eficiencia de un CEH depende de su calidad deliberativa, no de su composición técnic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La meta de la deliberación es llegar a una recomendación consensuada para el dilema plantead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Método de anális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Sintetizar el problema principa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Realizar una lista de cursos posibles de acció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Evaluar a través de los principios bioético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Analizar las posibles consecuencia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Contrastar soluciones posib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Tomar decisión fina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7-09-04T11:17:52Z</dcterms:modified>
  <cp:revision>4</cp:revision>
  <dc:subject/>
  <dc:title>COMITÉS DE ÉTICA HOSPITALARIA</dc:title>
</cp:coreProperties>
</file>