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87F-FB17-4203-9E99-45255788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885-E7EA-43B8-88C0-38CE557B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C2C-4635-4D03-A0D0-E9DCCBC2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1D6-6EE7-4BEA-8FDA-E543C87A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8700-A19B-43AB-99B0-F9AE61A6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A19B-AC19-4BBE-B831-E5415045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3C08-800A-4041-940E-C70CFC26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3A28-4043-48CD-AC83-29C22E29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82BF-D6D9-43A4-A958-A4B1856F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92B6-0529-472A-A61B-28B53422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68AE-3C93-4D7D-82FA-8B91934E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9CE-AC46-46D6-9E6C-E5E6F277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386F-08B3-4D0C-983C-711B7940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858C-3617-4B30-9104-3A985A63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DFC9-C7DF-489F-A513-1467AF78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65C7-D714-4F32-9F70-CC5805BD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68EC-0D56-48CE-ADAC-6969D068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5BA-0F48-4414-BBA4-56314DAE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DF6-6722-4FC1-B854-C2545ADD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C21-AD6E-4384-9D93-6EC01809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8D4-6BF9-480E-A56F-C98FAA47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7CA-3042-4315-A6C7-B1D39B14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0D5-2E6D-4330-8EB1-76446975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946-7543-40FD-AE89-3D7DF14A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3FCD-8E04-4A7A-8B7F-EB4A93B27E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CA10-FBF3-46E5-8E40-EB28B3B0AD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MITÉS DE ÉTICA CIENTÍ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De Nuremberg a Dol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c.Los sujetos reclutados están en condiciones de beneficiarse si la investigación  arroja un resultado positivo. Por ejemplo, un nuevo tratamient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d.Reducir al mínimo los riesgos para los sujetos a la vez que se maximizan los beneficios sociales y científic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Razones: principio de justicia distributiv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4.  </a:t>
            </a:r>
            <a:r>
              <a:rPr b="1" lang="es-ES_tradnl" sz="3200" spc="-1" strike="noStrike">
                <a:solidFill>
                  <a:srgbClr val="ccecff"/>
                </a:solidFill>
                <a:latin typeface="Tahoma"/>
              </a:rPr>
              <a:t>PROPORCIÓN FAVORABLE DE RIESGO-BENEFICI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a. los riesgos potenciales deben minimiza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b. los beneficios deben maximiza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c. los beneficios potenciales son proporcionales o exceden a los riesgos asumid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Razones: principios de no-maleficencia y beneficenci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5.  </a:t>
            </a:r>
            <a:r>
              <a:rPr b="1" lang="es-ES_tradnl" sz="3200" spc="-1" strike="noStrike">
                <a:solidFill>
                  <a:srgbClr val="ccecff"/>
                </a:solidFill>
                <a:latin typeface="Tahoma"/>
              </a:rPr>
              <a:t>EVALUACIÓN INDEPENDIEN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Posible conflicto de intereses de los investigadores y la responsabilidad soci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6.  </a:t>
            </a:r>
            <a:r>
              <a:rPr b="1" lang="es-ES_tradnl" sz="3200" spc="-1" strike="noStrike">
                <a:solidFill>
                  <a:srgbClr val="ccecff"/>
                </a:solidFill>
                <a:latin typeface="Tahoma"/>
              </a:rPr>
              <a:t>CONSENTIMIENTO INFORMAD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Asegura que los individuos participan en la investigación clínica propuesta sólo cuando ésta es compatible con sus valores, intereses y preferencia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Razones: principio de autonomí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6.  </a:t>
            </a:r>
            <a:r>
              <a:rPr b="1" lang="es-ES_tradnl" sz="3200" spc="-1" strike="noStrike">
                <a:solidFill>
                  <a:srgbClr val="ccecff"/>
                </a:solidFill>
                <a:latin typeface="Tahoma"/>
              </a:rPr>
              <a:t>RESPETO A LOS SUJETOS INSCRIT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1. Permitir cambiar de opinión y a retirarse sin sanció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2. Confidencialida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3. Proporcionar nueva informació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4. Información de los resultad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5. El bienestar del sujeto debe vigilarse cuidadosamen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mités de ética cientí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1. Evaluar el diseño científic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2. Evaluar competencia del equipo investigado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3. Revisar el procedimiento de C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4. Comprobar previsión de compensación por dañ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5. Revisar el presupuest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6. Realizar seguimiento del ensayo hasta su términ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ahoma"/>
              </a:rPr>
              <a:t>A DIFERENCIA DE LOS CEH, LOS CEC SON RESOLUTIV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1" lang="es-ES_tradnl" sz="3200" spc="-1" strike="noStrike">
                <a:solidFill>
                  <a:srgbClr val="ccecff"/>
                </a:solidFill>
                <a:latin typeface="Tahoma"/>
              </a:rPr>
              <a:t>LA CIENCIA SIN CONCIENCIA NO ES UN BIEN, SINO UN MAL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¿Por qué la investigación clínica necesita requisitos éticos especiales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¿Por qué una buena investigación científica no es suficiente por sí sola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¿No equivale la buena ciencia a la buena ética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El objetivo principal de la investigación clínica es generar conocimiento que sirva para mejorar la salud y el bienestar de la población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Los sujetos que participan son sólo un </a:t>
            </a:r>
            <a:r>
              <a:rPr b="1" i="1" lang="es-ES_tradnl" sz="3200" spc="-1" strike="noStrike">
                <a:solidFill>
                  <a:srgbClr val="ccecff"/>
                </a:solidFill>
                <a:latin typeface="Tahoma"/>
              </a:rPr>
              <a:t>medio </a:t>
            </a: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para asegurar tal conocimient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En toda investigación clínica existe el riesgo de explotación de los sujetos de experimentación, ya que pueden ser puestos en situaciones perjudiciales en aras del bien de otros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uentes de orientación ét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Código de Nurembe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Declaración de Helsink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Informe Belmo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CIO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equisi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1.  </a:t>
            </a:r>
            <a:r>
              <a:rPr b="1" lang="es-ES_tradnl" sz="3200" spc="-1" strike="noStrike">
                <a:solidFill>
                  <a:srgbClr val="ccecff"/>
                </a:solidFill>
                <a:latin typeface="Tahoma"/>
              </a:rPr>
              <a:t>VALO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La investigación clínica debe tener valor, es decir, debe tener importancia social o científic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Razones: uso responsable de recursos limitados y evitar la explotación de los sujet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2.  </a:t>
            </a:r>
            <a:r>
              <a:rPr b="1" lang="es-ES_tradnl" sz="3200" spc="-1" strike="noStrike">
                <a:solidFill>
                  <a:srgbClr val="ccecff"/>
                </a:solidFill>
                <a:latin typeface="Tahoma"/>
              </a:rPr>
              <a:t>VALIDEZ CIENTÍFIC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Un estudio con sujetos humanos que ha sido mal diseñado y, por lo tanto, no tiene posibilidad de generar conocimiento científico, </a:t>
            </a:r>
            <a:r>
              <a:rPr b="1" i="1" lang="es-ES_tradnl" sz="3200" spc="-1" strike="noStrike">
                <a:solidFill>
                  <a:srgbClr val="ccecff"/>
                </a:solidFill>
                <a:latin typeface="Tahoma"/>
              </a:rPr>
              <a:t>no es étic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La validez científica en un estudio con sujetos humanos es </a:t>
            </a:r>
            <a:r>
              <a:rPr b="0" i="1" lang="es-ES_tradnl" sz="3200" spc="-1" strike="noStrike">
                <a:solidFill>
                  <a:srgbClr val="ccecff"/>
                </a:solidFill>
                <a:latin typeface="Tahoma"/>
              </a:rPr>
              <a:t>per se </a:t>
            </a: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un principio étic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Razones: uso responsable de recursos limitados y evitar la explotación de los sujeto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3.  </a:t>
            </a:r>
            <a:r>
              <a:rPr b="1" lang="es-ES_tradnl" sz="3200" spc="-1" strike="noStrike">
                <a:solidFill>
                  <a:srgbClr val="ccecff"/>
                </a:solidFill>
                <a:latin typeface="Tahoma"/>
              </a:rPr>
              <a:t>SELECCIÓN EQUITATIVA DE LOS SUJET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a. Selección de grupos específicos de sujetos por razones relacionadas con las interrogantes científica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b. A todos los grupos  se les ofrezca la posibilidad de participar en la investigació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elo Cano</cp:lastModifiedBy>
  <dcterms:modified xsi:type="dcterms:W3CDTF">2003-04-29T03:28:04Z</dcterms:modified>
  <cp:revision>3</cp:revision>
  <dc:subject/>
  <dc:title>COMITÉS DE ÉTICA CIENTÍFICOS</dc:title>
</cp:coreProperties>
</file>