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5B1-434D-423D-831D-FDEACDBF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062-8367-4650-B1BD-026ECDAE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B20-5C18-41CC-B10B-4FBC3BE1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35A-A436-49CE-B567-4BE9B14B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1D1E-2C9B-454B-81F9-CB316CA7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44E4-49ED-44EA-9D62-0DE1B8F0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E5D1-0659-4672-889B-802CA6A6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C564-8FC4-40BE-BD9C-10999CFD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9322-99DB-4AA8-AD91-4A299DF1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862C-4C6F-4885-AB81-824C9EC9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C0F-2871-4280-82E7-87FFFD6B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E36-6EF8-473B-A056-596C6EE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05C2-B5AD-4E0F-863E-8E40C3E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9385-0AD1-4049-AE8E-98A19FD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D7A-6B37-40D9-B0F1-7892CB2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9E14-56C9-49FA-B7F3-CE1F1E4B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52F6-AC39-4E24-B4A9-03CD2DFC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39F-46B2-4481-86E4-B4BB4503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DC9-96F2-495B-A587-6044F0B6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9C3-8612-47FB-8B8B-C72573CF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5B2-E658-4C61-8196-5BB8EA44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F88-E20E-4A99-A010-8A25C722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EF1-2D2B-4179-A080-12CAB5D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5E4-D177-4F8A-9441-2EF3F151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654C-F9FC-4CD4-8B67-3408FBA6253D}" type="slidenum">
              <a:rPr b="1" lang="es-C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95C1-C78C-4A9A-805C-655A8D7DE8A8}" type="slidenum">
              <a:rPr b="1" lang="es-C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Arial"/>
              </a:rPr>
              <a:t>Principios de la Bioética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de su surgimiento a la actualida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Beneficencia: no hacer daño, maximizar beneficios y minimizar riesg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Justicia: selección equitativa de los sujetos de investig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utonomía: respeto por las perso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incipialis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9, Beauchamp y Childress publican “Principios de Etica Biomédica”, dando origen al 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principialismo o enfoque principali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382920" cy="264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uncia un cuarto principio: “No Maleficencia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ctualmente es el método más importante de la Bioética, tanto en el área clínica como en la investig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finicion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No Maleficencia:  no hacer dañ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Justicia:  acceso igualitario a la atención sanitaria. Distribución equitativa de los riesgos y beneficios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Beneficencia:  hacer el bi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Autonomía:  capacidad para actuar de acuerdo a las elecciones propi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Jerarquiz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Nivel de mínimos morales, de bien común o deberes perfe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No Maleficencia y Justi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279396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2. Nivel de máximos morales, de bien particular o deberes imperfe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Beneficencia y Autonom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08720" y="2708280"/>
            <a:ext cx="2952720" cy="27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aso Tuskeg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Este estudio se inició en 1932 y duró cerca de 40 añ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867280" y="2708280"/>
            <a:ext cx="246564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Durante este período, un grupo de 399 personas afro-americanas que padecían sífilis fueron observadas con el propósito de estudiar la historia natural de esta enferm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La penicilina fue desarrollada entre 1941 y 1943, sin embargo, no fue administrada a los sujetos participantes de este estu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2 apareció un reportaje que relataba esta historia en varios diarios del paí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2705040" cy="29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La larga duración de este estudio, el momento histórico en que se inició, la naturaleza de la enfermedad, la condición racial de las personas estudiadas y el hecho de que aún disponiéndose del tratamiento adecuado no se les proporcionara a los sujetos, hacen de este caso un paradigma en la historia de la Bio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Varios miembros del Congreso norteamericano calificaron a este estudio como una 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“pesadilla moral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660840" cy="28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a National Com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4, el Congreso de los Estados Unidos crea la Comisión Nacional para la Protección de los Sujetos Humanos en la Investigación Biomédica y Condu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El Informe Belmo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n 1978, la National Comision elabora este informe, que enuncia tres principios étic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35640" y="3068640"/>
            <a:ext cx="28814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esiología, Universidad de Chile</a:t>
            </a:r>
          </a:p>
        </p:txBody>
      </p:sp>
    </p:spTree>
  </p:cSld>
  <p:transition>
    <p:pull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uario</cp:lastModifiedBy>
  <dcterms:modified xsi:type="dcterms:W3CDTF">2007-08-13T21:18:46Z</dcterms:modified>
  <cp:revision>18</cp:revision>
  <dc:subject/>
  <dc:title>Principios de la Bioética</dc:title>
</cp:coreProperties>
</file>