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8C6-EF0F-4F97-B5A7-BD0CCB92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B75-4F04-41F6-923F-9DA43864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A53-7F9F-4CAE-83B9-19E58223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ED7-0845-4CFB-812A-0579674A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6A32-FEDB-4473-8687-CEF69C60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7CD3-5C7A-49F6-8562-FCCF7D86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830A-112F-4E6C-A1E6-9E55E03C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9233-3C95-4778-A735-86D7DEDD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7FD4-9B4E-483E-894A-E3E35ED7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5A02-F746-4435-B15D-3FD08755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9C76-86B7-4C57-B103-25B830E3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941-5858-49F2-A35D-220C5E7C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180D-EFD8-43CC-9C49-9C591876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F94B-ECBC-450D-9B04-CF1BABCC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7CE1-BFAA-4625-BC2A-8100EA4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25D-E763-45A7-893A-DEEBC68B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A0DD-68CF-4FA3-B536-8B29B055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4F7-7889-42A8-BEEC-6437D375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A34-9C76-48A6-93EF-A549AE1A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1ED-FAA0-4252-8BBF-D7594706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E68-5739-44C3-B85F-167566C1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52C-90DC-4959-9AD9-279E2438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53A-3BAD-4EEA-9259-E27730AF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90C-C808-4662-AD28-F548E8FC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6475-813D-4E02-BDF7-9E259C7D2826}" type="slidenum">
              <a:rPr b="1" lang="es-C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DD65-03FA-4E60-AFD6-4AD1645E80FF}" type="slidenum">
              <a:rPr b="1" lang="es-C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Arial"/>
              </a:rPr>
              <a:t>Principios de la Bioética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de su surgimiento a la actualida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Beneficencia: no hacer daño, maximizar beneficios y minimizar ries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Justicia: selección equitativa de los sujetos de investig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utonomía: respeto por las perso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incipialis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 1979, Beauchamp y Childress publican “Principios de Etica Biomédica”, dando origen al </a:t>
            </a: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principialismo o enfoque principali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382920" cy="264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uncia un cuarto principio: “No Maleficencia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ctualmente es el método más importante de la Bioética, tanto en el área clínica como en la investig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on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No Maleficencia:  no hacer dañ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Justicia:  acceso igualitario a la atención sanitaria. Distribución equitativa de los riesgos y beneficios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Beneficencia:  hacer el bi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Autonomía:  capacidad para actuar de acuerdo a las elecciones propi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Jerarqu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Nivel de mínimos morales, de bien común o deberes perfe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No Maleficencia y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27939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2. Nivel de máximos morales, de bien particular o deberes imperfe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Beneficencia y Autonom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08720" y="2708280"/>
            <a:ext cx="2952720" cy="27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aso Tuskege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Este estudio se inició en 1932 y duró cerca de 40 añ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2708280"/>
            <a:ext cx="2465640" cy="32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Durante este período, un grupo de 399 personas afro-americanas que padecían sífilis fueron observadas con el propósito de estudiar la historia natural de esta enferm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La penicilina fue desarrollada entre 1941 y 1943, sin embargo, no fue administrada a los sujetos participantes de este estu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 1972 apareció un reportaje que relataba esta historia en varios diarios del paí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2705040" cy="29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La larga duración de este estudio, el momento histórico en que se inició, la naturaleza de la enfermedad, la condición racial de las personas estudiadas y el hecho de que aún disponiéndose del tratamiento adecuado no se les proporcionara a los sujetos, hacen de este caso un paradigma en la historia de la Bioé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Varios miembros del Congreso norteamericano calificaron a este estudio como una </a:t>
            </a: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“pesadilla mora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660840" cy="28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a National Com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 1974, el Congreso de los Estados Unidos crea la Comisión Nacional para la Protección de los Sujetos Humanos en la Investigación Biomédica y Condu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l Informe Belmo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 1978, la National Comision elabora este informe, que enuncia tres principios ét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35640" y="3068640"/>
            <a:ext cx="28814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07-08-13T21:18:46Z</dcterms:modified>
  <cp:revision>18</cp:revision>
  <dc:subject/>
  <dc:title>Principios de la Bioética</dc:title>
</cp:coreProperties>
</file>