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F0B-2553-42CE-8D8C-D8ACB308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B33-68A4-4E16-91F6-53B03FCA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0F0-7BC9-43E9-9CB2-96058A9E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928-8C48-42C6-A950-5BD89669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3D5-CED6-46C3-8D6D-F4A77E09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C72-8E26-4D68-838A-869586AE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E39-F519-4008-8A2F-D58A20E1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CF9-440E-4E4D-86FE-86267F47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B886-BFEE-4BFA-BABC-BB642544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CB9-46EF-4FC5-AE50-AC80694C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3F0-CA7A-498E-A809-0A44B1BF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1A9-A8F5-433C-81F6-02173AD1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3D4F-D731-4CF8-BB20-398FAA15F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1905120"/>
          <a:ext cx="6248160" cy="4624200"/>
        </p:xfrm>
        <a:graphic>
          <a:graphicData uri="http://schemas.openxmlformats.org/drawingml/2006/table">
            <a:tbl>
              <a:tblPr/>
              <a:tblGrid>
                <a:gridCol w="320040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it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ntit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ño Abi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port /Confi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ic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oté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rim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iabil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ño Predefin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tralidad /Dista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610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FOQUE FENOMENOLÓGICO (Taylor y Bogd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La investigación Cualitativa es Indu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Se ve al escenario y a los actores desde una perspectiva hol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Sensibilidad frente a los efectos que el investigador provoca en el o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Trata de comprender a las personas dentro de su propio marco de ref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610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FOQUE FENOMENOLÓGICO (Taylor y Bogd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El investigador suspende sus creencias, perpectivas y predispos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Todas las perspectivas son valiosas (no discrimin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Humanistas (No reducen las personas a núme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Énfasis en la validez de su investig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La investigación  cualitativa es un 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a Disputa “Cualitativo Contra Cuantitativ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perspectiva complemen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e sitúan en dimensiones de Análisis difer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 DE REFER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LOR Y BOGD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RODUCCIÓN A LOS MÉTODOS CUALITATIVOS DE INVESTIGACIÓ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INTRODUCCIÓN e inicio 1er Capítu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junto de Técnicas o Paradig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paradigma, responden en forma específica a las preguntas Epistemológic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es la realidad? ¿Qué es Conocer? ¿Cómo generamos conocimiento váli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ra aplicación de técnicas llamadas cualitativas en forma estandarizada no garantiza una investigación cualitativa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 metodologías cualitativa sitúan al observador en el contexto de lo que observa o invest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n una perspectiva integral, que no aborda en forma parcial al sujeto no lo reduce a números o indicadores d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ercanía con el objeto de estudio y la evaluación del contexto de investigación es lo que da confiabilidad a los da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studios Cualitativos suelen tener mayor riqueza de contexto, lo que permite un mayor análisis teórico y empírico del fenómeno y su caus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studios cualitativos permiten conocer las subjetividad de las personas y sus comportamientos cotidian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33:57Z</dcterms:created>
  <dc:creator>Mandi Mandi</dc:creator>
  <dc:description/>
  <dc:language>en-US</dc:language>
  <cp:lastModifiedBy>Mandi Mandi</cp:lastModifiedBy>
  <dcterms:modified xsi:type="dcterms:W3CDTF">2006-04-17T14:30:19Z</dcterms:modified>
  <cp:revision>13</cp:revision>
  <dc:subject/>
  <dc:title> METODOLOGÍAS CUALITATIVAS</dc:title>
</cp:coreProperties>
</file>