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891-8853-4787-BB50-8D9DA869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016-070F-43F7-9CB4-C58F952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4F8-8021-4974-86C4-D5968F3D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60D-2BAF-4E96-A513-BC0772B4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A65-89A1-4705-8327-4B6DCB8A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575-E179-4A67-B231-B88B2B8F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6E5-D4CB-49C7-B4AD-03D9F7AD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542-D963-46EA-898D-C29CD279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325-DA75-45FB-9C53-60B68D96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5EF-8E98-4743-8028-AAA204E4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4AC-C234-4CE5-9A2C-E9712412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46A-5B12-4ED2-9901-54ECCBA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198D-99B1-42B6-8F51-D8BE6941E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905120"/>
          <a:ext cx="6248160" cy="4624200"/>
        </p:xfrm>
        <a:graphic>
          <a:graphicData uri="http://schemas.openxmlformats.org/drawingml/2006/table">
            <a:tbl>
              <a:tblPr/>
              <a:tblGrid>
                <a:gridCol w="320040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A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 /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ic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ot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ri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Predefi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idad /Dist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Cualitativa es In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 ve al escenario y a los actores desde una perspectiva h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nsibilidad frente a los efectos que el investigador provoca en el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rata de comprender a las personas dentro de su propio marco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El investigador suspende sus creencias, perpectivas y predis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odas las perspectivas son valiosas (no discrimin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Humanistas (No reducen las personas a núm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Énfasis en la validez de su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 cualitativa es un 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a Disputa “Cualitativo Contra Cuantitativ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perspectiva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sitúan en dimensiones de Análisi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 DE REFER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OR Y BOG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CIÓN A LOS MÉTODOS CUALITATIVOS DE INVESTIGAC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NTRODUCCIÓN e inicio 1er Capítu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junto de Técnicas o Paradig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paradigma, responden en forma específica a las preguntas Epistemológ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la realidad? ¿Qué es Conocer? ¿Cómo generamos conocimiento váli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ra aplicación de técnicas llamadas cualitativas en forma estandarizada no garantiza una investigación cualitativa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metodologías cualitativa sitúan al observador en el contexto de lo que observa o invest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perspectiva integral, que no aborda en forma parcial al sujeto no lo reduce a números o indicadores d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ercanía con el objeto de estudio y la evaluación del contexto de investigación es lo que da confiabilidad a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suelen tener mayor riqueza de contexto, lo que permite un mayor análisis teórico y empírico del fenómeno y su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permiten conocer las subjetividad de las personas y sus comportamientos cotidian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33:57Z</dcterms:created>
  <dc:creator>Mandi Mandi</dc:creator>
  <dc:description/>
  <dc:language>en-US</dc:language>
  <cp:lastModifiedBy>Mandi Mandi</cp:lastModifiedBy>
  <dcterms:modified xsi:type="dcterms:W3CDTF">2006-04-17T14:30:19Z</dcterms:modified>
  <cp:revision>13</cp:revision>
  <dc:subject/>
  <dc:title> METODOLOGÍAS CUALITATIVAS</dc:title>
</cp:coreProperties>
</file>