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5AC1-58DF-40B3-9A2F-BF401DAEA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B0D1-964E-42B8-9D4B-A332AF95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B22C-B4D3-47BF-89F7-331F65D88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FF09-AD45-4764-A985-D17D83655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2ADB-EF06-4C66-96A6-767283F33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5FAE-FB8A-4CA8-ADC4-929E7465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D469-5ED2-4555-9569-53646F1B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2393-F710-468D-8A6B-76F02B9B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C098-EC28-4B97-9FF4-4779BE03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E996-5470-4AB9-8FA5-486FC484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4E9A-B853-4759-AEF0-3F7AA056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3589-0DDE-4F4B-94E1-8D588C81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4ABD-95B0-41E5-B9F1-180FF8B97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219320" y="1905120"/>
          <a:ext cx="6248160" cy="4624200"/>
        </p:xfrm>
        <a:graphic>
          <a:graphicData uri="http://schemas.openxmlformats.org/drawingml/2006/table">
            <a:tbl>
              <a:tblPr/>
              <a:tblGrid>
                <a:gridCol w="3200400"/>
                <a:gridCol w="3047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ita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ntita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e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eño Abier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pport /Confian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lic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otét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erimen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fiabil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eño Predefini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utralidad /Dista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610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ENFOQUE FENOMENOLÓGICO (Taylor y Bogd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La investigación Cualitativa es Induc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Se ve al escenario y a los actores desde una perspectiva holís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Sensibilidad frente a los efectos que el investigador provoca en el o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Trata de comprender a las personas dentro de su propio marco de refe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610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ENFOQUE FENOMENOLÓGICO (Taylor y Bogd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El investigador suspende sus creencias, perpectivas y predisposi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Todas las perspectivas son valiosas (no discrimin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Humanistas (No reducen las personas a númer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Énfasis en la validez de su investig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La investigación  cualitativa es un a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a Disputa “Cualitativo Contra Cuantitativ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 perspectiva complementa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se sitúan en dimensiones de Análisis diferen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O DE REFERENC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LOR Y BOGD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RODUCCIÓN A LOS MÉTODOS CUALITATIVOS DE INVESTIGACIÓ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INTRODUCCIÓN e inicio 1er Capítu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junto de Técnicas o Paradigm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 paradigma, responden en forma específica a las preguntas Epistemológic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é es la realidad? ¿Qué es Conocer? ¿Cómo generamos conocimiento váli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era aplicación de técnicas llamadas cualitativas en forma estandarizada no garantiza una investigación cualitativa de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 metodologías cualitativa sitúan al observador en el contexto de lo que observa o investi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n una perspectiva integral, que no aborda en forma parcial al sujeto no lo reduce a números o indicadores de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9320" y="213372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ercanía con el objeto de estudio y la evaluación del contexto de investigación es lo que da confiabilidad a los dat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Estudios Cualitativos suelen tener mayor riqueza de contexto, lo que permite un mayor análisis teórico y empírico del fenómeno y su caus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estudios cualitativos permiten conocer las subjetividad de las personas y sus comportamientos cotidian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6:33:57Z</dcterms:created>
  <dc:creator>Mandi Mandi</dc:creator>
  <dc:description/>
  <dc:language>en-US</dc:language>
  <cp:lastModifiedBy>Mandi Mandi</cp:lastModifiedBy>
  <dcterms:modified xsi:type="dcterms:W3CDTF">2006-04-17T14:30:19Z</dcterms:modified>
  <cp:revision>13</cp:revision>
  <dc:subject/>
  <dc:title> METODOLOGÍAS CUALITATIVAS</dc:title>
</cp:coreProperties>
</file>