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4670-9536-4693-8AA6-3A78E8DB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13FD-1B93-475F-91CA-CF0570AC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3AC-C68D-4470-AEA1-1115FBCB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1C5-0606-4C25-B047-02E738176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0E4-570A-4AA9-A12F-281F9671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5682-376D-4548-8BE7-406BF903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477-A26D-44C4-BC89-53092D15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1A97-7F5A-4F64-8DB7-55DF4AD0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6C6-F11B-4D52-9317-F34B6A16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6A8-28CF-40A8-81E9-F3FC60B3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704-61CA-493B-BA69-5BCDF418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9F3-951E-47BE-9A69-B86D6626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47B0-CCEB-478E-9BF9-8DE93E47A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19320" y="1905120"/>
          <a:ext cx="6248160" cy="4624200"/>
        </p:xfrm>
        <a:graphic>
          <a:graphicData uri="http://schemas.openxmlformats.org/drawingml/2006/table">
            <a:tbl>
              <a:tblPr/>
              <a:tblGrid>
                <a:gridCol w="3200400"/>
                <a:gridCol w="30477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l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antit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res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t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ide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Abier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pport /Confian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lic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otét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rime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fiab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eño Predefini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utralidad /Dista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Cualitativa es Induc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 ve al escenario y a los actores desde una perspectiva holí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Sensibilidad frente a los efectos que el investigador provoca en el o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rata de comprender a las personas dentro de su propio marco de refe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610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ENFOQUE FENOMENOLÓGICO (Taylor y Bogda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El investigador suspende sus creencias, perpectivas y predisposi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Todas las perspectivas son valiosas (no discrimin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Humanistas (No reducen las personas a númer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Énfasis en la validez de su investig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Arial"/>
              </a:rPr>
              <a:t>-La investigación  cualitativa es un 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sa Disputa “Cualitativo Contra Cuantitativo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perspectiva complementari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 sitúan en dimensiones de Análisis difere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O DE REFER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OR Y BOGD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RODUCCIÓN A LOS MÉTODOS CUALITATIVOS DE INVESTIGACIÓ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INTRODUCCIÓN e inicio 1er Capítu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junto de Técnicas o Paradigm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o paradigma, responden en forma específica a las preguntas Epistemológ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Qué es la realidad? ¿Qué es Conocer? ¿Cómo generamos conocimiento váli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ra aplicación de técnicas llamadas cualitativas en forma estandarizada no garantiza una investigación cualitativa de 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metodologías cualitativa sitúan al observador en el contexto de lo que observa o investi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perspectiva integral, que no aborda en forma parcial al sujeto no lo reduce a números o indicadores de vari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213372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ercanía con el objeto de estudio y la evaluación del contexto de investigación es lo que da confiabilidad a los dat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suelen tener mayor riqueza de contexto, lo que permite un mayor análisis teórico y empírico del fenómeno y su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5e75"/>
            </a:gs>
            <a:gs pos="100000">
              <a:srgbClr val="99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Arial"/>
              </a:rPr>
              <a:t>METODOLOGÍAS CUALITA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estudios cualitativos permiten conocer las subjetividad de las personas y sus comportamientos cotidian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16:33:57Z</dcterms:created>
  <dc:creator>Mandi Mandi</dc:creator>
  <dc:description/>
  <dc:language>en-US</dc:language>
  <cp:lastModifiedBy>Mandi Mandi</cp:lastModifiedBy>
  <dcterms:modified xsi:type="dcterms:W3CDTF">2006-04-17T14:30:19Z</dcterms:modified>
  <cp:revision>13</cp:revision>
  <dc:subject/>
  <dc:title> METODOLOGÍAS CUALITATIVAS</dc:title>
</cp:coreProperties>
</file>