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76F-0585-4DCC-A4F2-3C73986B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4A8-D8A7-4E07-9D6E-B8DB9EFD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519-BCCA-44A0-9C04-68EE5F78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B33-2C5C-46F0-80F6-5A3413B2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AF0-06E4-449E-A804-5B360F0A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E63-2BE2-44B1-9E8C-2458C536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1CA-9883-4994-8F5B-B8066BBD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538-27B3-4A96-93D8-A8B0D92A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3B5-3CEF-4F8D-AFF8-D27A1659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132-A0C4-42B2-8EBF-5F603893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11B-CBD1-463A-9922-38714ED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208-2CDF-4362-A1E0-AEE1466C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F220-7909-4FCF-BCE4-E832BF805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sa que remite a otra”  Estructura doble: El Significante y el sign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diación: interior-exterior/ realidad-idealida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exión del hombre con las estructuras de sentid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ción ritual de la vida cotidian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apa y orquesta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stido, Colores, Cocinar alimentos;  Ruido-Silencio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s fisiológicas de los 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a la base del comportamiento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rpo simétrico (Izquierdo/Derecho Bueno y Ma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miento Humano es binario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os de pa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ógica de Sacrif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Polis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Materi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Con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SIM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ece con la hominización (p.e. Cavernas del Paleolítico, arquetipo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ombre es racional, pero fundamentalmente es simbó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so (Convención/Signo)-Consentimiento(No convención/Símbo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alidad es simbólica: “Mundo Construi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 dimensiones de la 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ógica, técnica, expresiva (da un sentido). (Entrelazad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. Expresiv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sta nublado va a llover)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o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nda tricolor indica autoridad política) Metoni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ímbolos.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áfora) La  cruz representa a Dios (de un contexto a otro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ágenes Sensoria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cústicas, visu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ercepción a través de metáforas aprendidas socialm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n una estructura que requiere de un registro detallado y del análisis de su estructura para conocer su significado y forma de oper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de la magia y la hechic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Sig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ino de Viñ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áfora – Relaciones Paradig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onimia – Relaciones Meton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l Espacio y Tiempo Social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grado:Anormal/Intemporal/Ambiguo/Marginal; Profano:normal/ temporal/delimitado/Central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nsación Ritu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terialidad de las ideas abstract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emism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pasado Común – Grupo –Halcones blanco- Cornejas Negras-  Si nosotros Halcones, ellos cornejas – Antepasado Halc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lazamiento (De un objeto a otr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6:29:22Z</dcterms:created>
  <dc:creator>Mandi Mandi</dc:creator>
  <dc:description/>
  <dc:language>en-US</dc:language>
  <cp:lastModifiedBy>Mandi Mandi</cp:lastModifiedBy>
  <dcterms:modified xsi:type="dcterms:W3CDTF">2007-08-06T17:10:12Z</dcterms:modified>
  <cp:revision>6</cp:revision>
  <dc:subject/>
  <dc:title>Presentación de PowerPoint</dc:title>
</cp:coreProperties>
</file>