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031-3501-429E-8193-09AB94D4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402-97FD-4E89-83E5-DC63D3FB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3CA-F865-4162-9D0D-42C2AA13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E54-51FA-41AC-A28E-DEBC0CF9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F27-4863-4E0E-A7F1-9681CE11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D3E-E43C-4BF0-8C8D-70E9FB56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82A-6077-4E8A-8B18-0D91DE24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158-81E7-47F7-B9EE-2A2904BD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FD7-3F6C-4062-AFBC-759A9F9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83A-5557-415A-B1CF-15FEF083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7D5-A514-4387-AD9C-BAA4B52A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922-11D0-49DC-87E3-9FFE1FB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0536-86AF-46BF-81A0-3F66C1B36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sa que remite a otra”  Estructura doble: El Significante y el sign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diación: interior-exterior/ realidad-idealida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exión del hombre con las estructuras de sentid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ción ritual de la vida cotidian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apa y orquesta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stido, Colores, Cocinar alimentos;  Ruido-Silencio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s fisiológicas de los 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a la base del comportamiento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rpo simétrico (Izquierdo/Derecho Bueno y Ma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miento Humano es binario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os de pa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gica de Sacrif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Polis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Materi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Con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SIM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ece con la hominización (p.e. Cavernas del Paleolítico, arquetipo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ombre es racional, pero fundamentalmente es simbó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o (Convención/Signo)-Consentimiento(No convención/Símbo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alidad es simbólica: “Mundo Construi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dimensiones de la 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ógica, técnica, expresiva (da un sentido). (Entrelazad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. Expresiv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sta nublado va a llover)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o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nda tricolor indica autoridad política) Metoni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mbolos.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áfora) La  cruz representa a Dios (de un contexto a otro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ágenes Sensoria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cústicas, visu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ercepción a través de metáforas aprendidas socialm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n una estructura que requiere de un registro detallado y del análisis de su estructura para conocer su significado y forma de oper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de la magia y la hechic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Sig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ino de Viñ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áfora – Relaciones Paradig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nimia – Relaciones Meton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l Espacio y Tiempo Social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grado:Anormal/Intemporal/Ambiguo/Marginal; Profano:normal/ temporal/delimitado/Central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nsación Ritu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terialidad de las ideas abstract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emism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pasado Común – Grupo –Halcones blanco- Cornejas Negras-  Si nosotros Halcones, ellos cornejas – Antepasado Halc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lazamiento (De un objeto a otr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6:29:22Z</dcterms:created>
  <dc:creator>Mandi Mandi</dc:creator>
  <dc:description/>
  <dc:language>en-US</dc:language>
  <cp:lastModifiedBy>Mandi Mandi</cp:lastModifiedBy>
  <dcterms:modified xsi:type="dcterms:W3CDTF">2007-08-06T17:10:12Z</dcterms:modified>
  <cp:revision>6</cp:revision>
  <dc:subject/>
  <dc:title>Presentación de PowerPoint</dc:title>
</cp:coreProperties>
</file>