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A1E9-8896-4E2B-8128-994F88E0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7A22-B672-4819-BF50-E70CECD6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290-F2E2-4575-8E3C-0AA1DCA3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69C-5254-43FF-946B-B7DCDE87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0CA2-7079-47D3-A9D4-2A7BCE21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FFFD-BB35-4277-BA93-516F0032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0BA0-348C-41FA-ABF3-8E6DB4FB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ED52-17DB-460B-9578-9CBDD9AA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E82-CD7D-4F3A-887A-4479CFB0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CD7-8323-40C8-B8E1-DC69E547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49DF-8E88-4F8C-89CC-F8F658B8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FA9-BD38-4001-A272-9DA5FDDF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96BE-4430-4CF1-9FA9-9FF781723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2133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BOL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cosa que remite a otra”  Estructura doble: El Significante y el signifi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ediación: interior-exterior/ realidad-idealidad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exión del hombre con las estructuras de sentid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ción ritual de la vida cotidiana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mapa y orquesta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estido, Colores, Cocinar alimentos;  Ruido-Silencio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s fisiológicas de los sistemas simból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ñales a la base del comportamiento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erpo simétrico (Izquierdo/Derecho Bueno y Ma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imiento Humano es binario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os de pa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ógica de Sacrif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360" y="2133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BOL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Polis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Materi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Cona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DAD SIMBÓ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rece con la hominización (p.e. Cavernas del Paleolítico, arquetipo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hombre es racional, pero fundamentalmente es simból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so (Convención/Signo)-Consentimiento(No convención/Símbo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alidad es simbólica: “Mundo Construid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s dimensiones de la acció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ógica, técnica, expresiva (da un sentido). (Entrelazad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. Expresiv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ñales (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sta nublado va a llover) Caus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os (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banda tricolor indica autoridad política) Metoni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ímbolos.(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áfora) La  cruz representa a Dios (de un contexto a otro)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ágenes Sensoria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cústicas, visua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ercepción a través de metáforas aprendidas socialm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STEMAS SIMBÓL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n una estructura que requiere de un registro detallado y del análisis de su estructura para conocer su significado y forma de oper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ctura de la magia y la hechice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 de Sig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ino de Viñ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áfora – Relaciones Paradigmá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onimia – Relaciones Metoní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mites del Espacio y Tiempo Social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grado:Anormal/Intemporal/Ambiguo/Marginal; Profano:normal/ temporal/delimitado/Central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ensación Ritu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aterialidad de las ideas abstracta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emism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pasado Común – Grupo –Halcones blanco- Cornejas Negras-  Si nosotros Halcones, ellos cornejas – Antepasado Halc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lazamiento (De un objeto a otr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06:29:22Z</dcterms:created>
  <dc:creator>Mandi Mandi</dc:creator>
  <dc:description/>
  <dc:language>en-US</dc:language>
  <cp:lastModifiedBy>Mandi Mandi</cp:lastModifiedBy>
  <dcterms:modified xsi:type="dcterms:W3CDTF">2007-08-06T17:10:12Z</dcterms:modified>
  <cp:revision>6</cp:revision>
  <dc:subject/>
  <dc:title>Presentación de PowerPoint</dc:title>
</cp:coreProperties>
</file>