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4D16-4ADA-4A87-BABF-5EE366238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22BA9-03D0-4BDD-B353-688A0A469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787C-797E-458E-9C78-FED442CE9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7322-6D53-442B-A605-79C4084F0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5AF7-9B9F-499B-B3AA-6A0674A96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8895-4869-4CA1-9215-CE9ED3013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D5F3-A421-4014-A5D9-90699A93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E53D-6434-46BC-937F-65C8EA781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857-2FB3-47A8-AFD2-B804F2E78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A1E2-48E5-4F65-8DCD-5D6324BC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510A-E312-4627-9BA1-769E8BE23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20C46-39D6-4E28-8BE9-D1D1D6C3A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819C5-8F86-4886-908F-ACF41BB52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osa que remite a otra”  Estructura doble: El Significante y el signifi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mediación: interior-exterior/ realidad-idealidad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exión del hombre con las estructuras de sentid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504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esentación ritual de la vida cotidiana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mapa y orquesta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Vestido, Colores, Cocinar alimentos;  Ruido-Silencio)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s fisiológicas de los sistemas simból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ñales a la base del comportamiento a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erpo simétrico (Izquierdo/Derecho Bueno y Ma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vimiento Humano es binario</a:t>
            </a: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tos de pas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ógica de Sacrifici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-360" y="2133720"/>
            <a:ext cx="7620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BOLO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Polise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-Materi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-Conac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52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DAD SIMB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arece con la hominización (p.e. Cavernas del Paleolítico, arquetipos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hombre es racional, pero fundamentalmente es simból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so (Convención/Signo)-Consentimiento(No convención/Símbol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ealidad es simbólica: “Mundo Construido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80880" y="11426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es dimensiones de la acción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ógica, técnica, expresiva (da un sentido). (Entrelazad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. Expresivas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ñales 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esta nublado va a llover) Causa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os 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banda tricolor indica autoridad política) Metonim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ímbolos.(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áfora) La  cruz representa a Dios (de un contexto a otro)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bje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ágenes Sensoriales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cústicas, visua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p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Percepción a través de metáforas aprendidas socialmen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33160" y="114264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STEMAS SIMBÓL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enen una estructura que requiere de un registro detallado y del análisis de su estructura para conocer su significado y forma de oper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ructura de la magia y la hechicerí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stema de Sign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ino de Viña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áfora – Relaciones Paradigmá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tonimia – Relaciones Metoní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ímites del Espacio y Tiempo Social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grado:Anormal/Intemporal/Ambiguo/Marginal; Profano:normal/ temporal/delimitado/Central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27240" y="304920"/>
            <a:ext cx="67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URA Y SIGNIFICA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ensación Ritual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materialidad de las ideas abstracta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temism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epasado Común – Grupo –Halcones blanco- Cornejas Negras-  Si nosotros Halcones, ellos cornejas – Antepasado Halc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lazamiento (De un objeto a otro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06:29:22Z</dcterms:created>
  <dc:creator>Mandi Mandi</dc:creator>
  <dc:description/>
  <dc:language>en-US</dc:language>
  <cp:lastModifiedBy>Mandi Mandi</cp:lastModifiedBy>
  <dcterms:modified xsi:type="dcterms:W3CDTF">2007-08-06T17:10:12Z</dcterms:modified>
  <cp:revision>6</cp:revision>
  <dc:subject/>
  <dc:title>Presentación de PowerPoint</dc:title>
</cp:coreProperties>
</file>