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3B3-61D4-4BA0-A3CB-AC919583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F5D-3403-4848-8635-DA6C9393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0DD-95F8-4BDB-B601-B6D81155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AD1-CE80-4558-B109-1F1514A5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DBA-9FC7-4833-8635-D13E5D1A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A4E-700F-4C19-9226-37832C10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6A3-9B71-40FC-87D9-5C8733BF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042-6851-4175-82E4-742170F9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28B-3DF2-4E84-B01C-965F585E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C07-54C9-41AA-AC66-9D9B12CB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F0D-D0B6-4645-8F05-B0AA9F3E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71D-2F5F-45F5-8395-3D5D85C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CD1E-7032-4E17-93E8-9B943808B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sa que remite a otra”  Estructura doble: El Significante y el sig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iación: interior-exterior/ realidad-idealida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exión del hombre con las estructuras de sentid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ción ritual de la vida cotidian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apa y orquesta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stido, Colores, Cocinar alimentos;  Ruido-Silencio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s fisiológicas de los 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a la base del comportamiento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 simétrico (Izquierdo/Derecho Bueno y Ma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miento Humano es binario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s de pa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gica de Sacrif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Polis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Materi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Con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SIM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ece con la hominización (p.e. Cavernas del Paleolítico, arquetip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ombre es racional, pero fundamentalmente es simbó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o (Convención/Signo)-Consentimiento(No convención/Símbo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alidad es simbólica: “Mundo Construi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dimensiones de la 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ca, técnica, expresiva (da un sentido). (Entrelazad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. Expresiv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sta nublado va a llover)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o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nda tricolor indica autoridad política) Metoni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mbolos.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áfora) La  cruz representa a Dios (de un contexto a otro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ágenes Sensoria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ústicas, visu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ercepción a través de metáforas aprendidas social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n una estructura que requiere de un registro detallado y del análisis de su estructura para conocer su significado y forma de oper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de la magia y la hechic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Sig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ino de Viñ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áfora – Relaciones Paradig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nimia – Relaciones Meton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l Espacio y Tiempo Social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grado:Anormal/Intemporal/Ambiguo/Marginal; Profano:normal/ temporal/delimitado/Central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ción Ritu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terialidad de las ideas abstract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emism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pasado Común – Grupo –Halcones blanco- Cornejas Negras-  Si nosotros Halcones, ellos cornejas – Antepasado Halc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azamiento (De un objeto a otr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6:29:22Z</dcterms:created>
  <dc:creator>Mandi Mandi</dc:creator>
  <dc:description/>
  <dc:language>en-US</dc:language>
  <cp:lastModifiedBy>Mandi Mandi</cp:lastModifiedBy>
  <dcterms:modified xsi:type="dcterms:W3CDTF">2007-08-06T17:10:12Z</dcterms:modified>
  <cp:revision>6</cp:revision>
  <dc:subject/>
  <dc:title>Presentación de PowerPoint</dc:title>
</cp:coreProperties>
</file>