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E30-069E-40F2-B148-153D6B1E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0C3-15E0-44DE-8BF4-DFFAC19D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D9F-30F8-4295-99D7-99CA9319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DE1-B1E2-4232-B2A7-7F42FFDB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512-F5BA-4E0D-B002-36519EB4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876-7D6A-4DF1-9277-B059E84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101-BCEC-4C3A-A5C9-802C138B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174-6E56-497C-9257-016FF9DF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F28-F1F3-4AED-A6B0-9EC31375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6BE-D23A-4E10-9545-83A8A81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B9E-38A3-47D2-A399-83F0BF0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D23-52A4-463F-B8AD-36D0CC78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7F80-52CC-40AF-94DA-294935FB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hombre ha sido definido como animal social. La enculturación no es posible sin un soporte social.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j: Hombres lob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námicas, en permanente cambi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ociadas a “Temporalidad”, entendida como la trayectoria biográfica de un individuo o grupo, dentro de una cultura o subcultura en permanente evolu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ituidas por múltiples subculturas (culturas locales, por ej., diferenciaciones por sexo, edad, diversos credos…et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ultura (C. Kluckhon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- El modo total de vida de un puebl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-La herencia social que el individuo recibe de su grup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-Un modo de pensar, sentir y creer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-Una abstracción a partir de la conduct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-Una teoría elaborada por Antropólogos acerca del modo como un grupo humano se comporta efectivament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.-Un depósito de conocimientos compartido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.-Un conjunto de orientaciones regladas para afrontar   problemas recurrent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8.-Un comportamiento aprendid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9.-Un mecanismo para la regulación normativa del comportamient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.-Un conjunto de técnicas para ajustarse al ambiente exterior tanto como al resto de los hombr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l hombre es uno, las culturas varían”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3716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ría el rasgo humano por excelencia, nos remite a una historia del hombre en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:fuego,los alimentos co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 puede entender como un desarrollo adaptativo del hombre en relación a su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. Esquimales y Aymaras como ejemplo de desarroll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como  respuesta adaptativa incluye el desarrollo de instituciones, formas mas de pensamiento y objetos mate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emos la definición de Tyl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junto complejo que incluye conocimientos, creencias, arte moral, ley, costumbre y otras capacidades y hábitos adquiridos por el hombre como miembro de una socie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imera lectura podría ser: ya que existen ambientes diferentes existirán diversas fórmulas adaptativas que cada grupo social ha tenido que desarrollar. Consecuencias : determinism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a lectura: La cultura es la parte del ambiente hecha por el h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5146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érmino “cultura” es siempre una abstracción, es decir, una construcción teórica basada en el comportamiento y la interrelación de los individuos de un 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o largo del tiempo se han intentado numerosas definiciones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 significado inicial de raíz latina “cultivo de”, data del año 1420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(Tylor, Cultura Primitiva, Londres, 1871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s tarde el término amplía su significado, siendo utilizado para describir la manera en que el hombre desarrolla su vida en soc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definiciones surgen de lo que podríamos llamar una “matriz social”, que considera elementos de diversa naturalez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cias y valo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bitos costumbres activida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, obje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s y mecanismos de interacción, Símbolos, ideas y pensamien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"un sistema de concepciones heredadas expresado en formas simbólicas por medio de  las cuales las personas se comunican, perpetúan, y desarrollan su conocimiento y actitudes hacia la vida." </a:t>
            </a:r>
            <a:br>
              <a:rPr sz="4000"/>
            </a:b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lifford Geertz (1966)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junto de rasgos distintivos, espirituales y materiales, intelectuales y afectivos, que caracterizan a una sociedad o a un grupo social. Engloba, además de las artes y de las letras, los modos de vida, los derechos fundamentales del ser humano, los sistemas de valores, las tradiciones y las creencias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NESCO (2002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5:00:14Z</dcterms:created>
  <dc:creator>Mandi Mandi</dc:creator>
  <dc:description/>
  <dc:language>en-US</dc:language>
  <cp:lastModifiedBy>AMANDITA</cp:lastModifiedBy>
  <dcterms:modified xsi:type="dcterms:W3CDTF">2007-08-01T17:39:12Z</dcterms:modified>
  <cp:revision>5</cp:revision>
  <dc:subject/>
  <dc:title>  La cultura como objeto de estudio concreto      El hombre ha sido definido como animal social. La socialización no es posible sin un soporte social.  Ej: Hombres lobo    </dc:title>
</cp:coreProperties>
</file>