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154-B619-4103-8394-F961B335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888-8FD5-4440-AAA0-EFCF16EA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881-A35F-4F88-AC21-4CD6E1AA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CFA-7978-4711-81E8-02DCC5E7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188-D1C8-4F4C-A982-A5278D9B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496-A1F6-4A3E-909E-8AA776C5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A83-6D14-4DA7-BCB5-B49BA371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31C-1A1D-40AB-B61F-1A569F92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613-94A0-483A-9895-458DAA0E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65F-0A9E-4C6F-B44A-FCF9A193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FA2-9EBA-4EBA-AD4C-5E5C68A9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974-1A81-475B-9550-7CA1709F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9E19-9BD3-44D6-A33C-102011FCF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l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hombre ha sido definido como animal social. La enculturación no es posible sin un soporte social.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j: Hombres lob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námicas, en permanente cambi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sociadas a “Temporalidad”, entendida como la trayectoria biográfica de un individuo o grupo, dentro de una cultura o subcultura en permanente evolución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stituidas por múltiples subculturas (culturas locales, por ej., diferenciaciones por sexo, edad, diversos credos…etc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ultura (C. Kluckhon)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.- El modo total de vida de un puebl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.-La herencia social que el individuo recibe de su grup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.-Un modo de pensar, sentir y creer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.-Una abstracción a partir de la conduct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5.-Una teoría elaborada por Antropólogos acerca del modo como un grupo humano se comporta efectivament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6.-Un depósito de conocimientos compartido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7.-Un conjunto de orientaciones regladas para afrontar   problemas recurrent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8.-Un comportamiento aprendid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9.-Un mecanismo para la regulación normativa del comportamient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0.-Un conjunto de técnicas para ajustarse al ambiente exterior tanto como al resto de los hombr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El hombre es uno, las culturas varían”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371600"/>
            <a:ext cx="830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sería el rasgo humano por excelencia, nos remite a una historia del hombre en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:fuego,los alimentos co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se puede entender como un desarrollo adaptativo del hombre en relación a su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. Esquimales y Aymaras como ejemplo de desarrollo tecn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37160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como  respuesta adaptativa incluye el desarrollo de instituciones, formas mas de pensamiento y objetos mate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emos la definición de Tyl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l conjunto complejo que incluye conocimientos, creencias, arte moral, ley, costumbre y otras capacidades y hábitos adquiridos por el hombre como miembro de una socie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37160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a primera lectura podría ser: ya que existen ambientes diferentes existirán diversas fórmulas adaptativas que cada grupo social ha tenido que desarrollar. Consecuencias : determinism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a lectura: La cultura es la parte del ambiente hecha por el ho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51460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érmino “cultura” es siempre una abstracción, es decir, una construcción teórica basada en el comportamiento y la interrelación de los individuos de un gru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o largo del tiempo se han intentado numerosas definiciones.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u significado inicial de raíz latina “cultivo de”, data del año 1420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(Tylor, Cultura Primitiva, Londres, 1871)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ás tarde el término amplía su significado, siendo utilizado para describir la manera en que el hombre desarrolla su vida en soc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s las definiciones surgen de lo que podríamos llamar una “matriz social”, que considera elementos de diversa naturalez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ncias y valo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bitos costumbres actividad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s, objeto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s y mecanismos de interacción, Símbolos, ideas y pensamient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"un sistema de concepciones heredadas expresado en formas simbólicas por medio de  las cuales las personas se comunican, perpetúan, y desarrollan su conocimiento y actitudes hacia la vida." </a:t>
            </a:r>
            <a:br>
              <a:rPr sz="4000"/>
            </a:b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lifford Geertz (1966)</a:t>
            </a: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junto de rasgos distintivos, espirituales y materiales, intelectuales y afectivos, que caracterizan a una sociedad o a un grupo social. Engloba, además de las artes y de las letras, los modos de vida, los derechos fundamentales del ser humano, los sistemas de valores, las tradiciones y las creencias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NESCO (2002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5:00:14Z</dcterms:created>
  <dc:creator>Mandi Mandi</dc:creator>
  <dc:description/>
  <dc:language>en-US</dc:language>
  <cp:lastModifiedBy>AMANDITA</cp:lastModifiedBy>
  <dcterms:modified xsi:type="dcterms:W3CDTF">2007-08-01T17:39:12Z</dcterms:modified>
  <cp:revision>5</cp:revision>
  <dc:subject/>
  <dc:title>  La cultura como objeto de estudio concreto      El hombre ha sido definido como animal social. La socialización no es posible sin un soporte social.  Ej: Hombres lobo    </dc:title>
</cp:coreProperties>
</file>