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A50-F4C6-4D22-A913-D293CEE7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B24-5518-4C44-BFAF-1D36FA98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73F-362D-4543-A3F5-A3F1F32D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E76-664B-467E-A413-68DF844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F81-4678-49E3-9553-FFE55D5B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D61-EA69-4A8E-81AD-FFB473AE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2A4-E59B-4247-8D8A-22B3F704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B5F-1EA1-4A9B-A3EE-78869AB2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77F-DD19-481B-A7E2-8F31F4C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2AE-93BE-44D0-9384-0910662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E8C-B0C4-4D55-AFFA-C73BA38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F54-30B2-4868-95BB-620FC86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0F99-8A07-4001-92A9-F466AB975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hombre ha sido definido como animal social. La enculturación no es posible sin un soporte social.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j: Hombres lob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námicas, en permanente cambi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ociadas a “Temporalidad”, entendida como la trayectoria biográfica de un individuo o grupo, dentro de una cultura o subcultura en permanente evolu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ituidas por múltiples subculturas (culturas locales, por ej., diferenciaciones por sexo, edad, diversos credos…et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ultura (C. Kluckhon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- El modo total de vida de un puebl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-La herencia social que el individuo recibe de su grup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-Un modo de pensar, sentir y creer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-Una abstracción a partir de la conduct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-Una teoría elaborada por Antropólogos acerca del modo como un grupo humano se comporta efectivament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.-Un depósito de conocimientos compartido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.-Un conjunto de orientaciones regladas para afrontar   problemas recurrent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8.-Un comportamiento aprendid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9.-Un mecanismo para la regulación normativa del comportamient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.-Un conjunto de técnicas para ajustarse al ambiente exterior tanto como al resto de los hombr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l hombre es uno, las culturas varían”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716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ría el rasgo humano por excelencia, nos remite a una historia del hombre en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:fuego,los alimentos co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 puede entender como un desarrollo adaptativo del hombre en relación a su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. Esquimales y Aymaras como ejemplo de desarroll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como  respuesta adaptativa incluye el desarrollo de instituciones, formas mas de pensamiento y objetos mate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emos la definición de Tyl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junto complejo que incluye conocimientos, creencias, arte moral, ley, costumbre y otras capacidades y hábitos adquiridos por el hombre como miembro de una socie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imera lectura podría ser: ya que existen ambientes diferentes existirán diversas fórmulas adaptativas que cada grupo social ha tenido que desarrollar. Consecuencias : determinism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a lectura: La cultura es la parte del ambiente hecha por el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érmino “cultura” es siempre una abstracción, es decir, una construcción teórica basada en el comportamiento y la interrelación de los individuos de un 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o largo del tiempo se han intentado numerosas definiciones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 significado inicial de raíz latina “cultivo de”, data del año 1420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(Tylor, Cultura Primitiva, Londres, 1871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s tarde el término amplía su significado, siendo utilizado para describir la manera en que el hombre desarrolla su vida en soc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definiciones surgen de lo que podríamos llamar una “matriz social”, que considera elementos de diversa naturale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cias y val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bitos costumbres activida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, obje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y mecanismos de interacción, Símbolos, ideas y pensamien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"un sistema de concepciones heredadas expresado en formas simbólicas por medio de  las cuales las personas se comunican, perpetúan, y desarrollan su conocimiento y actitudes hacia la vida." </a:t>
            </a:r>
            <a:br>
              <a:rPr sz="40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lifford Geertz (1966)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junto de rasgos distintivos, espirituales y materiales, intelectuales y afectivos, que caracterizan a una sociedad o a un grupo social. Engloba, además de las artes y de las letras, los modos de vida, los derechos fundamentales del ser humano, los sistemas de valores, las tradiciones y las creencia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NESCO (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5:00:14Z</dcterms:created>
  <dc:creator>Mandi Mandi</dc:creator>
  <dc:description/>
  <dc:language>en-US</dc:language>
  <cp:lastModifiedBy>AMANDITA</cp:lastModifiedBy>
  <dcterms:modified xsi:type="dcterms:W3CDTF">2007-08-01T17:39:12Z</dcterms:modified>
  <cp:revision>5</cp:revision>
  <dc:subject/>
  <dc:title>  La cultura como objeto de estudio concreto      El hombre ha sido definido como animal social. La socialización no es posible sin un soporte social.  Ej: Hombres lobo    </dc:title>
</cp:coreProperties>
</file>