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08B4-4F85-4F4D-81F2-E16077999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7C7E-2C01-4010-BD46-5AD01D90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2DF8-8334-46F4-BB65-971ADEA65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F6A9-32C6-4C2D-B74B-AD219FBF1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D036-2105-4FE7-A88F-F81C4C81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4FE5-FA1C-4013-8188-4CD528D3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91B4-7FDD-49E4-8123-8199CA92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DEAE-5E22-4600-AD0A-2F520D62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4652-8F69-4E11-AB3C-56D3C0CC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026E-7B13-40ED-AD90-B1812291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EEC8-4DBF-4FC9-AF92-3DF38139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22BF-88DF-49B8-85C3-936920A2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7A0B-7695-4FEA-8024-9BF2506FD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238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La cultura como objeto de estudio concreto</a:t>
            </a: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l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hombre ha sido definido como animal social. La enculturación no es posible sin un soporte social.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j: Hombres lobo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námicas, en permanente cambio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sociadas a “Temporalidad”, entendida como la trayectoria biográfica de un individuo o grupo, dentro de una cultura o subcultura en permanente evolución.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stituidas por múltiples subculturas (culturas locales, por ej., diferenciaciones por sexo, edad, diversos credos…etc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ultura (C. Kluckhon)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1.- El modo total de vida de un pueblo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2.-La herencia social que el individuo recibe de su grupo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3.-Un modo de pensar, sentir y creer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4.-Una abstracción a partir de la conducta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5.-Una teoría elaborada por Antropólogos acerca del modo como un grupo humano se comporta efectivamente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6.-Un depósito de conocimientos compartidos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7.-Un conjunto de orientaciones regladas para afrontar   problemas recurrentes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8.-Un comportamiento aprendido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9.-Un mecanismo para la regulación normativa del comportamiento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10.-Un conjunto de técnicas para ajustarse al ambiente exterior tanto como al resto de los hombres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El hombre es uno, las culturas varían”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La cultura como objeto de estudio concreto  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371600"/>
            <a:ext cx="8305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 cultura sería el rasgo humano por excelencia, nos remite a una historia del hombre en socie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j:fuego,los alimentos coc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 cultura se puede entender como un desarrollo adaptativo del hombre en relación a su amb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j. Esquimales y Aymaras como ejemplo de desarrollo tecno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La cultura como objeto de estudio concreto  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371600"/>
            <a:ext cx="8305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cultura como  respuesta adaptativa incluye el desarrollo de instituciones, formas mas de pensamiento y objetos materi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emos la definición de Tylo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l conjunto complejo que incluye conocimientos, creencias, arte moral, ley, costumbre y otras capacidades y hábitos adquiridos por el hombre como miembro de una socieda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s-ES_tradn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La cultura como objeto de estudio concreto  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371600"/>
            <a:ext cx="8305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na primera lectura podría ser: ya que existen ambientes diferentes existirán diversas fórmulas adaptativas que cada grupo social ha tenido que desarrollar. Consecuencias : determinismo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tra lectura: La cultura es la parte del ambiente hecha por el hom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514600"/>
            <a:ext cx="7848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término “cultura” es siempre una abstracción, es decir, una construcción teórica basada en el comportamiento y la interrelación de los individuos de un grup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46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 lo largo del tiempo se han intentado numerosas definiciones. 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u significado inicial de raíz latina “cultivo de”, data del año 1420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(Tylor, Cultura Primitiva, Londres, 1871)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ás tarde el término amplía su significado, siendo utilizado para describir la manera en que el hombre desarrolla su vida en socie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s las definiciones surgen de lo que podríamos llamar una “matriz social”, que considera elementos de diversa naturalez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encias y valor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ábitos costumbres actividad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s, objeto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s y mecanismos de interacción, Símbolos, ideas y pensamiento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"un sistema de concepciones heredadas expresado en formas simbólicas por medio de  las cuales las personas se comunican, perpetúan, y desarrollan su conocimiento y actitudes hacia la vida." </a:t>
            </a:r>
            <a:br>
              <a:rPr sz="4000"/>
            </a:b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Clifford Geertz (1966)</a:t>
            </a:r>
            <a:r>
              <a:rPr b="0" i="1" lang="es-E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junto de rasgos distintivos, espirituales y materiales, intelectuales y afectivos, que caracterizan a una sociedad o a un grupo social. Engloba, además de las artes y de las letras, los modos de vida, los derechos fundamentales del ser humano, los sistemas de valores, las tradiciones y las creencias.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UNESCO (2002)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05:00:14Z</dcterms:created>
  <dc:creator>Mandi Mandi</dc:creator>
  <dc:description/>
  <dc:language>en-US</dc:language>
  <cp:lastModifiedBy>AMANDITA</cp:lastModifiedBy>
  <dcterms:modified xsi:type="dcterms:W3CDTF">2007-08-01T17:39:12Z</dcterms:modified>
  <cp:revision>5</cp:revision>
  <dc:subject/>
  <dc:title>  La cultura como objeto de estudio concreto      El hombre ha sido definido como animal social. La socialización no es posible sin un soporte social.  Ej: Hombres lobo    </dc:title>
</cp:coreProperties>
</file>