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895B-1710-48AE-A33A-E2D790A09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BC3E-FC7C-484D-B840-B8649DEE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D8D9-08C6-4FD9-A33A-45797751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946E-598D-40B2-B2F0-9D4668F5F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D2E1-30E4-425D-8681-D65336D2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1C46-9B44-40A8-9336-E348A53C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C69D-FCA2-4B51-B974-D22CF7D2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7409-DC9B-4B90-874D-733DA640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9380-B0EA-4717-8F5B-00E74085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7F25-25C4-4563-BA39-E69E8BC7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E813-C6F8-49D9-B649-6F750B90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58BB-D7F6-4E1C-B3B9-C1056966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DAAB-5E7F-4A37-BA9A-2D8D36CEE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238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La cultura como objeto de estudio concreto</a:t>
            </a: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l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hombre ha sido definido como animal social. La enculturación no es posible sin un soporte social.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j: Hombres lobo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námicas, en permanente cambio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sociadas a “Temporalidad”, entendida como la trayectoria biográfica de un individuo o grupo, dentro de una cultura o subcultura en permanente evolución.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stituidas por múltiples subculturas (culturas locales, por ej., diferenciaciones por sexo, edad, diversos credos…etc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ultura (C. Kluckhon)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1.- El modo total de vida de un pueblo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2.-La herencia social que el individuo recibe de su grupo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3.-Un modo de pensar, sentir y creer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4.-Una abstracción a partir de la conducta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5.-Una teoría elaborada por Antropólogos acerca del modo como un grupo humano se comporta efectivamente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6.-Un depósito de conocimientos compartidos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7.-Un conjunto de orientaciones regladas para afrontar   problemas recurrentes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8.-Un comportamiento aprendido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9.-Un mecanismo para la regulación normativa del comportamiento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10.-Un conjunto de técnicas para ajustarse al ambiente exterior tanto como al resto de los hombres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El hombre es uno, las culturas varían”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La cultura como objeto de estudio concreto  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371600"/>
            <a:ext cx="8305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 cultura sería el rasgo humano por excelencia, nos remite a una historia del hombre en socie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j:fuego,los alimentos coc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 cultura se puede entender como un desarrollo adaptativo del hombre en relación a su amb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j. Esquimales y Aymaras como ejemplo de desarrollo tecno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La cultura como objeto de estudio concreto  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371600"/>
            <a:ext cx="8305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cultura como  respuesta adaptativa incluye el desarrollo de instituciones, formas mas de pensamiento y objetos materi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emos la definición de Tylo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l conjunto complejo que incluye conocimientos, creencias, arte moral, ley, costumbre y otras capacidades y hábitos adquiridos por el hombre como miembro de una socieda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La cultura como objeto de estudio concreto  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371600"/>
            <a:ext cx="8305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na primera lectura podría ser: ya que existen ambientes diferentes existirán diversas fórmulas adaptativas que cada grupo social ha tenido que desarrollar. Consecuencias : determinismo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tra lectura: La cultura es la parte del ambiente hecha por el hom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514600"/>
            <a:ext cx="7848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término “cultura” es siempre una abstracción, es decir, una construcción teórica basada en el comportamiento y la interrelación de los individuos de un grup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46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 lo largo del tiempo se han intentado numerosas definiciones. 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u significado inicial de raíz latina “cultivo de”, data del año 1420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(Tylor, Cultura Primitiva, Londres, 1871)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ás tarde el término amplía su significado, siendo utilizado para describir la manera en que el hombre desarrolla su vida en socie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s las definiciones surgen de lo que podríamos llamar una “matriz social”, que considera elementos de diversa naturalez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encias y valor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ábitos costumbres actividad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s, objeto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s y mecanismos de interacción, Símbolos, ideas y pensamiento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"un sistema de concepciones heredadas expresado en formas simbólicas por medio de  las cuales las personas se comunican, perpetúan, y desarrollan su conocimiento y actitudes hacia la vida." </a:t>
            </a:r>
            <a:br>
              <a:rPr sz="4000"/>
            </a:b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Clifford Geertz (1966)</a:t>
            </a:r>
            <a:r>
              <a:rPr b="0" i="1" lang="es-E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junto de rasgos distintivos, espirituales y materiales, intelectuales y afectivos, que caracterizan a una sociedad o a un grupo social. Engloba, además de las artes y de las letras, los modos de vida, los derechos fundamentales del ser humano, los sistemas de valores, las tradiciones y las creencias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UNESCO (2002)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05:00:14Z</dcterms:created>
  <dc:creator>Mandi Mandi</dc:creator>
  <dc:description/>
  <dc:language>en-US</dc:language>
  <cp:lastModifiedBy>AMANDITA</cp:lastModifiedBy>
  <dcterms:modified xsi:type="dcterms:W3CDTF">2007-08-01T17:39:12Z</dcterms:modified>
  <cp:revision>5</cp:revision>
  <dc:subject/>
  <dc:title>  La cultura como objeto de estudio concreto      El hombre ha sido definido como animal social. La socialización no es posible sin un soporte social.  Ej: Hombres lobo    </dc:title>
</cp:coreProperties>
</file>