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F4F-34B6-4EE0-8452-C97C55BC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7D9-81AB-4EF3-B06F-4C173F2E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D3B-C7F8-4BC4-BECF-7584231B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1624-833F-438A-9120-DB81C45D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18A-2DC4-4827-9023-5B7AAD85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2913-326F-4571-B395-3664FD7D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10C-5AF4-442C-8BB5-67C229CD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3792-8B16-4B81-BB3D-F076A500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EFD0-B7DF-4CC8-B870-BCEE3BDC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7AB6-E0A8-4131-8B27-56FF5334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A1B2-6497-4AE8-903B-02E22356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9EC5-11F9-4855-B445-60BFE1BE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9602-0687-43D0-9E00-91969D843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l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hombre ha sido definido como animal social. La enculturación no es posible sin un soporte social.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j: Hombres lob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námicas, en permanente cambio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sociadas a “Temporalidad”, entendida como la trayectoria biográfica de un individuo o grupo, dentro de una cultura o subcultura en permanente evolución.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stituidas por múltiples subculturas (culturas locales, por ej., diferenciaciones por sexo, edad, diversos credos…etc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ultura (C. Kluckhon)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.- El modo total de vida de un puebl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.-La herencia social que el individuo recibe de su grup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.-Un modo de pensar, sentir y creer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4.-Una abstracción a partir de la conducta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5.-Una teoría elaborada por Antropólogos acerca del modo como un grupo humano se comporta efectivamente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6.-Un depósito de conocimientos compartido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7.-Un conjunto de orientaciones regladas para afrontar   problemas recurrente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8.-Un comportamiento aprendid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9.-Un mecanismo para la regulación normativa del comportamient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0.-Un conjunto de técnicas para ajustarse al ambiente exterior tanto como al resto de los hombre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El hombre es uno, las culturas varían”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 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371600"/>
            <a:ext cx="8305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cultura sería el rasgo humano por excelencia, nos remite a una historia del hombre en soc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:fuego,los alimentos coc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cultura se puede entender como un desarrollo adaptativo del hombre en relación a su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. Esquimales y Aymaras como ejemplo de desarrollo tecn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 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37160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ultura como  respuesta adaptativa incluye el desarrollo de instituciones, formas mas de pensamiento y objetos mater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emos la definición de Tyl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l conjunto complejo que incluye conocimientos, creencias, arte moral, ley, costumbre y otras capacidades y hábitos adquiridos por el hombre como miembro de una socie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 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37160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a primera lectura podría ser: ya que existen ambientes diferentes existirán diversas fórmulas adaptativas que cada grupo social ha tenido que desarrollar. Consecuencias : determinism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ra lectura: La cultura es la parte del ambiente hecha por el ho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514600"/>
            <a:ext cx="784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érmino “cultura” es siempre una abstracción, es decir, una construcción teórica basada en el comportamiento y la interrelación de los individuos de un gru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lo largo del tiempo se han intentado numerosas definiciones.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u significado inicial de raíz latina “cultivo de”, data del año 1420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(Tylor, Cultura Primitiva, Londres, 1871)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ás tarde el término amplía su significado, siendo utilizado para describir la manera en que el hombre desarrolla su vida en soci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s las definiciones surgen de lo que podríamos llamar una “matriz social”, que considera elementos de diversa naturalez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encias y valor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bitos costumbres actividad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s, objeto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s y mecanismos de interacción, Símbolos, ideas y pensamient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"un sistema de concepciones heredadas expresado en formas simbólicas por medio de  las cuales las personas se comunican, perpetúan, y desarrollan su conocimiento y actitudes hacia la vida." </a:t>
            </a:r>
            <a:br>
              <a:rPr sz="4000"/>
            </a:b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Clifford Geertz (1966)</a:t>
            </a:r>
            <a:r>
              <a:rPr b="0" i="1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junto de rasgos distintivos, espirituales y materiales, intelectuales y afectivos, que caracterizan a una sociedad o a un grupo social. Engloba, además de las artes y de las letras, los modos de vida, los derechos fundamentales del ser humano, los sistemas de valores, las tradiciones y las creencias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NESCO (2002)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5:00:14Z</dcterms:created>
  <dc:creator>Mandi Mandi</dc:creator>
  <dc:description/>
  <dc:language>en-US</dc:language>
  <cp:lastModifiedBy>AMANDITA</cp:lastModifiedBy>
  <dcterms:modified xsi:type="dcterms:W3CDTF">2007-08-01T17:39:12Z</dcterms:modified>
  <cp:revision>5</cp:revision>
  <dc:subject/>
  <dc:title>  La cultura como objeto de estudio concreto      El hombre ha sido definido como animal social. La socialización no es posible sin un soporte social.  Ej: Hombres lobo    </dc:title>
</cp:coreProperties>
</file>