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CCE-CC17-4C5C-983D-A00DDF01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64F-094E-44D0-94F7-ACEDDCD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FB5-8B9A-4791-B2AE-6F013769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B80-A41B-4D02-81A7-1770BFF3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AA0-7A19-4B72-8CE0-FE39C1AD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2A3-E61A-4149-9652-28755D1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1C6-39A0-4F7B-8761-CAEEEBED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AFE-7257-42E5-A87D-922A8D88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642-9063-43F1-A46F-E300C3CD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9F9-DC62-457C-A307-06E9B9C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ADB-962F-4B04-8847-BC841907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99D-D31A-44F8-BFFB-BFC2369A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A505-DFCB-4181-9B54-37553A28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ffffff"/>
                </a:solidFill>
                <a:latin typeface="Arial"/>
              </a:rPr>
              <a:t>Respuesta efectora   humoral 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3396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I. Pepper Fonoaudiología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spuesta humor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863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723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2756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2492280"/>
            <a:ext cx="2556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149720"/>
            <a:ext cx="255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3120" y="0"/>
            <a:ext cx="52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000" spc="-1" strike="noStrike">
                <a:solidFill>
                  <a:srgbClr val="000000"/>
                </a:solidFill>
                <a:latin typeface="Arial"/>
              </a:rPr>
              <a:t>ESTRATEGIAS en la respuesta efectora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46640" cy="6597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6165720"/>
            <a:ext cx="48243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91160" y="0"/>
            <a:ext cx="265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6800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6453360"/>
            <a:ext cx="475308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58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635280" y="6453360"/>
            <a:ext cx="417672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399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6524640"/>
            <a:ext cx="2808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920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35164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31040" cy="6697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6524640"/>
            <a:ext cx="19447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43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5877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Cl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Ex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55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932360" y="5300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99"/>
                </a:solidFill>
                <a:latin typeface="Arial"/>
              </a:rPr>
              <a:t>Vía al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500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651640" y="0"/>
            <a:ext cx="34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Vía de l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333399"/>
                </a:solidFill>
                <a:latin typeface="Arial"/>
              </a:rPr>
              <a:t>Lect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55640" y="-28440"/>
            <a:ext cx="734544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1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7188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1773360"/>
            <a:ext cx="374472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 Neutrali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924280"/>
            <a:ext cx="64818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Activar célula fagocí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932360" cy="76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0"/>
            <a:ext cx="3456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1.Anticuer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907920"/>
            <a:ext cx="446400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0"/>
            <a:ext cx="3384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2.Citoqui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907920"/>
            <a:ext cx="414036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844640"/>
            <a:ext cx="1295280" cy="6426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58920" y="2276640"/>
            <a:ext cx="608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Antigenos Intracel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47163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421000"/>
            <a:ext cx="3024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8000" y="765000"/>
            <a:ext cx="482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Respuesta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060640"/>
            <a:ext cx="374472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Citotóx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3429000"/>
            <a:ext cx="4896000" cy="6426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Beso de la Muerte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736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29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92360" y="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6:20:57Z</dcterms:created>
  <dc:creator>Usuario</dc:creator>
  <dc:description/>
  <dc:language>en-US</dc:language>
  <cp:lastModifiedBy>Usuario</cp:lastModifiedBy>
  <dcterms:modified xsi:type="dcterms:W3CDTF">2007-10-30T14:20:35Z</dcterms:modified>
  <cp:revision>6</cp:revision>
  <dc:subject/>
  <dc:title>Diapositiva 1</dc:title>
</cp:coreProperties>
</file>