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A8B-AB6E-4D65-BABA-0FB91DC6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256-C22D-4083-82D8-D0466B95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12E-7ABE-4C21-AF2D-C499AC23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8BC-0F16-46A3-ADD9-F6BB8E5F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0BB-B933-48CC-AC95-8CADDA6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D31-2BAA-42D4-9985-892CD29C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1A2-ACCB-46EE-8FFA-57E44B3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658-0F6E-4667-B346-B5494925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BE1-052D-4D0F-84E0-724281E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CDF-470E-4ED3-B442-F950CA3C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210-A21E-46AE-9B60-130D529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015-338A-4F46-B87D-7822D00D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416E-C855-4B3A-9D41-B56ACE20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143000" y="1371600"/>
            <a:ext cx="73915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Etanol en el hí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32628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ñ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200720" cy="54626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tabolismo del Etano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etanol es oxidado por la alcohol deshidrogenasa, presente en en citosol de células de la mucosa gástrica y del hígado  dando como producto </a:t>
            </a: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acetaldeh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es oxidado por la acetaldehido deshidrogenasa dando como producto acet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n ambas reacciones se ocupa NAD y se genera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l daño hepático están dado básicamente por 2 tipos de alter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sbalance de la  relación NADH/NAD que conduce a alteraciones metabó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fectos del aumento de Acetaldeh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fectos del alcohol en el hig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umento del NADH y disminución del N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a la síntesis de lípidos produciendo esteato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actividad del ciclo de Kre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ido lá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umento de ac. U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sbalance energé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ntro del hepatocito se genera una condición de hipermetabolismo: aumento del consumo de oxíg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xiste daño mitocondrial por efecto del alcohol: desacoplamiento de la cadena respirato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enor producción de energía, consumo de ATP que no se utiliza adecuadamente: producción de calor (generación de calorías vací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trastornos funcionales del hepatocito, y la disminución del número de ellos, causa una incapacidad del hígado para metabolizar hormonas normalmente y detoxificar productos endógenos y exógenos (en esto es especialmente importante la inducción del sistema M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acetaldehido induce daño hepático principalmente a travé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ón a estructuras proteicas intracelulares: fenómenos de autoinmunidad, inflamación y daño 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flamación favorecida por endotoxinas provenientes del intestino debido a cambio de permeabilidad inte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íntesis de colágeno: formación exagerada de bandas de tejido fibr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de la hemodinamia intrahepática: Síndrome de Hipertensión por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del Acetaldeh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hepatocito queda propenso a sufrir daño por desbalance energético, siendo la zona de mayor riesgo la 3 del acino hep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teraciones metabólica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la zona 3 existe también una mayor concentración de acetaldehido, lo que la hace más susceptible de da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Zonas del Acino Hep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1459080"/>
            <a:ext cx="7543800" cy="493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15000" y="685800"/>
            <a:ext cx="3429000" cy="3657600"/>
          </a:xfrm>
          <a:prstGeom prst="ellipse">
            <a:avLst/>
          </a:prstGeom>
          <a:noFill/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9:52Z</dcterms:created>
  <dc:creator>Usuario</dc:creator>
  <dc:description/>
  <dc:language>en-US</dc:language>
  <cp:lastModifiedBy>Usuario</cp:lastModifiedBy>
  <dcterms:modified xsi:type="dcterms:W3CDTF">2007-10-19T21:50:27Z</dcterms:modified>
  <cp:revision>1</cp:revision>
  <dc:subject/>
  <dc:title>Metabolismo del Etanol (1)</dc:title>
</cp:coreProperties>
</file>