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0B9F-EE34-4581-BAB4-118F5FFB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CD85-679D-4625-B986-D1C3A80E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30F-9989-4B5E-BA57-662D9E10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EA9C-5B13-46E9-8B58-D4AF5748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091-8679-41C1-9D9C-8EF6752F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B01-2750-4C85-A858-FC693389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AAF9-B70F-4418-9366-80D035EA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4C37-8D36-4FCA-ADCE-71E5305F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21F5-444D-4AC1-A0A8-893DDF76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9148-04B3-4969-82BB-62110B54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74C5-BD34-4F73-9FC1-AA21C8F0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A92-B1B9-4745-A18C-8546D993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7619-9AA3-4484-810F-C612D7BD7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Etan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l etanol se encuentra en las bebidas alcohólicas que ingiere el ser hum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Ha acompañado al hombre desde hace miles de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l etanol tiene un conjunto de características que lo hacen un elemento único en la natural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86400" y="104760"/>
            <a:ext cx="342900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cohol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4883" t="0" r="13712" b="0"/>
          <a:stretch/>
        </p:blipFill>
        <p:spPr>
          <a:xfrm>
            <a:off x="4788000" y="1844640"/>
            <a:ext cx="4176720" cy="425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01600" y="1773360"/>
            <a:ext cx="421812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coholemia: 400mg/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4674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76520" y="0"/>
            <a:ext cx="5972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1295280"/>
            <a:ext cx="777240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alcohol provo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teraciones en diversos órgan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s alterac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e presentan generalmente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forma simultáne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Tiene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lac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con la cantidad de alcohol ingerido y  con el tiempo de ing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órganos más lábiles a la influencia del alcohol, son el sistema nervioso central y el híg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98640" y="274320"/>
            <a:ext cx="346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3080" y="1600200"/>
            <a:ext cx="8458200" cy="48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s alteraciones del sistema nervioso central se relacionan 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F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ómenos psicológicos de adicción y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encia al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C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mpromiso orgánico, con alteracione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tructurales del SN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tre las diversas etiologías del daño hepático crónico, el alcohol juega un papel de gran importanci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an parte 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mun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>
            <a:lum bright="12000"/>
          </a:blip>
          <a:srcRect l="8488" t="30709" r="7882" b="12724"/>
          <a:stretch/>
        </p:blipFill>
        <p:spPr>
          <a:xfrm>
            <a:off x="1943280" y="304920"/>
            <a:ext cx="5257800" cy="2666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914400"/>
            <a:ext cx="8686800" cy="56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probabilidad d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ufri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año hepático crónico por alcohol,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correlaciona directamente con la magnitud de la ing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requiere una ingesta superior a los 60 g/día en el hombre y la mitad en la mujer para que se provoque un daño hepát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ingest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 importante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n estudio demostró que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os con ingesta mayor de 160 g/día pero por un periodo inferior a 5 años evolucionaron sin Hepatitis Alcohó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 un consumo alto por más de 20 años el 50% de los individuos desarrolló cirr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gesta de alcohol y ries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28880" y="1600200"/>
            <a:ext cx="7086600" cy="4700520"/>
          </a:xfrm>
          <a:prstGeom prst="rect">
            <a:avLst/>
          </a:prstGeom>
          <a:ln w="2844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674720"/>
            <a:ext cx="8001000" cy="42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 una cierta predisposición al daño hepático, cuyas causas 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ú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no se cono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ólo el 15% de los bebedores exagerados, presenta un 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ñ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pátic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ón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la autop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 tiene trascendencia el tipo de bebidas alcohólicas, importando 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mente la cantidad de alcohol que ellas contien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197000"/>
            <a:ext cx="853416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enfermedad hepática alcohólic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n continuo 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r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pisodios de inflamación 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cuale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bre agregan 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 proceso fibros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que coexiste y progresa en el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bebedores intermitentes le dan una oportunidad al hígado para recuperars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 así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en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iesgo que aquellos que beben en forma continu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abstinenci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 un pas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encial de la mejoría del pronóstico en la enfermedad hepática alcohólic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Daño Hepático por Alcoh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Características del Etanol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Fármaco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por su capacidad de inducir cambios metabólicos en el organ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Tóxico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, ya que es capaz de producir daño cel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Droga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por su capacidad de inducir adi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“</a:t>
            </a: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Nutriente”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, representa un aporte calórico significativo. Un gramo de etanol aporta 7.1 Kcal (más que un gramo de proteína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10280" y="58680"/>
            <a:ext cx="2133720" cy="177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Mayor susceptibilidad de la mujer a sufrir daño hepático por alcoh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ente a una misma dosis de etanol, la mujer alcanza mayores niveles de alcoholemia, esto se debe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Menor actividad de la alcohol dehidrogenasa gástrica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lo que hace que una mayor cantidad de etanol sea absorvido como 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Menor volumen de distribución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ebido a la menor masa corporal y el mayor contenido proporcional de tejido adip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Efecto de hormonas femeninas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que predispone a desarrollar un proceso inflamatorio más intenso (Mayor número de receptores  CD-14 a endotoxinas y mayores niveles de Lipopolisacáridos después de ingerir alcohol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3320" y="0"/>
            <a:ext cx="3152880" cy="632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354168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7960" y="274320"/>
            <a:ext cx="761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ebidas alcoholicas y equival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3360" y="1143000"/>
            <a:ext cx="3454560" cy="533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581280" y="1123920"/>
            <a:ext cx="55627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497480" cy="4825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76360" y="1341360"/>
            <a:ext cx="59896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785080" y="34196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8280" y="502920"/>
            <a:ext cx="41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idemiología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udios sobre el consumo de alcohol han mostrado que en la población chilena se encuent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1% de BEBEDORES EXCES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 - 6% ALCOHO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últimos años ha aumentado el grupo de bebedores excesivos en mayores de 65 años y en jóvenes entre 15 y 19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70% de los estudiantes de Enseñanza Media  consumen alcohol. El 15% de ellos se ha embriagado antes de los 15 años y el 5% bebe más de una vez a la seman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E. Bustos Alcoholismo 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666880"/>
            <a:ext cx="2743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6248520" cy="6324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5880" y="304920"/>
            <a:ext cx="304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iminación del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67280" y="620280"/>
            <a:ext cx="281952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fectos inmediatos de la ingesta de et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5532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cohol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20 a 3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acción lenta, motricidad fina disminuida y facultad crítica disminu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&gt; de 100 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Bajo la influencia del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10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7 veces riesgo de accidente automovilístico fatal, que el conductor que no ha bebido etan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15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v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44g de etano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120ml wisky)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[67 a 92 mg/d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44g de etano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1,2 L cerveza)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[41 a 49 mg/dl)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21:47:05Z</dcterms:created>
  <dc:creator>Usuario</dc:creator>
  <dc:description/>
  <dc:language>en-US</dc:language>
  <cp:lastModifiedBy>Usuario</cp:lastModifiedBy>
  <dcterms:modified xsi:type="dcterms:W3CDTF">2007-10-19T21:47:23Z</dcterms:modified>
  <cp:revision>1</cp:revision>
  <dc:subject/>
  <dc:title>Etanol </dc:title>
</cp:coreProperties>
</file>