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7515-B65E-4FE7-9D5B-ECAB7C10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D98-42B3-4BAA-B40D-1D3615E5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776-6C6D-4697-B2BA-A8729DDD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7C7-2C06-4E6A-9500-11749905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E19-D1CC-4FC7-B6B3-C0446FB1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1BC-865D-436D-8792-8B555F8E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CB2-6C34-4DDC-9B2F-DB008D0E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D92-5744-478B-9EE7-AC89CC65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B73B-89D9-4F5A-BA2D-CC3AC09F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E6E-E987-4F49-AD73-3E1E7590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D16E-2D48-4823-99B5-BE4BB53E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2FF5-CBA8-4921-836D-81E0E5ED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F7E3-02A8-4D8E-94EA-20B38D849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676160"/>
            <a:ext cx="85345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0000"/>
                </a:solidFill>
                <a:latin typeface="Arial"/>
              </a:rPr>
              <a:t>INSUFICIENCIA HEPATIC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4190760"/>
            <a:ext cx="738504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ONOAUDIOLOGÍA TECNOLOGÍA MÉ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82200" y="5791320"/>
            <a:ext cx="32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ra. Emilia Sanhueza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24280" y="62485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GRAMA DE FISIOPAT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1447920" cy="1317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52480" y="433440"/>
            <a:ext cx="327672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FACULTAD DE MEDIC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tabolismo de H d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tabolismo de Líp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tabolismo de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emost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rm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toxificació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sust. endógenas y exóge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ción de Bilis (SB, Brb,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mace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ematopoyesis f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0076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es del hí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98360"/>
            <a:ext cx="8001000" cy="6400800"/>
          </a:xfrm>
          <a:prstGeom prst="rect">
            <a:avLst/>
          </a:prstGeom>
          <a:ln w="5724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iverlobule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7993080" cy="66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Zonas del Acino Hep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1459080"/>
            <a:ext cx="754380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Cuáles son las funciones del hígado norm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30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ciones del hí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448" r="2342" b="2360"/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30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ciones del hí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750" t="1448" r="2342" b="50460"/>
          <a:stretch/>
        </p:blipFill>
        <p:spPr>
          <a:xfrm>
            <a:off x="0" y="0"/>
            <a:ext cx="91440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30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ciones del hí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38433" r="2342" b="2360"/>
          <a:stretch/>
        </p:blipFill>
        <p:spPr>
          <a:xfrm>
            <a:off x="0" y="438120"/>
            <a:ext cx="914400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30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ciones del hí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1448" r="2342" b="2360"/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43:19Z</dcterms:created>
  <dc:creator>Usuario</dc:creator>
  <dc:description/>
  <dc:language>en-US</dc:language>
  <cp:lastModifiedBy>Usuario</cp:lastModifiedBy>
  <dcterms:modified xsi:type="dcterms:W3CDTF">2007-10-19T21:45:36Z</dcterms:modified>
  <cp:revision>2</cp:revision>
  <dc:subject/>
  <dc:title>INSUFICIENCIA HEPATICA</dc:title>
</cp:coreProperties>
</file>