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3DA-02C8-4854-992A-DBC92D3C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35C-19C3-4462-8ACE-B5059C3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00A-DAC2-4221-A4E8-77AFCD33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F71-1358-42C4-8CB8-D6D55AA8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0E3-EFD9-4139-8BFB-29C5CF2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CDC-DC79-4075-8E3E-0DFEEB72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A9C-EA1C-4F2C-9FEE-F1D380AA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094-7A2E-493C-AA75-0F395878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9B-8897-4421-B7AC-7AF4DBA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4DC-C0C8-4BA4-B4BD-9A52376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B3F-224C-49AD-AA0D-61800FC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1B7-5613-4B3C-AEA5-71747DF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925B-EC97-4091-A1D0-12CB6A749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0000"/>
                </a:solidFill>
                <a:latin typeface="Arial"/>
              </a:rPr>
              <a:t>INSUFICIENCIA HEPATIC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190760"/>
            <a:ext cx="738504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ONOAUDIOLOGÍA TECNOLOGÍA MÉ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2200" y="579132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ra. Emilia Sanhueza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62485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GRAMA DE FISIOPAT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447920" cy="1317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433440"/>
            <a:ext cx="3276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ACULTAD DE 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H d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os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oxifica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ust. endógenas y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de Bilis (SB, Brb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matopoye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0076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98360"/>
            <a:ext cx="8001000" cy="6400800"/>
          </a:xfrm>
          <a:prstGeom prst="rect">
            <a:avLst/>
          </a:prstGeom>
          <a:ln w="572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iverlobule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uáles son las funciones del hígado n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448" r="2342" b="236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50" t="1448" r="2342" b="50460"/>
          <a:stretch/>
        </p:blipFill>
        <p:spPr>
          <a:xfrm>
            <a:off x="0" y="0"/>
            <a:ext cx="91440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38433" r="2342" b="2360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30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d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448" r="2342" b="2360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3:19Z</dcterms:created>
  <dc:creator>Usuario</dc:creator>
  <dc:description/>
  <dc:language>en-US</dc:language>
  <cp:lastModifiedBy>Usuario</cp:lastModifiedBy>
  <dcterms:modified xsi:type="dcterms:W3CDTF">2007-10-19T21:45:36Z</dcterms:modified>
  <cp:revision>2</cp:revision>
  <dc:subject/>
  <dc:title>INSUFICIENCIA HEPATICA</dc:title>
</cp:coreProperties>
</file>