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12.wmf" ContentType="image/x-wmf"/>
  <Override PartName="/ppt/media/image8.png" ContentType="image/png"/>
  <Override PartName="/ppt/media/image7.wmf" ContentType="image/x-wmf"/>
  <Override PartName="/ppt/media/image20.jpeg" ContentType="image/jpeg"/>
  <Override PartName="/ppt/media/image22.jpeg" ContentType="image/jpeg"/>
  <Override PartName="/ppt/media/image14.png" ContentType="image/png"/>
  <Override PartName="/ppt/media/image11.wmf" ContentType="image/x-wmf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jpeg" ContentType="image/jpeg"/>
  <Override PartName="/ppt/media/image6.wmf" ContentType="image/x-wmf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49A4-FD7D-49B6-97DE-8C60C8633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A2CD-FADC-477E-9801-36758197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06A2-8D11-4E26-850B-41DCFAEBA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3669-02B1-4C1F-9E32-DBE66983B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CCE3-2F08-4FB2-A8A7-D4D3D04C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12EB-6197-4ED0-B4DF-FD926C08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89FB-BE94-4C3B-8A49-0444F863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5DD4-40AA-467D-BD4A-0880F2AB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390B-7BD0-40F0-8CF4-58AA40FE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7F41-C002-49D3-BD90-1AF09FBC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0795-1134-4833-9EC3-D5B56450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72EF-B9E8-4D62-A4CB-630C5F5C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59E1-D05B-46AB-98DF-3223DA37DBC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98440"/>
          <a:ext cx="2057400" cy="18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98440"/>
                    <a:ext cx="2057400" cy="18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533520" y="25146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i="1" lang="en-US" sz="2800" spc="-1" strike="noStrike">
                <a:solidFill>
                  <a:srgbClr val="ffff00"/>
                </a:solidFill>
                <a:latin typeface="Arial Black"/>
              </a:rPr>
              <a:t>ALTERACIONES VASCU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5410080"/>
            <a:ext cx="3962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Dra. P. Barja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Programa  Fisiopatologia-ICB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Facultad de Medic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6800"/>
            </a:gs>
            <a:gs pos="50000">
              <a:srgbClr val="cc9900"/>
            </a:gs>
            <a:gs pos="100000">
              <a:srgbClr val="8b6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1712880" y="1371600"/>
          <a:ext cx="5716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2880" y="1371600"/>
                    <a:ext cx="5716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457200" y="3808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Times New Roman"/>
              </a:rPr>
              <a:t>Interacción célula endotelial - célula mus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67080" y="6248520"/>
            <a:ext cx="472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EDHF  FACTOR DE HIPERPOLARIZACIÓN DERIVADO DEL ENDOTELIO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5500"/>
            </a:gs>
            <a:gs pos="50000">
              <a:srgbClr val="cc9900"/>
            </a:gs>
            <a:gs pos="100000">
              <a:srgbClr val="715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8600" y="0"/>
            <a:ext cx="8915400" cy="77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9900"/>
                </a:solidFill>
                <a:uFillTx/>
                <a:latin typeface="Times New Roman"/>
              </a:rPr>
              <a:t>Propiedades  anticoagulantes   de  la  célula endotel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Heparán  sulfato - Antitrombina II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-Trombomodulina - Proteina C - Proteina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- Inhibidor del Factor tisular (TFPI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3333cc"/>
                </a:solidFill>
                <a:uFillTx/>
                <a:latin typeface="Times New Roman"/>
              </a:rPr>
              <a:t>Componentes Activos en la agregación Plaquet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ubendotelio :ColágenoIV y V y microfibri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Componentes endoteliales: Factor de von Willebrand, Factor Activador de Plaquetas (PAF) 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9900"/>
                </a:solidFill>
                <a:uFillTx/>
                <a:latin typeface="Times New Roman"/>
              </a:rPr>
              <a:t>Componentes Activos en la Coagulación y la Fibrinol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Factor Tisular  - Factor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Activador del Plasminógeno (PA) - Inhibidor del Activador del Plasminógeno (PAI-1  - PAI-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676520" y="838080"/>
            <a:ext cx="5638680" cy="5257800"/>
          </a:xfrm>
          <a:prstGeom prst="ellipse">
            <a:avLst/>
          </a:prstGeom>
          <a:gradFill rotWithShape="0">
            <a:gsLst>
              <a:gs pos="0">
                <a:srgbClr val="ffafa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8572400">
            <a:off x="1904760" y="1904400"/>
            <a:ext cx="762120" cy="1526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7703000">
            <a:off x="1523880" y="2514240"/>
            <a:ext cx="762120" cy="15228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641600">
            <a:off x="1371240" y="3199680"/>
            <a:ext cx="762120" cy="15228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5319800">
            <a:off x="1371600" y="3961800"/>
            <a:ext cx="762120" cy="15228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4371800">
            <a:off x="1676160" y="4647600"/>
            <a:ext cx="762120" cy="1526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3817400">
            <a:off x="2057400" y="5181480"/>
            <a:ext cx="761760" cy="15228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2792000">
            <a:off x="2590560" y="5638680"/>
            <a:ext cx="761760" cy="1526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1801400">
            <a:off x="3276720" y="5943240"/>
            <a:ext cx="761760" cy="15228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62520" y="6019920"/>
            <a:ext cx="761760" cy="15228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9459200">
            <a:off x="2438280" y="1447560"/>
            <a:ext cx="762120" cy="15228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20998800">
            <a:off x="3733560" y="914040"/>
            <a:ext cx="761760" cy="15228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20389800">
            <a:off x="3048120" y="1066680"/>
            <a:ext cx="761760" cy="1526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3600">
            <a:off x="4495320" y="914400"/>
            <a:ext cx="762120" cy="15228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200600">
            <a:off x="5105160" y="1066680"/>
            <a:ext cx="761760" cy="1526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20077800">
            <a:off x="5257440" y="5867280"/>
            <a:ext cx="762120" cy="1526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21247800">
            <a:off x="4648320" y="6019560"/>
            <a:ext cx="761760" cy="15228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2094000">
            <a:off x="5714640" y="1371600"/>
            <a:ext cx="762120" cy="15228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6428000">
            <a:off x="6933960" y="3656880"/>
            <a:ext cx="762120" cy="1526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7437200">
            <a:off x="6781680" y="4343040"/>
            <a:ext cx="762120" cy="15228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8559800">
            <a:off x="6400800" y="4953240"/>
            <a:ext cx="761760" cy="15228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9388400">
            <a:off x="5867280" y="5486040"/>
            <a:ext cx="762120" cy="15228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4698000">
            <a:off x="6857640" y="3047760"/>
            <a:ext cx="762120" cy="15228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3675000">
            <a:off x="6629040" y="2362320"/>
            <a:ext cx="762120" cy="15228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2673000">
            <a:off x="6248160" y="1828800"/>
            <a:ext cx="761760" cy="15228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9680" y="19810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09680" y="1981080"/>
            <a:ext cx="76320" cy="763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2590920"/>
            <a:ext cx="76320" cy="7596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3276720"/>
            <a:ext cx="76320" cy="7596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4038480"/>
            <a:ext cx="76320" cy="763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57400" y="4724280"/>
            <a:ext cx="76320" cy="763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76320" cy="763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95480" y="5638680"/>
            <a:ext cx="76320" cy="763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5943600"/>
            <a:ext cx="76320" cy="763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6019920"/>
            <a:ext cx="76320" cy="7596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6019920"/>
            <a:ext cx="76320" cy="7596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38680" y="5867280"/>
            <a:ext cx="76320" cy="763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248520" y="5486400"/>
            <a:ext cx="75960" cy="763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81680" y="4952880"/>
            <a:ext cx="76320" cy="763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62920" y="4343400"/>
            <a:ext cx="75960" cy="763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238880" y="3657600"/>
            <a:ext cx="76320" cy="763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38880" y="3048120"/>
            <a:ext cx="76320" cy="7596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34320" y="2362320"/>
            <a:ext cx="75960" cy="7596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53080" y="1828800"/>
            <a:ext cx="76320" cy="763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19920" y="1371600"/>
            <a:ext cx="75960" cy="763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1066680"/>
            <a:ext cx="76320" cy="763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990720"/>
            <a:ext cx="76320" cy="7596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914400"/>
            <a:ext cx="76320" cy="763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29000" y="1066680"/>
            <a:ext cx="76320" cy="763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1447920"/>
            <a:ext cx="75960" cy="7596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05320" y="1143000"/>
            <a:ext cx="88920" cy="457200"/>
          </a:xfrm>
          <a:custGeom>
            <a:avLst/>
            <a:gdLst/>
            <a:ahLst/>
            <a:rect l="l" t="t" r="r" b="b"/>
            <a:pathLst>
              <a:path w="64" h="432">
                <a:moveTo>
                  <a:pt x="8" y="0"/>
                </a:moveTo>
                <a:cubicBezTo>
                  <a:pt x="32" y="56"/>
                  <a:pt x="56" y="112"/>
                  <a:pt x="56" y="144"/>
                </a:cubicBezTo>
                <a:cubicBezTo>
                  <a:pt x="56" y="176"/>
                  <a:pt x="16" y="176"/>
                  <a:pt x="8" y="192"/>
                </a:cubicBezTo>
                <a:cubicBezTo>
                  <a:pt x="0" y="208"/>
                  <a:pt x="0" y="224"/>
                  <a:pt x="8" y="240"/>
                </a:cubicBezTo>
                <a:cubicBezTo>
                  <a:pt x="16" y="256"/>
                  <a:pt x="48" y="272"/>
                  <a:pt x="56" y="288"/>
                </a:cubicBezTo>
                <a:cubicBezTo>
                  <a:pt x="64" y="304"/>
                  <a:pt x="64" y="328"/>
                  <a:pt x="56" y="336"/>
                </a:cubicBezTo>
                <a:cubicBezTo>
                  <a:pt x="48" y="344"/>
                  <a:pt x="16" y="328"/>
                  <a:pt x="8" y="336"/>
                </a:cubicBezTo>
                <a:cubicBezTo>
                  <a:pt x="0" y="344"/>
                  <a:pt x="8" y="368"/>
                  <a:pt x="8" y="384"/>
                </a:cubicBezTo>
                <a:cubicBezTo>
                  <a:pt x="8" y="400"/>
                  <a:pt x="8" y="416"/>
                  <a:pt x="8" y="4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1066680"/>
            <a:ext cx="88920" cy="457200"/>
          </a:xfrm>
          <a:custGeom>
            <a:avLst/>
            <a:gdLst/>
            <a:ahLst/>
            <a:rect l="l" t="t" r="r" b="b"/>
            <a:pathLst>
              <a:path w="64" h="432">
                <a:moveTo>
                  <a:pt x="8" y="0"/>
                </a:moveTo>
                <a:cubicBezTo>
                  <a:pt x="32" y="56"/>
                  <a:pt x="56" y="112"/>
                  <a:pt x="56" y="144"/>
                </a:cubicBezTo>
                <a:cubicBezTo>
                  <a:pt x="56" y="176"/>
                  <a:pt x="16" y="176"/>
                  <a:pt x="8" y="192"/>
                </a:cubicBezTo>
                <a:cubicBezTo>
                  <a:pt x="0" y="208"/>
                  <a:pt x="0" y="224"/>
                  <a:pt x="8" y="240"/>
                </a:cubicBezTo>
                <a:cubicBezTo>
                  <a:pt x="16" y="256"/>
                  <a:pt x="48" y="272"/>
                  <a:pt x="56" y="288"/>
                </a:cubicBezTo>
                <a:cubicBezTo>
                  <a:pt x="64" y="304"/>
                  <a:pt x="64" y="328"/>
                  <a:pt x="56" y="336"/>
                </a:cubicBezTo>
                <a:cubicBezTo>
                  <a:pt x="48" y="344"/>
                  <a:pt x="16" y="328"/>
                  <a:pt x="8" y="336"/>
                </a:cubicBezTo>
                <a:cubicBezTo>
                  <a:pt x="0" y="344"/>
                  <a:pt x="8" y="368"/>
                  <a:pt x="8" y="384"/>
                </a:cubicBezTo>
                <a:cubicBezTo>
                  <a:pt x="8" y="400"/>
                  <a:pt x="8" y="416"/>
                  <a:pt x="8" y="4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52680" y="1447920"/>
            <a:ext cx="19814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Heparan sulf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AT I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2362320"/>
            <a:ext cx="685800" cy="228600"/>
          </a:xfrm>
          <a:custGeom>
            <a:avLst/>
            <a:gdLst>
              <a:gd name="textAreaLeft" fmla="*/ 119880 w 685800"/>
              <a:gd name="textAreaRight" fmla="*/ 497160 w 6858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28800" y="2895480"/>
            <a:ext cx="762120" cy="304920"/>
          </a:xfrm>
          <a:custGeom>
            <a:avLst/>
            <a:gdLst>
              <a:gd name="textAreaLeft" fmla="*/ 133200 w 762120"/>
              <a:gd name="textAreaRight" fmla="*/ 552600 w 7621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14600" y="2438280"/>
            <a:ext cx="358128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GI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baseline="-25000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Times New Roman"/>
              </a:rPr>
              <a:t>ANTIAGREGANTES  PLAQUETARIOS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90920" y="31240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2438280"/>
            <a:ext cx="75960" cy="1295640"/>
          </a:xfrm>
          <a:custGeom>
            <a:avLst/>
            <a:gdLst>
              <a:gd name="textAreaLeft" fmla="*/ 0 w 75960"/>
              <a:gd name="textAreaRight" fmla="*/ 27360 w 7596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1523880"/>
            <a:ext cx="76320" cy="838440"/>
          </a:xfrm>
          <a:custGeom>
            <a:avLst/>
            <a:gdLst>
              <a:gd name="textAreaLeft" fmla="*/ 0 w 76320"/>
              <a:gd name="textAreaRight" fmla="*/ 27360 w 7632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81480" y="1600200"/>
            <a:ext cx="1524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ANTI SERINO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OTEA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4666200">
            <a:off x="6933960" y="3581280"/>
            <a:ext cx="228600" cy="533520"/>
          </a:xfrm>
          <a:custGeom>
            <a:avLst/>
            <a:gdLst>
              <a:gd name="textAreaLeft" fmla="*/ 30600 w 228600"/>
              <a:gd name="textAreaRight" fmla="*/ 198000 w 22860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34290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05320" y="5562720"/>
            <a:ext cx="228600" cy="45720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99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05320" y="5257800"/>
            <a:ext cx="22860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57600" y="4952880"/>
            <a:ext cx="762120" cy="304920"/>
          </a:xfrm>
          <a:custGeom>
            <a:avLst/>
            <a:gdLst>
              <a:gd name="textAreaLeft" fmla="*/ 136080 w 762120"/>
              <a:gd name="textAreaRight" fmla="*/ 497880 w 7621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726" hR="21600" stAng="10800000" swAng="-5400000"/>
                <a:lnTo>
                  <a:pt x="10245" y="21600"/>
                </a:lnTo>
                <a:arcTo wR="7726" hR="21600" stAng="5400000" swAng="-1722079"/>
                <a:lnTo>
                  <a:pt x="20342" y="11813"/>
                </a:lnTo>
                <a:lnTo>
                  <a:pt x="16711" y="0"/>
                </a:lnTo>
                <a:lnTo>
                  <a:pt x="10563" y="11813"/>
                </a:lnTo>
                <a:lnTo>
                  <a:pt x="14193" y="11813"/>
                </a:lnTo>
                <a:arcTo wR="7726" hR="21600" stAng="3677921" swAng="1519141"/>
                <a:lnTo>
                  <a:pt x="8985" y="21311"/>
                </a:lnTo>
                <a:arcTo wR="7726" hR="21600" stAng="5602938" swAng="5197062"/>
                <a:close/>
              </a:path>
              <a:path fill="darkenLess" w="21600" h="21600">
                <a:moveTo>
                  <a:pt x="0" y="0"/>
                </a:moveTo>
                <a:arcTo wR="7726" hR="21600" stAng="10800000" swAng="-5400000"/>
                <a:lnTo>
                  <a:pt x="10245" y="21600"/>
                </a:lnTo>
                <a:arcTo wR="7726" hR="21600" stAng="5400000" swAng="202938"/>
                <a:lnTo>
                  <a:pt x="8985" y="21311"/>
                </a:lnTo>
                <a:arcTo wR="7726" hR="21600" stAng="5602938" swAng="5197062"/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464832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PC             P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19720" y="48006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PS     V a   VII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4648320"/>
            <a:ext cx="152640" cy="609480"/>
          </a:xfrm>
          <a:custGeom>
            <a:avLst/>
            <a:gdLst>
              <a:gd name="textAreaLeft" fmla="*/ 0 w 152640"/>
              <a:gd name="textAreaRight" fmla="*/ 55080 w 15264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52680" y="5257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71800" y="5257800"/>
            <a:ext cx="160020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57800" y="3200400"/>
            <a:ext cx="15238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LASMINÓGE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LASM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3505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228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66"/>
                </a:solidFill>
                <a:latin typeface="Times New Roman"/>
              </a:rPr>
              <a:t>REGULACION DE LA HEMOST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6019920" y="35812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76920" y="525780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Vi    VII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05520" y="5029200"/>
            <a:ext cx="609480" cy="228600"/>
          </a:xfrm>
          <a:custGeom>
            <a:avLst/>
            <a:gdLst>
              <a:gd name="textAreaLeft" fmla="*/ 106560 w 609480"/>
              <a:gd name="textAreaRight" fmla="*/ 442080 w 60948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6188400">
            <a:off x="1675800" y="3352680"/>
            <a:ext cx="380880" cy="228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5715000"/>
            <a:ext cx="60984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038480" y="577548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EPC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5400000">
            <a:off x="3695760" y="5371920"/>
            <a:ext cx="457200" cy="5335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33920" y="5506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05120" y="33526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CD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52480" y="3962520"/>
            <a:ext cx="685800" cy="228600"/>
          </a:xfrm>
          <a:custGeom>
            <a:avLst/>
            <a:gdLst>
              <a:gd name="textAreaLeft" fmla="*/ 119880 w 685800"/>
              <a:gd name="textAreaRight" fmla="*/ 497160 w 6858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09680" y="41911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0" y="3240"/>
          <a:ext cx="9144000" cy="6850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9144000" cy="68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0" y="3240"/>
          <a:ext cx="9144000" cy="6850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9144000" cy="68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8e81"/>
            </a:gs>
            <a:gs pos="50000">
              <a:srgbClr val="e9b4a3"/>
            </a:gs>
            <a:gs pos="100000">
              <a:srgbClr val="b88e8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048120" y="609480"/>
            <a:ext cx="5702040" cy="46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XII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XI 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X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X a                      X                VII a           V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V 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X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I          I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a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ibrinógen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Fibr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70160" y="191916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III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32200" y="3200400"/>
            <a:ext cx="18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43000" y="2209680"/>
            <a:ext cx="1066680" cy="825480"/>
          </a:xfrm>
          <a:prstGeom prst="rect">
            <a:avLst/>
          </a:prstGeom>
          <a:solidFill>
            <a:srgbClr val="6175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33"/>
                </a:solidFill>
                <a:latin typeface="Arial Black"/>
              </a:rPr>
              <a:t>Prot         C</a:t>
            </a:r>
            <a:r>
              <a:rPr b="1" lang="es-ES_tradnl" sz="1800" spc="-1" strike="noStrike">
                <a:solidFill>
                  <a:srgbClr val="ccff33"/>
                </a:solidFill>
                <a:latin typeface="Arial Black"/>
              </a:rPr>
              <a:t>a</a:t>
            </a:r>
            <a:r>
              <a:rPr b="1" lang="es-ES_tradnl" sz="2400" spc="-1" strike="noStrike">
                <a:solidFill>
                  <a:srgbClr val="60631b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7009920" y="25146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91120" y="2514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548604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1295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6720" y="1981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81480" y="2666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81480" y="3581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81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77120" y="5029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20760" y="1981080"/>
            <a:ext cx="63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6440" y="574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19320" y="2784600"/>
            <a:ext cx="140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12960" y="3013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23880" y="3200400"/>
            <a:ext cx="2586240" cy="762120"/>
          </a:xfrm>
          <a:custGeom>
            <a:avLst/>
            <a:gdLst>
              <a:gd name="textAreaLeft" fmla="*/ 551880 w 2586240"/>
              <a:gd name="textAreaRight" fmla="*/ 1784520 w 258624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218" hR="21600" stAng="10800000" swAng="-5400000"/>
                <a:lnTo>
                  <a:pt x="10295" y="21600"/>
                </a:lnTo>
                <a:arcTo wR="9218" hR="21600" stAng="5400000" swAng="-3641892"/>
                <a:lnTo>
                  <a:pt x="21346" y="5031"/>
                </a:lnTo>
                <a:lnTo>
                  <a:pt x="18975" y="0"/>
                </a:lnTo>
                <a:lnTo>
                  <a:pt x="16095" y="5031"/>
                </a:lnTo>
                <a:lnTo>
                  <a:pt x="18182" y="5031"/>
                </a:lnTo>
                <a:arcTo wR="9218" hR="21600" stAng="1758108" swAng="3556058"/>
                <a:lnTo>
                  <a:pt x="9757" y="21563"/>
                </a:lnTo>
                <a:arcTo wR="9218" hR="21600" stAng="5485834" swAng="5314166"/>
                <a:close/>
              </a:path>
              <a:path fill="darkenLess" w="21600" h="21600">
                <a:moveTo>
                  <a:pt x="0" y="0"/>
                </a:moveTo>
                <a:arcTo wR="9218" hR="21600" stAng="10800000" swAng="-5400000"/>
                <a:lnTo>
                  <a:pt x="10295" y="21600"/>
                </a:lnTo>
                <a:arcTo wR="9218" hR="21600" stAng="5400000" swAng="85834"/>
                <a:lnTo>
                  <a:pt x="9757" y="21563"/>
                </a:lnTo>
                <a:arcTo wR="9218" hR="21600" stAng="5485834" swAng="5314166"/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362280" y="506520"/>
            <a:ext cx="1003680" cy="459720"/>
          </a:xfrm>
          <a:prstGeom prst="rect">
            <a:avLst/>
          </a:prstGeom>
          <a:solidFill>
            <a:srgbClr val="a844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AT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35720" y="0"/>
            <a:ext cx="2390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4038120" y="762120"/>
            <a:ext cx="2057400" cy="759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038120" y="838080"/>
            <a:ext cx="213372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5880" y="76212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1680" y="34920"/>
            <a:ext cx="8565840" cy="459720"/>
          </a:xfrm>
          <a:prstGeom prst="rect">
            <a:avLst/>
          </a:prstGeom>
          <a:solidFill>
            <a:srgbClr val="7418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NTICOAGULANTES      NATURAL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47920" y="1219320"/>
            <a:ext cx="1447560" cy="761760"/>
          </a:xfrm>
          <a:custGeom>
            <a:avLst/>
            <a:gdLst>
              <a:gd name="textAreaLeft" fmla="*/ 309600 w 1447560"/>
              <a:gd name="textAreaRight" fmla="*/ 1039320 w 1447560"/>
              <a:gd name="textAreaTop" fmla="*/ 101880 h 761760"/>
              <a:gd name="textAreaBottom" fmla="*/ 6598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47" hR="21600" stAng="10800000" swAng="5400000"/>
                <a:lnTo>
                  <a:pt x="10885" y="0"/>
                </a:lnTo>
                <a:arcTo wR="9247" hR="21600" stAng="-5400000" swAng="2881986"/>
                <a:lnTo>
                  <a:pt x="20982" y="13839"/>
                </a:lnTo>
                <a:lnTo>
                  <a:pt x="19313" y="21600"/>
                </a:lnTo>
                <a:lnTo>
                  <a:pt x="16408" y="13839"/>
                </a:lnTo>
                <a:lnTo>
                  <a:pt x="17876" y="13839"/>
                </a:lnTo>
                <a:arcTo wR="9247" hR="21600" stAng="-2518014" swAng="-2751187"/>
                <a:lnTo>
                  <a:pt x="10066" y="85"/>
                </a:lnTo>
                <a:arcTo wR="9247" hR="21600" stAng="-5530799" swAng="-5269201"/>
                <a:close/>
              </a:path>
              <a:path fill="darkenLess" w="21600" h="21600">
                <a:moveTo>
                  <a:pt x="0" y="21600"/>
                </a:moveTo>
                <a:arcTo wR="9247" hR="21600" stAng="10800000" swAng="5400000"/>
                <a:lnTo>
                  <a:pt x="9247" y="0"/>
                </a:lnTo>
                <a:arcTo wR="9247" hR="21600" stAng="-5400000" swAng="130799"/>
                <a:lnTo>
                  <a:pt x="10066" y="85"/>
                </a:lnTo>
                <a:arcTo wR="9247" hR="21600" stAng="-5530799" swAng="-5269201"/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162920" y="5257800"/>
            <a:ext cx="220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lasm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lasminógeno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4920" y="2438280"/>
            <a:ext cx="838080" cy="3962520"/>
          </a:xfrm>
          <a:custGeom>
            <a:avLst/>
            <a:gdLst>
              <a:gd name="textAreaLeft" fmla="*/ 112320 w 838080"/>
              <a:gd name="textAreaRight" fmla="*/ 725760 w 838080"/>
              <a:gd name="textAreaTop" fmla="*/ 798480 h 3962520"/>
              <a:gd name="textAreaBottom" fmla="*/ 2603160 h 396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07" stAng="-5400000" swAng="-5400000"/>
                <a:lnTo>
                  <a:pt x="0" y="9837"/>
                </a:lnTo>
                <a:arcTo wR="21600" hR="8707" stAng="10800000" swAng="-3816395"/>
                <a:lnTo>
                  <a:pt x="17363" y="21431"/>
                </a:lnTo>
                <a:lnTo>
                  <a:pt x="21600" y="17979"/>
                </a:lnTo>
                <a:lnTo>
                  <a:pt x="17363" y="14189"/>
                </a:lnTo>
                <a:lnTo>
                  <a:pt x="17363" y="17245"/>
                </a:lnTo>
                <a:arcTo wR="21600" hR="8707" stAng="6983605" swAng="3726303"/>
                <a:lnTo>
                  <a:pt x="46" y="9272"/>
                </a:lnTo>
                <a:arcTo wR="21600" hR="8707" stAng="-10709908" swAng="5309908"/>
                <a:close/>
              </a:path>
              <a:path fill="darkenLess" w="21600" h="21600">
                <a:moveTo>
                  <a:pt x="21600" y="0"/>
                </a:moveTo>
                <a:arcTo wR="21600" hR="8707" stAng="-5400000" swAng="-5400000"/>
                <a:lnTo>
                  <a:pt x="0" y="8707"/>
                </a:lnTo>
                <a:arcTo wR="21600" hR="8707" stAng="10800000" swAng="-90092"/>
                <a:lnTo>
                  <a:pt x="46" y="9272"/>
                </a:lnTo>
                <a:arcTo wR="21600" hR="8707" stAng="-10709908" swAng="5309908"/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5257800"/>
            <a:ext cx="3200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-P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7620120" y="5105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7620120" y="563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581280" y="1828800"/>
            <a:ext cx="274320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657240" y="838080"/>
            <a:ext cx="2438280" cy="1524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5334120" y="914400"/>
            <a:ext cx="838080" cy="2438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5638680" y="914400"/>
            <a:ext cx="533520" cy="3124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778200" y="5969880"/>
            <a:ext cx="3721320" cy="2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543800" y="5943600"/>
            <a:ext cx="152280" cy="76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c5cf"/>
            </a:gs>
            <a:gs pos="50000">
              <a:srgbClr val="a84465"/>
            </a:gs>
            <a:gs pos="100000">
              <a:srgbClr val="e3c5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85800" y="838080"/>
            <a:ext cx="7391520" cy="459720"/>
          </a:xfrm>
          <a:prstGeom prst="rect">
            <a:avLst/>
          </a:prstGeom>
          <a:solidFill>
            <a:srgbClr val="7418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IESGO  TROMBÓTICO :   Factores   Plasmá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6280" y="1717560"/>
            <a:ext cx="1809720" cy="4848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ag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ibrinolisi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38480" y="1752480"/>
            <a:ext cx="4876920" cy="3141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actores del Sistema de la Coagulación Sanguíne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ibrinógeno, Factor von Willeb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hibidores de la Coagulació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T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teina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teina S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093920" y="4689360"/>
            <a:ext cx="4820040" cy="1678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actores del Sistema Fibrinolítico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lasminó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hibidores de la Fibrinol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fa2 antiplasmina, t-P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33920" y="4800600"/>
            <a:ext cx="304560" cy="609480"/>
          </a:xfrm>
          <a:prstGeom prst="downArrow">
            <a:avLst>
              <a:gd name="adj1" fmla="val 50000"/>
              <a:gd name="adj2" fmla="val 5003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3733920" y="3581280"/>
            <a:ext cx="304560" cy="9144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733920" y="1981080"/>
            <a:ext cx="304560" cy="762120"/>
          </a:xfrm>
          <a:prstGeom prst="upArrow">
            <a:avLst>
              <a:gd name="adj1" fmla="val 50000"/>
              <a:gd name="adj2" fmla="val 62559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57150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8080" y="4564080"/>
            <a:ext cx="167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2120" y="4572000"/>
            <a:ext cx="1752480" cy="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755640" y="765000"/>
            <a:ext cx="7920000" cy="46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Toda la significancia clínica y patológica de un trombo depende de su capacidad 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-Producir una lesión isqué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-Ser desalojado o fragmentado y producir émbo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EMBOLO: </a:t>
            </a: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ES UN CUERPO O MASA INTRAVASCULAR (sólida o gaseosa) TRANSPORTADA POR EL TORRENTE SANGUÍNEO ALOJÁNDOSE EN UNA ZONA LEJOS DE SU ORIGEN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La mayoría de los émbolos provienen de los trombos (tromboembolía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971640" y="189000"/>
            <a:ext cx="727236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ff"/>
                </a:solidFill>
                <a:latin typeface="Times New Roman"/>
              </a:rPr>
              <a:t>Clases de trombos</a:t>
            </a:r>
            <a:r>
              <a:rPr b="0" lang="es-ES" sz="2400" spc="-1" strike="noStrike">
                <a:solidFill>
                  <a:srgbClr val="ffcc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ff"/>
                </a:solidFill>
                <a:latin typeface="Times New Roman"/>
              </a:rPr>
              <a:t>Arteriales.-suelen formarse sobre las placas de ateromas  (arterias coronarias, cerebrales y femora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ff"/>
                </a:solidFill>
                <a:latin typeface="Times New Roman"/>
              </a:rPr>
              <a:t>Venosos (flebotrombosis).- trombos rojos o de éstasis. El 90 % se localiza en las extremidades inferiores</a:t>
            </a:r>
            <a:r>
              <a:rPr b="0" lang="es-ES" sz="2000" spc="-1" strike="noStrike">
                <a:solidFill>
                  <a:srgbClr val="ffccff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ff"/>
                </a:solidFill>
                <a:latin typeface="Times New Roman"/>
              </a:rPr>
              <a:t>Destino del Trom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ff"/>
                </a:solidFill>
                <a:latin typeface="Times New Roman"/>
              </a:rPr>
              <a:t>1.- Propag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ff"/>
                </a:solidFill>
                <a:latin typeface="Times New Roman"/>
              </a:rPr>
              <a:t>2.-Embol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ff"/>
                </a:solidFill>
                <a:latin typeface="Times New Roman"/>
              </a:rPr>
              <a:t>3.-Di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ff"/>
                </a:solidFill>
                <a:latin typeface="Times New Roman"/>
              </a:rPr>
              <a:t>4.-Organización.- </a:t>
            </a:r>
            <a:r>
              <a:rPr b="0" lang="es-ES_tradnl" sz="2000" spc="-1" strike="noStrike">
                <a:solidFill>
                  <a:srgbClr val="ffccff"/>
                </a:solidFill>
                <a:latin typeface="Times New Roman"/>
              </a:rPr>
              <a:t>Proceso de cicatrización que conlleva la reabsorción del material inerte y la sustitución por tejido fibroso Infiltración de células endoteliales, fibras musculares lisas y fibroblastos, se forman conductos capilares.- recanal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5580000" y="3068640"/>
            <a:ext cx="1727280" cy="172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53080" y="3139920"/>
            <a:ext cx="1582920" cy="1584360"/>
          </a:xfrm>
          <a:prstGeom prst="ellipse">
            <a:avLst/>
          </a:prstGeom>
          <a:gradFill rotWithShape="0">
            <a:gsLst>
              <a:gs pos="0">
                <a:srgbClr val="632919"/>
              </a:gs>
              <a:gs pos="50000">
                <a:srgbClr val="d85a38"/>
              </a:gs>
              <a:gs pos="100000">
                <a:srgbClr val="63291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989440" y="1341360"/>
            <a:ext cx="1582560" cy="1584360"/>
          </a:xfrm>
          <a:prstGeom prst="ellipse">
            <a:avLst/>
          </a:prstGeom>
          <a:gradFill rotWithShape="0">
            <a:gsLst>
              <a:gs pos="0">
                <a:srgbClr val="632919"/>
              </a:gs>
              <a:gs pos="50000">
                <a:srgbClr val="d85a38"/>
              </a:gs>
              <a:gs pos="100000">
                <a:srgbClr val="63291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916360" y="1270080"/>
            <a:ext cx="1726920" cy="172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70480" y="3479760"/>
            <a:ext cx="460440" cy="370080"/>
          </a:xfrm>
          <a:custGeom>
            <a:avLst/>
            <a:gdLst/>
            <a:ahLst/>
            <a:rect l="l" t="t" r="r" b="b"/>
            <a:pathLst>
              <a:path w="290" h="233">
                <a:moveTo>
                  <a:pt x="226" y="0"/>
                </a:moveTo>
                <a:cubicBezTo>
                  <a:pt x="166" y="6"/>
                  <a:pt x="124" y="10"/>
                  <a:pt x="70" y="27"/>
                </a:cubicBezTo>
                <a:cubicBezTo>
                  <a:pt x="0" y="73"/>
                  <a:pt x="38" y="140"/>
                  <a:pt x="43" y="228"/>
                </a:cubicBezTo>
                <a:cubicBezTo>
                  <a:pt x="102" y="140"/>
                  <a:pt x="29" y="233"/>
                  <a:pt x="262" y="192"/>
                </a:cubicBezTo>
                <a:cubicBezTo>
                  <a:pt x="272" y="190"/>
                  <a:pt x="268" y="173"/>
                  <a:pt x="272" y="164"/>
                </a:cubicBezTo>
                <a:cubicBezTo>
                  <a:pt x="277" y="154"/>
                  <a:pt x="284" y="146"/>
                  <a:pt x="290" y="137"/>
                </a:cubicBezTo>
                <a:cubicBezTo>
                  <a:pt x="281" y="101"/>
                  <a:pt x="279" y="80"/>
                  <a:pt x="253" y="54"/>
                </a:cubicBezTo>
                <a:cubicBezTo>
                  <a:pt x="242" y="10"/>
                  <a:pt x="253" y="27"/>
                  <a:pt x="226" y="0"/>
                </a:cubicBez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755e46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94200" y="4003560"/>
            <a:ext cx="360360" cy="360360"/>
          </a:xfrm>
          <a:custGeom>
            <a:avLst/>
            <a:gdLst/>
            <a:ahLst/>
            <a:rect l="l" t="t" r="r" b="b"/>
            <a:pathLst>
              <a:path w="290" h="233">
                <a:moveTo>
                  <a:pt x="226" y="0"/>
                </a:moveTo>
                <a:cubicBezTo>
                  <a:pt x="166" y="6"/>
                  <a:pt x="124" y="10"/>
                  <a:pt x="70" y="27"/>
                </a:cubicBezTo>
                <a:cubicBezTo>
                  <a:pt x="0" y="73"/>
                  <a:pt x="38" y="140"/>
                  <a:pt x="43" y="228"/>
                </a:cubicBezTo>
                <a:cubicBezTo>
                  <a:pt x="102" y="140"/>
                  <a:pt x="29" y="233"/>
                  <a:pt x="262" y="192"/>
                </a:cubicBezTo>
                <a:cubicBezTo>
                  <a:pt x="272" y="190"/>
                  <a:pt x="268" y="173"/>
                  <a:pt x="272" y="164"/>
                </a:cubicBezTo>
                <a:cubicBezTo>
                  <a:pt x="277" y="154"/>
                  <a:pt x="284" y="146"/>
                  <a:pt x="290" y="137"/>
                </a:cubicBezTo>
                <a:cubicBezTo>
                  <a:pt x="281" y="101"/>
                  <a:pt x="279" y="80"/>
                  <a:pt x="253" y="54"/>
                </a:cubicBezTo>
                <a:cubicBezTo>
                  <a:pt x="242" y="10"/>
                  <a:pt x="253" y="27"/>
                  <a:pt x="226" y="0"/>
                </a:cubicBez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755e46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372360" y="4076640"/>
            <a:ext cx="718920" cy="216000"/>
          </a:xfrm>
          <a:custGeom>
            <a:avLst/>
            <a:gdLst/>
            <a:ahLst/>
            <a:rect l="l" t="t" r="r" b="b"/>
            <a:pathLst>
              <a:path w="290" h="233">
                <a:moveTo>
                  <a:pt x="226" y="0"/>
                </a:moveTo>
                <a:cubicBezTo>
                  <a:pt x="166" y="6"/>
                  <a:pt x="124" y="10"/>
                  <a:pt x="70" y="27"/>
                </a:cubicBezTo>
                <a:cubicBezTo>
                  <a:pt x="0" y="73"/>
                  <a:pt x="38" y="140"/>
                  <a:pt x="43" y="228"/>
                </a:cubicBezTo>
                <a:cubicBezTo>
                  <a:pt x="102" y="140"/>
                  <a:pt x="29" y="233"/>
                  <a:pt x="262" y="192"/>
                </a:cubicBezTo>
                <a:cubicBezTo>
                  <a:pt x="272" y="190"/>
                  <a:pt x="268" y="173"/>
                  <a:pt x="272" y="164"/>
                </a:cubicBezTo>
                <a:cubicBezTo>
                  <a:pt x="277" y="154"/>
                  <a:pt x="284" y="146"/>
                  <a:pt x="290" y="137"/>
                </a:cubicBezTo>
                <a:cubicBezTo>
                  <a:pt x="281" y="101"/>
                  <a:pt x="279" y="80"/>
                  <a:pt x="253" y="54"/>
                </a:cubicBezTo>
                <a:cubicBezTo>
                  <a:pt x="242" y="10"/>
                  <a:pt x="253" y="27"/>
                  <a:pt x="226" y="0"/>
                </a:cubicBez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755e46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4510080"/>
            <a:ext cx="1582560" cy="1584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0920" y="4438800"/>
            <a:ext cx="1727280" cy="1726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21080" y="4510080"/>
            <a:ext cx="1727280" cy="172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94160" y="4581360"/>
            <a:ext cx="1582560" cy="15843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1515000">
            <a:off x="4522680" y="5141520"/>
            <a:ext cx="480960" cy="966960"/>
          </a:xfrm>
          <a:prstGeom prst="ellipse">
            <a:avLst/>
          </a:prstGeom>
          <a:gradFill rotWithShape="0">
            <a:gsLst>
              <a:gs pos="0">
                <a:srgbClr val="632919"/>
              </a:gs>
              <a:gs pos="50000">
                <a:srgbClr val="d85a38"/>
              </a:gs>
              <a:gs pos="100000">
                <a:srgbClr val="63291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619280" y="2708280"/>
            <a:ext cx="1440000" cy="1657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2852640"/>
            <a:ext cx="1368360" cy="50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5148000" y="4581360"/>
            <a:ext cx="71892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788000" y="162864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ASO TROMBOS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0920" y="638172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RESOLU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987280" y="3068640"/>
            <a:ext cx="647640" cy="108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56000" y="423396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MBOLIZ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451640" y="3860640"/>
            <a:ext cx="1513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ORGANIZADO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RECANALIZ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92720" y="5589720"/>
            <a:ext cx="194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ORGANIZACIÓN DEL TROMBO QUE SE INCORPORA A LA PARED DEL VA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484360" y="404640"/>
            <a:ext cx="4751640" cy="459720"/>
          </a:xfrm>
          <a:prstGeom prst="rect">
            <a:avLst/>
          </a:prstGeom>
          <a:gradFill rotWithShape="0">
            <a:gsLst>
              <a:gs pos="0">
                <a:srgbClr val="edb4a5"/>
              </a:gs>
              <a:gs pos="50000">
                <a:srgbClr val="ffffff"/>
              </a:gs>
              <a:gs pos="100000">
                <a:srgbClr val="edb4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STINO   DEL  TROM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50000">
              <a:srgbClr val="cc66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609480"/>
            <a:ext cx="8686800" cy="581400"/>
          </a:xfrm>
          <a:prstGeom prst="rect">
            <a:avLst/>
          </a:prstGeom>
          <a:solidFill>
            <a:srgbClr val="ffdb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ctores de riesgo de tromboembol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371600"/>
            <a:ext cx="8610480" cy="4725360"/>
          </a:xfrm>
          <a:prstGeom prst="rect">
            <a:avLst/>
          </a:prstGeom>
          <a:solidFill>
            <a:srgbClr val="ffdb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ES_tradnl" sz="2400" spc="-1" strike="noStrike">
                <a:solidFill>
                  <a:srgbClr val="ac2900"/>
                </a:solidFill>
                <a:latin typeface="Times New Roman"/>
              </a:rPr>
              <a:t>Generales                                     Circ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-Edad avanzada                                      -Repo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-Sobrepeso                                               -Insuficiencia cardia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-Hipertensión                                          -Viscosidad sanguínea a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-Hiperlipid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ES_tradnl" sz="2400" spc="-1" strike="noStrike">
                <a:solidFill>
                  <a:srgbClr val="ac2900"/>
                </a:solidFill>
                <a:latin typeface="Times New Roman"/>
              </a:rPr>
              <a:t>Pared vascular                           Coag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-Ateroesclerosis                                    -Hipercoagul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-Obstrucción arterial                           -Hiperactividad plaque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-Insuficiencia ven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-Venas varico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7621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1447920"/>
            <a:ext cx="7391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3809880"/>
            <a:ext cx="7391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50000">
              <a:srgbClr val="ffb66d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50920" y="1353960"/>
            <a:ext cx="867564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Trombosis venosa profunda, ileofemoral"/>
          <p:cNvPicPr/>
          <p:nvPr/>
        </p:nvPicPr>
        <p:blipFill>
          <a:blip r:embed="rId1"/>
          <a:stretch/>
        </p:blipFill>
        <p:spPr>
          <a:xfrm>
            <a:off x="4468680" y="2409840"/>
            <a:ext cx="3198960" cy="43322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Coágulo de sangre venoso"/>
          <p:cNvPicPr/>
          <p:nvPr/>
        </p:nvPicPr>
        <p:blipFill>
          <a:blip r:embed="rId2"/>
          <a:stretch/>
        </p:blipFill>
        <p:spPr>
          <a:xfrm>
            <a:off x="4427640" y="345960"/>
            <a:ext cx="3240000" cy="25923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Anatomía normal"/>
          <p:cNvPicPr/>
          <p:nvPr/>
        </p:nvPicPr>
        <p:blipFill>
          <a:blip r:embed="rId3"/>
          <a:stretch/>
        </p:blipFill>
        <p:spPr>
          <a:xfrm>
            <a:off x="328680" y="1517760"/>
            <a:ext cx="417204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Embolia arterial"/>
          <p:cNvPicPr/>
          <p:nvPr/>
        </p:nvPicPr>
        <p:blipFill>
          <a:blip r:embed="rId1"/>
          <a:stretch/>
        </p:blipFill>
        <p:spPr>
          <a:xfrm>
            <a:off x="324000" y="1413000"/>
            <a:ext cx="4319280" cy="34560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mbolo pulmonar"/>
          <p:cNvPicPr/>
          <p:nvPr/>
        </p:nvPicPr>
        <p:blipFill>
          <a:blip r:embed="rId2"/>
          <a:stretch/>
        </p:blipFill>
        <p:spPr>
          <a:xfrm>
            <a:off x="4643280" y="1413000"/>
            <a:ext cx="4105440" cy="34560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324000" y="5013360"/>
            <a:ext cx="83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4000" y="4941720"/>
            <a:ext cx="84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95 % de los émbolos pulmonares provienen de las venas de las piern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Aterosclerosis"/>
          <p:cNvPicPr/>
          <p:nvPr/>
        </p:nvPicPr>
        <p:blipFill>
          <a:blip r:embed="rId1"/>
          <a:stretch/>
        </p:blipFill>
        <p:spPr>
          <a:xfrm>
            <a:off x="4140360" y="1265400"/>
            <a:ext cx="4608360" cy="36874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Vista agrandada de la aterosclerosis"/>
          <p:cNvPicPr/>
          <p:nvPr/>
        </p:nvPicPr>
        <p:blipFill>
          <a:blip r:embed="rId2"/>
          <a:stretch/>
        </p:blipFill>
        <p:spPr>
          <a:xfrm>
            <a:off x="179280" y="1905120"/>
            <a:ext cx="38102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50000">
              <a:srgbClr val="0033cc"/>
            </a:gs>
            <a:gs pos="100000">
              <a:srgbClr val="00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477120" y="3962520"/>
            <a:ext cx="1143000" cy="1447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391520" y="3124080"/>
            <a:ext cx="1752480" cy="609840"/>
          </a:xfrm>
          <a:prstGeom prst="hexagon">
            <a:avLst>
              <a:gd name="adj" fmla="val 71842"/>
              <a:gd name="vf" fmla="val 115470"/>
            </a:avLst>
          </a:prstGeom>
          <a:solidFill>
            <a:srgbClr val="ff3300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733920" y="5410080"/>
            <a:ext cx="1600200" cy="381240"/>
          </a:xfrm>
          <a:prstGeom prst="hexagon">
            <a:avLst>
              <a:gd name="adj" fmla="val 104934"/>
              <a:gd name="vf" fmla="val 115470"/>
            </a:avLst>
          </a:prstGeom>
          <a:solidFill>
            <a:srgbClr val="ff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2280" y="0"/>
            <a:ext cx="1447920" cy="2286000"/>
          </a:xfrm>
          <a:prstGeom prst="flowChartAlternateProcess">
            <a:avLst/>
          </a:prstGeom>
          <a:solidFill>
            <a:srgbClr val="000066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81280" y="304920"/>
            <a:ext cx="1828800" cy="137160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553080" y="0"/>
            <a:ext cx="1676520" cy="2286000"/>
          </a:xfrm>
          <a:prstGeom prst="flowChartAlternateProcess">
            <a:avLst/>
          </a:prstGeom>
          <a:solidFill>
            <a:srgbClr val="00006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200400" y="3962520"/>
            <a:ext cx="251460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00400" y="2743200"/>
            <a:ext cx="2438280" cy="76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" y="0"/>
            <a:ext cx="8915400" cy="22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9933"/>
                </a:solidFill>
                <a:latin typeface="Times New Roman"/>
              </a:rPr>
              <a:t>Hipotensión 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Hipotens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9933"/>
                </a:solidFill>
                <a:latin typeface="Times New Roman"/>
              </a:rPr>
              <a:t>Endotoxinas   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lang="es-ES" sz="1400" spc="-1" strike="noStrike">
                <a:solidFill>
                  <a:srgbClr val="66ff33"/>
                </a:solidFill>
                <a:latin typeface="Times New Roman"/>
              </a:rPr>
              <a:t>Endotoxinas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Hipoxia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9933"/>
                </a:solidFill>
                <a:latin typeface="Times New Roman"/>
              </a:rPr>
              <a:t>Golpe de calor   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1" lang="es-ES" sz="1400" spc="-1" strike="noStrike">
                <a:solidFill>
                  <a:srgbClr val="66ff33"/>
                </a:solidFill>
                <a:latin typeface="Times New Roman"/>
              </a:rPr>
              <a:t>Infecciones Gram(-)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Acido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9933"/>
                </a:solidFill>
                <a:latin typeface="Times New Roman"/>
              </a:rPr>
              <a:t>Quemaduras  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lang="es-ES" sz="1400" spc="-1" strike="noStrike">
                <a:solidFill>
                  <a:srgbClr val="66ff33"/>
                </a:solidFill>
                <a:latin typeface="Times New Roman"/>
              </a:rPr>
              <a:t>Complejos Ag-Ac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Traum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9933"/>
                </a:solidFill>
                <a:latin typeface="Times New Roman"/>
              </a:rPr>
              <a:t>Vasculitis   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r>
              <a:rPr b="1" lang="es-ES" sz="1400" spc="-1" strike="noStrike">
                <a:solidFill>
                  <a:srgbClr val="66ff33"/>
                </a:solidFill>
                <a:latin typeface="Times New Roman"/>
              </a:rPr>
              <a:t> Antígenos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 Cánc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9933"/>
                </a:solidFill>
                <a:latin typeface="Times New Roman"/>
              </a:rPr>
              <a:t>Aneurisma     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Eventos obstétr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9933"/>
                </a:solidFill>
                <a:latin typeface="Times New Roman"/>
              </a:rPr>
              <a:t>Hemangiomas  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Ascitis (shu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2133720"/>
            <a:ext cx="22860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cc99"/>
                </a:solidFill>
                <a:latin typeface="Times New Roman"/>
              </a:rPr>
              <a:t>     </a:t>
            </a:r>
            <a:r>
              <a:rPr b="1" lang="es-ES" sz="16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es-ES" sz="1600" spc="-1" strike="noStrike">
                <a:solidFill>
                  <a:srgbClr val="00cc99"/>
                </a:solidFill>
                <a:latin typeface="Arial Black"/>
              </a:rPr>
              <a:t>MONOCI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Arial Black"/>
              </a:rPr>
              <a:t>FACTOR TISULAR (Via Extrinsec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52480" y="2133720"/>
            <a:ext cx="762120" cy="685800"/>
          </a:xfrm>
          <a:prstGeom prst="ellipse">
            <a:avLst/>
          </a:prstGeom>
          <a:gradFill rotWithShape="0">
            <a:gsLst>
              <a:gs pos="0">
                <a:srgbClr val="5e6c75"/>
              </a:gs>
              <a:gs pos="50000">
                <a:srgbClr val="ccecff"/>
              </a:gs>
              <a:gs pos="100000">
                <a:srgbClr val="5e6c75"/>
              </a:gs>
            </a:gsLst>
            <a:lin ang="5400000"/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28800" y="2133720"/>
            <a:ext cx="609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IL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TN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289548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cc99"/>
                </a:solidFill>
                <a:latin typeface="Arial Black"/>
              </a:rPr>
              <a:t>CELULAS ENDOTEL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" y="3581280"/>
            <a:ext cx="1828800" cy="2764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1200" spc="-1" strike="noStrike">
                <a:solidFill>
                  <a:srgbClr val="ffcc00"/>
                </a:solidFill>
                <a:latin typeface="Arial Black"/>
              </a:rPr>
              <a:t>VIA INTRINSE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24080" y="40384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1200" spc="-1" strike="noStrike">
                <a:solidFill>
                  <a:srgbClr val="ffff00"/>
                </a:solidFill>
                <a:latin typeface="Times New Roman"/>
              </a:rPr>
              <a:t>GENERACION DE TROMB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916360" y="4508640"/>
            <a:ext cx="358128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s-ES" sz="1400" spc="-1" strike="noStrike">
                <a:solidFill>
                  <a:srgbClr val="ffffcc"/>
                </a:solidFill>
                <a:latin typeface="Times New Roman"/>
              </a:rPr>
              <a:t>COAGULACION INTRAVASCU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s-ES" sz="1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s-ES" sz="1400" spc="-1" strike="noStrike">
                <a:solidFill>
                  <a:srgbClr val="ff3399"/>
                </a:solidFill>
                <a:latin typeface="Arial Black"/>
              </a:rPr>
              <a:t>TROMBO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99ff99"/>
                </a:solidFill>
                <a:latin typeface="Times New Roman"/>
              </a:rPr>
              <a:t>FIBRINOLISIS SECUNDARIA       FD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629400" y="5791320"/>
            <a:ext cx="2438280" cy="11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99ff99"/>
                </a:solidFill>
                <a:latin typeface="Times New Roman"/>
              </a:rPr>
              <a:t>ANT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99ff99"/>
                </a:solidFill>
                <a:latin typeface="Times New Roman"/>
              </a:rPr>
              <a:t>TROMBINA - AGREGACION     PLAQUETARIA -POLIMERIZACION  FIBRINA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3244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Consumo 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77120" y="4267080"/>
            <a:ext cx="14475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Plaquetas Factores V, VIII, Fibrinógeno,y ot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15200" y="32767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ES" sz="1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 Black"/>
              </a:rPr>
              <a:t>HEMORRAG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629400" y="5715000"/>
            <a:ext cx="2209680" cy="1066680"/>
          </a:xfrm>
          <a:prstGeom prst="rect">
            <a:avLst/>
          </a:prstGeom>
          <a:noFill/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172200" y="6248520"/>
            <a:ext cx="380880" cy="0"/>
          </a:xfrm>
          <a:prstGeom prst="line">
            <a:avLst/>
          </a:prstGeom>
          <a:ln w="19080">
            <a:solidFill>
              <a:srgbClr val="cc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486400" y="6248520"/>
            <a:ext cx="228600" cy="0"/>
          </a:xfrm>
          <a:prstGeom prst="line">
            <a:avLst/>
          </a:prstGeom>
          <a:ln w="19080">
            <a:solidFill>
              <a:srgbClr val="cc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2280" y="426708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Falla Mecanismos de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" y="2362320"/>
            <a:ext cx="0" cy="53316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38080" y="3352680"/>
            <a:ext cx="533520" cy="2286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1752480"/>
            <a:ext cx="0" cy="38124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2438280"/>
            <a:ext cx="0" cy="2286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19720" y="3581280"/>
            <a:ext cx="0" cy="30492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19720" y="4419720"/>
            <a:ext cx="0" cy="38088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514600" y="4572000"/>
            <a:ext cx="182880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791320" y="4571640"/>
            <a:ext cx="609480" cy="2286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419720" y="5157720"/>
            <a:ext cx="0" cy="2286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427640" y="5877000"/>
            <a:ext cx="0" cy="30456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124080"/>
            <a:ext cx="152388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0880" y="541008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Isquemia tis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Anemia hemoli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2437920" y="5562720"/>
            <a:ext cx="1219320" cy="7596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2590560" y="5715000"/>
            <a:ext cx="1066680" cy="30492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334120" y="5334120"/>
            <a:ext cx="1066680" cy="76176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8153280" y="3809880"/>
            <a:ext cx="0" cy="9144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8610480" y="3809880"/>
            <a:ext cx="0" cy="190512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7619760" y="4724280"/>
            <a:ext cx="53316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248520" y="27432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cc99"/>
                </a:solidFill>
                <a:latin typeface="Arial Black"/>
              </a:rPr>
              <a:t>TEJ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933960" y="2362320"/>
            <a:ext cx="228600" cy="38088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5714640" y="2895480"/>
            <a:ext cx="609480" cy="15264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733920"/>
            <a:ext cx="205740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5388000">
            <a:off x="2858760" y="1026720"/>
            <a:ext cx="301680" cy="1905120"/>
          </a:xfrm>
          <a:custGeom>
            <a:avLst/>
            <a:gdLst>
              <a:gd name="textAreaLeft" fmla="*/ 40320 w 301680"/>
              <a:gd name="textAreaRight" fmla="*/ 261360 w 301680"/>
              <a:gd name="textAreaTop" fmla="*/ 396360 h 1905120"/>
              <a:gd name="textAreaBottom" fmla="*/ 132588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88" stAng="-5400000" swAng="-5400000"/>
                <a:lnTo>
                  <a:pt x="0" y="10538"/>
                </a:lnTo>
                <a:arcTo wR="21600" hR="8988" stAng="10800000" swAng="-3018704"/>
                <a:lnTo>
                  <a:pt x="14550" y="21108"/>
                </a:lnTo>
                <a:lnTo>
                  <a:pt x="21600" y="18750"/>
                </a:lnTo>
                <a:lnTo>
                  <a:pt x="14550" y="15408"/>
                </a:lnTo>
                <a:lnTo>
                  <a:pt x="14550" y="17483"/>
                </a:lnTo>
                <a:arcTo wR="21600" hR="8988" stAng="7781296" swAng="2894951"/>
                <a:lnTo>
                  <a:pt x="80" y="9763"/>
                </a:lnTo>
                <a:arcTo wR="21600" hR="8988" stAng="-10676247" swAng="5276247"/>
                <a:close/>
              </a:path>
              <a:path fill="darkenLess" w="21600" h="21600">
                <a:moveTo>
                  <a:pt x="21600" y="0"/>
                </a:moveTo>
                <a:arcTo wR="21600" hR="8988" stAng="-5400000" swAng="-5400000"/>
                <a:lnTo>
                  <a:pt x="0" y="8988"/>
                </a:lnTo>
                <a:arcTo wR="21600" hR="8988" stAng="10800000" swAng="-123753"/>
                <a:lnTo>
                  <a:pt x="80" y="9763"/>
                </a:lnTo>
                <a:arcTo wR="21600" hR="8988" stAng="-10676247" swAng="5276247"/>
                <a:close/>
              </a:path>
            </a:pathLst>
          </a:cu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3788400">
            <a:off x="1173600" y="2102760"/>
            <a:ext cx="149400" cy="973080"/>
          </a:xfrm>
          <a:custGeom>
            <a:avLst/>
            <a:gdLst>
              <a:gd name="textAreaLeft" fmla="*/ 19800 w 149400"/>
              <a:gd name="textAreaRight" fmla="*/ 129600 w 149400"/>
              <a:gd name="textAreaTop" fmla="*/ 194040 h 973080"/>
              <a:gd name="textAreaBottom" fmla="*/ 779040 h 97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19" stAng="-5400000" swAng="-5400000"/>
                <a:lnTo>
                  <a:pt x="0" y="12981"/>
                </a:lnTo>
                <a:arcTo wR="21600" hR="8619" stAng="10800000" swAng="-5400000"/>
                <a:lnTo>
                  <a:pt x="21600" y="21600"/>
                </a:lnTo>
                <a:lnTo>
                  <a:pt x="21600" y="19419"/>
                </a:lnTo>
                <a:lnTo>
                  <a:pt x="21600" y="17238"/>
                </a:lnTo>
                <a:lnTo>
                  <a:pt x="21600" y="17238"/>
                </a:lnTo>
                <a:arcTo wR="21600" hR="8619" stAng="5400000" swAng="5042500"/>
                <a:lnTo>
                  <a:pt x="703" y="10800"/>
                </a:lnTo>
                <a:arcTo wR="21600" hR="8619" stAng="-10442500" swAng="5042500"/>
                <a:close/>
              </a:path>
              <a:path fill="darkenLess" w="21600" h="21600">
                <a:moveTo>
                  <a:pt x="21600" y="0"/>
                </a:moveTo>
                <a:arcTo wR="21600" hR="8619" stAng="-5400000" swAng="-5400000"/>
                <a:lnTo>
                  <a:pt x="0" y="8619"/>
                </a:lnTo>
                <a:arcTo wR="21600" hR="8619" stAng="10800000" swAng="-357500"/>
                <a:lnTo>
                  <a:pt x="703" y="10800"/>
                </a:lnTo>
                <a:arcTo wR="21600" hR="8619" stAng="-10442500" swAng="5042500"/>
                <a:close/>
              </a:path>
            </a:pathLst>
          </a:cu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987640" y="47973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87640" y="5157720"/>
            <a:ext cx="3097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84720" y="47973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87640" y="4797360"/>
            <a:ext cx="3097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5280" y="404640"/>
            <a:ext cx="7777080" cy="65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                           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Trombo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Predisposi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1.- Injuria endotelial.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2.-Alteraciones en el flujo sanguíneo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.- flujo turbulento contribuye a  trombosis arterial y cardiaca .  Flujo enlentecido a trombosis ven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Estasis y turbulenci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-Alteran  el  flujo  laminar  y  ponen  a  las  plaquetas en contacto con  el endotel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-Impiden que los factores activados de la coagulación se diluyan en la sangre circul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-Retrasan la entrada de inhibidores de la coagulación y permiten la acumulación de tromb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-Favorecen la activación de las células endotel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3.-Hipercoagul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Ilustración de los elementos de la sangre"/>
          <p:cNvPicPr/>
          <p:nvPr/>
        </p:nvPicPr>
        <p:blipFill>
          <a:blip r:embed="rId1"/>
          <a:stretch/>
        </p:blipFill>
        <p:spPr>
          <a:xfrm>
            <a:off x="149400" y="692280"/>
            <a:ext cx="3054240" cy="244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Formación de coágulos sanguíneos"/>
          <p:cNvPicPr/>
          <p:nvPr/>
        </p:nvPicPr>
        <p:blipFill>
          <a:blip r:embed="rId2"/>
          <a:stretch/>
        </p:blipFill>
        <p:spPr>
          <a:xfrm>
            <a:off x="4002120" y="3213000"/>
            <a:ext cx="3809880" cy="3048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Coágulos sanguíneos"/>
          <p:cNvPicPr/>
          <p:nvPr/>
        </p:nvPicPr>
        <p:blipFill>
          <a:blip r:embed="rId3"/>
          <a:stretch/>
        </p:blipFill>
        <p:spPr>
          <a:xfrm>
            <a:off x="3995640" y="189000"/>
            <a:ext cx="38102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8b"/>
            </a:gs>
            <a:gs pos="50000">
              <a:srgbClr val="3333cc"/>
            </a:gs>
            <a:gs pos="100000">
              <a:srgbClr val="2222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20" y="177840"/>
            <a:ext cx="861480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                              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l endotel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l    endotelio  por  su  localización  estratégica  y   s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funcionamiento complejo y multifacético se consid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ctualmente como  un órgano  vital para el organ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nim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Interviene  en  procesos  de  salud  y  enferme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La   célula  endotelial   sintetiza,  almacena y  lib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diferentes   moléculas   que   cumplen     fun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utocrinas,    paracrinas    y  endocri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l   recubrimiento  endotelial  ostenta diferen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receptores  que le  permiten captar señales física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químicas,   hormonales  e  inmunológica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297160" y="1724040"/>
          <a:ext cx="4549680" cy="34084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7160" y="1724040"/>
                    <a:ext cx="4549680" cy="34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0" y="3240"/>
          <a:ext cx="9144000" cy="685008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40"/>
                    <a:ext cx="9144000" cy="68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0" y="0"/>
          <a:ext cx="9144000" cy="6850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5c00"/>
            </a:gs>
            <a:gs pos="50000">
              <a:srgbClr val="cc9900"/>
            </a:gs>
            <a:gs pos="100000">
              <a:srgbClr val="7a5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90920" y="2514600"/>
            <a:ext cx="4190760" cy="1905120"/>
          </a:xfrm>
          <a:prstGeom prst="ellipse">
            <a:avLst/>
          </a:prstGeom>
          <a:gradFill rotWithShape="0">
            <a:gsLst>
              <a:gs pos="0">
                <a:srgbClr val="8ba1ae"/>
              </a:gs>
              <a:gs pos="50000">
                <a:srgbClr val="ccecff"/>
              </a:gs>
              <a:gs pos="100000">
                <a:srgbClr val="8ba1a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rot="3705000">
            <a:off x="2818800" y="2818800"/>
            <a:ext cx="76320" cy="22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2666880"/>
            <a:ext cx="144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PGI</a:t>
            </a:r>
            <a:r>
              <a:rPr b="1" lang="en-US" sz="24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38280" y="297180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71800" y="297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27432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ENILATO CICLA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670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M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7339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3809880"/>
            <a:ext cx="22860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457200"/>
            <a:ext cx="3886200" cy="762120"/>
          </a:xfrm>
          <a:prstGeom prst="ellipse">
            <a:avLst/>
          </a:prstGeom>
          <a:gradFill rotWithShape="0">
            <a:gsLst>
              <a:gs pos="0">
                <a:srgbClr val="e2761c"/>
              </a:gs>
              <a:gs pos="100000">
                <a:srgbClr val="ad5a1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10666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00200" y="609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.endotel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57600" y="19810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Plaqu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4495680"/>
            <a:ext cx="457200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Inhibe: cambio de fo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                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secreción , agreg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                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unión a F. von Willebr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                  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y al fibrinóge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90920" y="25909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429000"/>
            <a:ext cx="32004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Estimulan su Sínt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ombina, trips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histamina , hipoxia aguda,  bradiquinina, angiotensina, TXA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219320" y="2971800"/>
            <a:ext cx="5331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5c00"/>
            </a:gs>
            <a:gs pos="50000">
              <a:srgbClr val="cc9900"/>
            </a:gs>
            <a:gs pos="100000">
              <a:srgbClr val="7a5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590920" y="2514600"/>
            <a:ext cx="4190760" cy="1905120"/>
          </a:xfrm>
          <a:prstGeom prst="ellipse">
            <a:avLst/>
          </a:prstGeom>
          <a:gradFill rotWithShape="0">
            <a:gsLst>
              <a:gs pos="0">
                <a:srgbClr val="8ba1ae"/>
              </a:gs>
              <a:gs pos="50000">
                <a:srgbClr val="ccecff"/>
              </a:gs>
              <a:gs pos="100000">
                <a:srgbClr val="8ba1a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19320" y="26668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2971800"/>
            <a:ext cx="1447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3392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M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7339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3809880"/>
            <a:ext cx="22860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457200"/>
            <a:ext cx="3886200" cy="762120"/>
          </a:xfrm>
          <a:prstGeom prst="ellipse">
            <a:avLst/>
          </a:prstGeom>
          <a:gradFill rotWithShape="0">
            <a:gsLst>
              <a:gs pos="0">
                <a:srgbClr val="e2761c"/>
              </a:gs>
              <a:gs pos="100000">
                <a:srgbClr val="ad5a1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09680" y="10666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609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.endotel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19810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Plaqu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4495680"/>
            <a:ext cx="45720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Inhibe: agregación y adh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6T18:55:17Z</dcterms:created>
  <dc:creator>Pilar Barja</dc:creator>
  <dc:description/>
  <dc:language>en-US</dc:language>
  <cp:lastModifiedBy>usuario</cp:lastModifiedBy>
  <dcterms:modified xsi:type="dcterms:W3CDTF">2007-10-01T16:07:33Z</dcterms:modified>
  <cp:revision>28</cp:revision>
  <dc:subject/>
  <dc:title>Sin título de diapositiva</dc:title>
</cp:coreProperties>
</file>