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6707188" cy="6551613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D0E4-4245-4766-AC65-2F4C4433D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581040"/>
            <a:ext cx="5699160" cy="1092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891800"/>
            <a:ext cx="5699160" cy="1875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945960"/>
            <a:ext cx="5699160" cy="1875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1A08-A2E5-4020-9506-23E507D2E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581040"/>
            <a:ext cx="5699160" cy="1092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891800"/>
            <a:ext cx="2781000" cy="1875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423240" y="1891800"/>
            <a:ext cx="2781000" cy="1875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945960"/>
            <a:ext cx="2781000" cy="1875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423240" y="3945960"/>
            <a:ext cx="2781000" cy="1875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D6A6-1837-4776-85C7-4958BAB8D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581040"/>
            <a:ext cx="5699160" cy="1092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891800"/>
            <a:ext cx="1834920" cy="1875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30000" y="1891800"/>
            <a:ext cx="1834920" cy="1875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357080" y="1891800"/>
            <a:ext cx="1834920" cy="1875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945960"/>
            <a:ext cx="1834920" cy="1875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30000" y="3945960"/>
            <a:ext cx="1834920" cy="1875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357080" y="3945960"/>
            <a:ext cx="1834920" cy="1875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53E8-EA25-4449-BF90-7BBAD8BFD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581040"/>
            <a:ext cx="5699160" cy="1092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891800"/>
            <a:ext cx="569916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3623-084D-47C3-8BEB-D1D908864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581040"/>
            <a:ext cx="5699160" cy="1092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891800"/>
            <a:ext cx="5699160" cy="39322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E718-EE6E-4074-9015-318C1CBC4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581040"/>
            <a:ext cx="5699160" cy="1092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891800"/>
            <a:ext cx="2781000" cy="39322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423240" y="1891800"/>
            <a:ext cx="2781000" cy="39322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D82D-5B6C-41A6-9D89-F8CE758B9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581040"/>
            <a:ext cx="5699160" cy="1092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953D-28F3-4A21-A735-1DEB56B0D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581040"/>
            <a:ext cx="569916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BEDA-9198-43FD-933A-5A9F1C5F4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581040"/>
            <a:ext cx="5699160" cy="1092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91800"/>
            <a:ext cx="2781000" cy="1875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423240" y="1891800"/>
            <a:ext cx="2781000" cy="39322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945960"/>
            <a:ext cx="2781000" cy="1875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B700-81A2-4A67-8665-83FB2B24C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581040"/>
            <a:ext cx="5699160" cy="1092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91800"/>
            <a:ext cx="2781000" cy="39322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423240" y="1891800"/>
            <a:ext cx="2781000" cy="1875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423240" y="3945960"/>
            <a:ext cx="2781000" cy="1875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109A-D1F6-4E1A-8091-8EAF49F7B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581040"/>
            <a:ext cx="5699160" cy="1092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91800"/>
            <a:ext cx="2781000" cy="1875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23240" y="1891800"/>
            <a:ext cx="2781000" cy="1875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945960"/>
            <a:ext cx="5699160" cy="1875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DDD6-B857-41CF-AD69-60A13E186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581040"/>
            <a:ext cx="5699160" cy="1092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891800"/>
            <a:ext cx="5699160" cy="39322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 fontScale="97000"/>
          </a:bodyPr>
          <a:p>
            <a:pPr marL="312480" indent="-3124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7160" indent="-25992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0772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59440" indent="-20772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76680" indent="-2091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76680" indent="-2091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76680" indent="-2091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5971680"/>
            <a:ext cx="1396800" cy="435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Autofit/>
          </a:bodyPr>
          <a:lstStyle>
            <a:lvl1pPr indent="0"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90680" y="5971680"/>
            <a:ext cx="2124000" cy="435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Autofit/>
          </a:bodyPr>
          <a:lstStyle>
            <a:lvl1pPr indent="0" algn="ctr"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804920" y="5971680"/>
            <a:ext cx="1397160" cy="435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Autofit/>
          </a:bodyPr>
          <a:lstStyle>
            <a:lvl1pPr indent="0" algn="r"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fld id="{C7AE7BD8-922C-443E-A818-D78E1E51BBF2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1640" y="2349360"/>
            <a:ext cx="6274080" cy="32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600" spc="-1" strike="noStrike">
                <a:solidFill>
                  <a:srgbClr val="ffffff"/>
                </a:solidFill>
                <a:latin typeface="Times New Roman"/>
              </a:rPr>
              <a:t>Shock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ffff"/>
                </a:solidFill>
                <a:latin typeface="Times New Roman"/>
              </a:rPr>
              <a:t>Dra. Pilar Mach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ffff"/>
                </a:solidFill>
                <a:latin typeface="Times New Roman"/>
              </a:rPr>
              <a:t>Fisiopatología Cardiovascul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ffff"/>
                </a:solidFill>
                <a:latin typeface="Times New Roman"/>
              </a:rPr>
              <a:t>ICBM, Facultad de Medici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4160" y="0"/>
            <a:ext cx="1930320" cy="21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98440" y="1905120"/>
            <a:ext cx="6407280" cy="41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62"/>
              </a:spcBef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ffffff"/>
                </a:solidFill>
                <a:latin typeface="Times New Roman"/>
              </a:rPr>
              <a:t>Falla de bomba :IAM (pérdida &gt; del 40% de tej vent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62"/>
              </a:spcBef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ffffff"/>
                </a:solidFill>
                <a:latin typeface="Times New Roman"/>
              </a:rPr>
              <a:t>Insuficiencia mitral o aórtica agudas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88"/>
              </a:spcBef>
              <a:buClr>
                <a:srgbClr val="ffffff"/>
              </a:buClr>
              <a:buFont typeface="Times New Roman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ffffff"/>
                </a:solidFill>
                <a:latin typeface="Times New Roman"/>
              </a:rPr>
              <a:t>Arritmias</a:t>
            </a:r>
            <a:r>
              <a:rPr b="0" i="1" lang="es-ES" sz="19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Times New Roman"/>
              </a:rPr>
              <a:t>Hemodinamia: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índice cardíaco (&lt; 1.8 l/min/m</a:t>
            </a:r>
            <a:r>
              <a:rPr b="0" i="1" lang="es-E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), PDFVI &gt; 18 mmHg, edema pulmonar, RVP normal o aumentada. En falla de bomba:ECO: dilatación ventricular,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ontract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98320" y="247680"/>
            <a:ext cx="576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ff"/>
                </a:solidFill>
                <a:latin typeface="Times New Roman"/>
              </a:rPr>
              <a:t>Shock cardiogénic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8440" y="1278000"/>
            <a:ext cx="606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Causa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2920" y="237960"/>
            <a:ext cx="5699160" cy="1092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1" i="1" lang="en-US" sz="3700" spc="-1" strike="noStrike">
                <a:solidFill>
                  <a:srgbClr val="ffffff"/>
                </a:solidFill>
                <a:latin typeface="Times New Roman"/>
              </a:rPr>
              <a:t>Mecanismos compensadores del bajo débito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-360" y="1329840"/>
            <a:ext cx="6705720" cy="39322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Activación del S Simpático y adrenal: venoconstricción,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etorno venoso,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 RVP, taquicardia, redistribución de flujo,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 del inotropis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Liberación de vasopresina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HAD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Activación eje RAA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r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eabsorción de H</a:t>
            </a:r>
            <a:r>
              <a:rPr b="0" i="1" lang="es-E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O y Na</a:t>
            </a:r>
            <a:r>
              <a:rPr b="0" i="1" lang="es-ES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 a nivel re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Reabsorción de líquido interst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Symbol" charset="2"/>
              <a:buChar char=""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extracción de O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e la sangre arterial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si el GC </a:t>
            </a:r>
            <a:r>
              <a:rPr b="0" i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i="1" lang="es-CL" sz="2200" spc="-1" strike="noStrike">
                <a:solidFill>
                  <a:srgbClr val="ffffff"/>
                </a:solidFill>
                <a:latin typeface="Times New Roman"/>
              </a:rPr>
              <a:t>a 1/3 se puede recuperar el aporte de O</a:t>
            </a:r>
            <a:r>
              <a:rPr b="0" i="1" lang="es-CL" sz="2200" spc="-1" strike="noStrike" baseline="-25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i="1" lang="es-CL" sz="2200" spc="-1" strike="noStrike">
                <a:solidFill>
                  <a:srgbClr val="ffffff"/>
                </a:solidFill>
                <a:latin typeface="Times New Roman"/>
              </a:rPr>
              <a:t>aumentando la extracción en lado venoso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3040" y="5362560"/>
            <a:ext cx="599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cc99"/>
                </a:solidFill>
                <a:latin typeface="Times New Roman"/>
              </a:rPr>
              <a:t>La efectividad de estos dependen de la edad, enfermedades concomitantes (DM, falla renal), terapia farmacológica (bloq beta, vasodilatadores et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06440" y="-69840"/>
            <a:ext cx="62992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lang="es-ES_tradnl" sz="3300" spc="-1" strike="noStrike">
                <a:solidFill>
                  <a:srgbClr val="ffffff"/>
                </a:solidFill>
                <a:latin typeface="Times New Roman"/>
              </a:rPr>
              <a:t>Progresión del shock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06440" y="294624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549760" y="3403440"/>
            <a:ext cx="12960" cy="8258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076280" y="4971960"/>
            <a:ext cx="12600" cy="9208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91000" y="4971960"/>
            <a:ext cx="0" cy="6415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701720" y="5613480"/>
            <a:ext cx="0" cy="2793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81080" y="4867200"/>
            <a:ext cx="0" cy="4795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5657760" y="5357880"/>
            <a:ext cx="12960" cy="7048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3416040" y="1523880"/>
            <a:ext cx="12600" cy="4651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2133360" y="1506600"/>
            <a:ext cx="12600" cy="4651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562360" y="1533600"/>
            <a:ext cx="12600" cy="4651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3619080" y="2405160"/>
            <a:ext cx="12600" cy="2746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489040" y="2405160"/>
            <a:ext cx="1130400" cy="2746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19440" y="2405160"/>
            <a:ext cx="1771560" cy="2746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885760" y="3390840"/>
            <a:ext cx="733320" cy="9907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1968120" y="4091040"/>
            <a:ext cx="12600" cy="2746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120760" y="3133800"/>
            <a:ext cx="12960" cy="2746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14120" y="6273720"/>
            <a:ext cx="161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114480" y="1333080"/>
            <a:ext cx="0" cy="49402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14480" y="917640"/>
            <a:ext cx="6456240" cy="5604840"/>
            <a:chOff x="114480" y="917640"/>
            <a:chExt cx="6456240" cy="5604840"/>
          </a:xfrm>
        </p:grpSpPr>
        <p:sp>
          <p:nvSpPr>
            <p:cNvPr id="111" name=""/>
            <p:cNvSpPr/>
            <p:nvPr/>
          </p:nvSpPr>
          <p:spPr>
            <a:xfrm>
              <a:off x="1066680" y="917640"/>
              <a:ext cx="4673880" cy="6062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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GC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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</a:t>
              </a:r>
              <a:r>
                <a:rPr b="0" i="1" lang="en-US" sz="2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A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</a:t>
              </a:r>
              <a:r>
                <a:rPr b="0" i="1" lang="en-US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</a:t>
              </a:r>
              <a:r>
                <a:rPr b="0" i="1" lang="en-US" sz="3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Flujo sistémic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76120" y="1998720"/>
              <a:ext cx="246708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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utrición miocárd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886120" y="1998720"/>
              <a:ext cx="2282760" cy="368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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utrición tejid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315040" y="1989000"/>
              <a:ext cx="1179360" cy="368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oag I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346040" y="2757600"/>
              <a:ext cx="1295640" cy="368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L" sz="1800" spc="-1" strike="noStrike">
                  <a:solidFill>
                    <a:srgbClr val="ffffff"/>
                  </a:solidFill>
                  <a:latin typeface="Times New Roman"/>
                </a:rPr>
                <a:t>cerebr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743200" y="2679840"/>
              <a:ext cx="2000160" cy="6426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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utrición ca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,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</a:t>
              </a:r>
              <a:r>
                <a:rPr b="0" i="1" lang="es-CL" sz="1800" spc="-1" strike="noStrike">
                  <a:solidFill>
                    <a:srgbClr val="ffffff"/>
                  </a:solidFill>
                  <a:latin typeface="Times New Roman"/>
                </a:rPr>
                <a:t> permeab ca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876920" y="2679840"/>
              <a:ext cx="1231920" cy="6426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L" sz="1800" spc="-1" strike="noStrike">
                  <a:solidFill>
                    <a:srgbClr val="ffffff"/>
                  </a:solidFill>
                  <a:latin typeface="Times New Roman"/>
                </a:rPr>
                <a:t>Isquemia tisul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743360" y="4381560"/>
              <a:ext cx="1365480" cy="5806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L" sz="1600" spc="-1" strike="noStrike">
                  <a:solidFill>
                    <a:srgbClr val="ffffff"/>
                  </a:solidFill>
                  <a:latin typeface="Times New Roman"/>
                </a:rPr>
                <a:t>Liberación de toxin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125880" y="4487760"/>
              <a:ext cx="1282680" cy="368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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volem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767040" y="6062760"/>
              <a:ext cx="2803680" cy="4597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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Retorno venos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76120" y="6062760"/>
              <a:ext cx="3152880" cy="4597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L" sz="2400" spc="-1" strike="noStrike">
                  <a:solidFill>
                    <a:srgbClr val="ffffff"/>
                  </a:solidFill>
                  <a:latin typeface="Times New Roman"/>
                </a:rPr>
                <a:t>Depresión miocárdic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346040" y="3403440"/>
              <a:ext cx="1295640" cy="6426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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ctiv vasomotor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98400" y="4484520"/>
              <a:ext cx="2343240" cy="368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L" sz="1800" spc="-1" strike="noStrike">
                  <a:solidFill>
                    <a:srgbClr val="ffffff"/>
                  </a:solidFill>
                  <a:latin typeface="Times New Roman"/>
                </a:rPr>
                <a:t>Dilatación vascul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31640" y="2405160"/>
              <a:ext cx="0" cy="34876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273720" y="2405160"/>
              <a:ext cx="0" cy="34876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1701720" y="5613480"/>
              <a:ext cx="36892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1980720" y="5346720"/>
              <a:ext cx="36896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632040" y="3403440"/>
              <a:ext cx="0" cy="9622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 flipV="1">
              <a:off x="4088880" y="3408120"/>
              <a:ext cx="1079640" cy="9730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14480" y="1333440"/>
              <a:ext cx="9522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6570720" y="1333440"/>
              <a:ext cx="0" cy="46800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 flipH="1">
            <a:off x="5740560" y="1333440"/>
            <a:ext cx="83016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577800"/>
            <a:ext cx="6510240" cy="5938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s-ES_tradnl" sz="4000" spc="-1" strike="noStrike">
                <a:solidFill>
                  <a:srgbClr val="000000"/>
                </a:solidFill>
                <a:latin typeface="Arial"/>
              </a:rPr>
              <a:t>El propio shock produce      shock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000000"/>
                </a:solidFill>
                <a:latin typeface="Arial"/>
              </a:rPr>
              <a:t>La isquemia tisular y el daño endotelial agrava el cuadro clín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2920" y="237960"/>
            <a:ext cx="5699160" cy="1092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1" i="1" lang="es-ES" sz="5500" spc="-1" strike="noStrike">
                <a:solidFill>
                  <a:srgbClr val="ffffff"/>
                </a:solidFill>
                <a:latin typeface="Times New Roman"/>
              </a:rPr>
              <a:t>Shock séptico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-360" y="1329840"/>
            <a:ext cx="6388200" cy="39322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 marL="322200" indent="0">
              <a:lnSpc>
                <a:spcPct val="90000"/>
              </a:lnSpc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Disfunción vasomotora y redistribución del flujo sanguíneo producida por Sep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Times New Roman"/>
              </a:rPr>
              <a:t>Hemodinamia: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vasodilatación arterial y venosa prod por mediadores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Times New Roman"/>
              </a:rPr>
              <a:t>muy baja precarga (baja volemia y retorno),muy baja RVS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" sz="2100" spc="-1" strike="noStrike">
                <a:solidFill>
                  <a:srgbClr val="ff3300"/>
                </a:solidFill>
                <a:latin typeface="Times New Roman"/>
              </a:rPr>
              <a:t>HIPOPERFUSIÓN TISULAR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. Fracc eyección </a:t>
            </a:r>
            <a:r>
              <a:rPr b="0" i="1" lang="en-US" sz="25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i="1" lang="en-US" sz="25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VE y GC aumentados al comienzo (diferencia con shock cardiogénico) pero finalmente se prod depresión de la contractilidad miocárdic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45960" y="631800"/>
            <a:ext cx="63597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Times New Roman"/>
              </a:rPr>
              <a:t>En el Shock Séptico se produce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4800" spc="-1" strike="noStrike">
                <a:solidFill>
                  <a:srgbClr val="ffffff"/>
                </a:solidFill>
                <a:latin typeface="Times New Roman"/>
              </a:rPr>
              <a:t>falla orgánica múltiple. </a:t>
            </a:r>
            <a:r>
              <a:rPr b="0" i="1" lang="es-ES_tradnl" sz="4800" spc="-1" strike="noStrike">
                <a:solidFill>
                  <a:srgbClr val="ffffff"/>
                </a:solidFill>
                <a:latin typeface="Times New Roman"/>
              </a:rPr>
              <a:t>Riesgo de muerte aumenta 15 a 20 % por falla de cada órgano adicion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34920"/>
            <a:ext cx="6527880" cy="1092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imes New Roman"/>
              </a:rPr>
              <a:t>Sindrome de disfunción orgánica múlti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77840" y="1285920"/>
            <a:ext cx="6273720" cy="426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Times New Roman"/>
              </a:rPr>
              <a:t>PULMONES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: SDRA:hipoxe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ffff"/>
                </a:solidFill>
                <a:latin typeface="Times New Roman"/>
              </a:rPr>
              <a:t>RIÑON: 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necrosis tubular aguda por hipoperfu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ffff"/>
                </a:solidFill>
                <a:latin typeface="Times New Roman"/>
              </a:rPr>
              <a:t>CARDIOVASCULAR: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 hipotensión hiperdinámica, </a:t>
            </a:r>
            <a:r>
              <a:rPr b="0" i="1" lang="es-ES" sz="1800" spc="-1" strike="noStrike">
                <a:solidFill>
                  <a:srgbClr val="ffffff"/>
                </a:solidFill>
                <a:latin typeface="Times New Roman"/>
              </a:rPr>
              <a:t>Insuficiencia cardíaca por factores depres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ffff"/>
                </a:solidFill>
                <a:latin typeface="Times New Roman"/>
              </a:rPr>
              <a:t>SN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:encefalopatía metabólica y polineuropat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ffff"/>
                </a:solidFill>
                <a:latin typeface="Times New Roman"/>
              </a:rPr>
              <a:t>SISTEMA DE COAGULACIÓN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:D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ffff"/>
                </a:solidFill>
                <a:latin typeface="Times New Roman"/>
              </a:rPr>
              <a:t>GASTROINTESTINAL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: íleo, isquemia esplácnica, translocación de bacteri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ffff"/>
                </a:solidFill>
                <a:latin typeface="Times New Roman"/>
              </a:rPr>
              <a:t>Hepatitis aguda no infecciosa:</a:t>
            </a:r>
            <a:r>
              <a:rPr b="0" i="1" lang="es-C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poperfusión,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necrosis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MUSCULO ESQUELETICO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:rabdomioli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GLANDULAS ADRENALES: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Insuf adrenal agu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7680" y="0"/>
            <a:ext cx="2819520" cy="11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i="1" lang="es-ES_tradnl" sz="7400" spc="-1" strike="noStrike">
                <a:solidFill>
                  <a:srgbClr val="ffffff"/>
                </a:solidFill>
                <a:latin typeface="Times New Roman"/>
              </a:rPr>
              <a:t>Shock</a:t>
            </a:r>
            <a:endParaRPr b="0" lang="en-US" sz="7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7680" y="1116000"/>
            <a:ext cx="631188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15720" indent="-315720" algn="just">
              <a:lnSpc>
                <a:spcPct val="180000"/>
              </a:lnSpc>
              <a:spcBef>
                <a:spcPts val="476"/>
              </a:spcBef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i="1" lang="es-ES_tradnl" sz="1900" spc="-1" strike="noStrike">
                <a:solidFill>
                  <a:srgbClr val="ffffff"/>
                </a:solidFill>
                <a:latin typeface="Times New Roman"/>
              </a:rPr>
              <a:t>Hipoperfusión tisular, con aporte insuficiente de O</a:t>
            </a:r>
            <a:r>
              <a:rPr b="0" i="1" lang="es-ES_tradnl" sz="19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1900" spc="-1" strike="noStrike">
                <a:solidFill>
                  <a:srgbClr val="ffffff"/>
                </a:solidFill>
                <a:latin typeface="Times New Roman"/>
              </a:rPr>
              <a:t> y otros sustratos metabólicos esenciales, asociado a una eliminación insuficiente de los productos celulares. La mantención de este estado provocará una falla orgánica múltiple de no mediar una oportuna y adecuada reanimación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15720" indent="-315720" algn="just">
              <a:lnSpc>
                <a:spcPct val="180000"/>
              </a:lnSpc>
              <a:spcBef>
                <a:spcPts val="476"/>
              </a:spcBef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i="1" lang="es-ES_tradnl" sz="1900" spc="-1" strike="noStrike">
                <a:solidFill>
                  <a:srgbClr val="ffffff"/>
                </a:solidFill>
                <a:latin typeface="Times New Roman"/>
              </a:rPr>
              <a:t>Causas: hipovolemia por sangramiento y otras pérdidas; cardiogénico, distributivo: shock séptic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15720" indent="-315720" algn="just">
              <a:lnSpc>
                <a:spcPct val="180000"/>
              </a:lnSpc>
              <a:spcBef>
                <a:spcPts val="476"/>
              </a:spcBef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09480" y="785880"/>
            <a:ext cx="594072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09240" indent="-309240" algn="just">
              <a:lnSpc>
                <a:spcPct val="180000"/>
              </a:lnSpc>
              <a:spcBef>
                <a:spcPts val="799"/>
              </a:spcBef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La mantención de este estado provocará una falla orgánica múltiple y shock irreversible de no mediar una oportuna y adecuada reani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405320"/>
            <a:ext cx="6505560" cy="20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ffffff"/>
                </a:solidFill>
                <a:latin typeface="Times New Roman"/>
              </a:rPr>
              <a:t>Producción anaeróbica de ATP en la glicólisis: Por c/mol de G se forman 2 mols de Gly-3P y 2 mols de ATP lo que es  mucho menos eficiente que la fosforilación aeróbica. Cuando hay O</a:t>
            </a:r>
            <a:r>
              <a:rPr b="0" i="1" lang="es-ES" sz="1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" sz="1800" spc="-1" strike="noStrike">
                <a:solidFill>
                  <a:srgbClr val="ffffff"/>
                </a:solidFill>
                <a:latin typeface="Times New Roman"/>
              </a:rPr>
              <a:t> el piruvato que es el último metabolito formado, es oxidado pierde grupo carboxilo y aporta el grupo acetilo que es completamente ox a CO</a:t>
            </a:r>
            <a:r>
              <a:rPr b="0" i="1" lang="es-ES" sz="1800" spc="-1" strike="noStrike" baseline="-25000">
                <a:solidFill>
                  <a:srgbClr val="ffffff"/>
                </a:solidFill>
                <a:latin typeface="Times New Roman"/>
              </a:rPr>
              <a:t>2  </a:t>
            </a:r>
            <a:r>
              <a:rPr b="0" i="1" lang="es-ES" sz="1800" spc="-1" strike="noStrike">
                <a:solidFill>
                  <a:srgbClr val="ffffff"/>
                </a:solidFill>
                <a:latin typeface="Times New Roman"/>
              </a:rPr>
              <a:t>en ciclo de ác cítrico y los é pasan al O</a:t>
            </a:r>
            <a:r>
              <a:rPr b="0" i="1" lang="es-ES" sz="1800" spc="-1" strike="noStrike" baseline="-25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i="1" lang="es-ES" sz="1800" spc="-1" strike="noStrike">
                <a:solidFill>
                  <a:srgbClr val="ffffff"/>
                </a:solidFill>
                <a:latin typeface="Times New Roman"/>
              </a:rPr>
              <a:t>para formar H</a:t>
            </a:r>
            <a:r>
              <a:rPr b="0" i="1" lang="es-ES" sz="1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" sz="1800" spc="-1" strike="noStrike">
                <a:solidFill>
                  <a:srgbClr val="ffffff"/>
                </a:solidFill>
                <a:latin typeface="Times New Roman"/>
              </a:rPr>
              <a:t>O. La tranferencia de é permite sínt de ATP. En anaerobiosis el piruvato es reducido a lactato para regenerar NAD</a:t>
            </a:r>
            <a:r>
              <a:rPr b="0" i="1" lang="es-ES" sz="18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i="1" lang="es-ES" sz="1800" spc="-1" strike="noStrike">
                <a:solidFill>
                  <a:srgbClr val="ffffff"/>
                </a:solidFill>
                <a:latin typeface="Times New Roman"/>
              </a:rPr>
              <a:t>(necesario para oxidar Gly-3P). Lactato</a:t>
            </a:r>
            <a:r>
              <a:rPr b="0" i="1" lang="es-ES" sz="18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" sz="1800" spc="-1" strike="noStrike">
                <a:solidFill>
                  <a:srgbClr val="ffffff"/>
                </a:solidFill>
                <a:latin typeface="Times New Roman"/>
              </a:rPr>
              <a:t>llega a ser el aceptor terminal de é y sus protones producen acidosis metaból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3871800" y="1677960"/>
            <a:ext cx="1741680" cy="606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766880" y="3559320"/>
            <a:ext cx="94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NAD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1280" y="393840"/>
            <a:ext cx="6510240" cy="4019760"/>
            <a:chOff x="71280" y="393840"/>
            <a:chExt cx="6510240" cy="4019760"/>
          </a:xfrm>
        </p:grpSpPr>
        <p:sp>
          <p:nvSpPr>
            <p:cNvPr id="50" name=""/>
            <p:cNvSpPr/>
            <p:nvPr/>
          </p:nvSpPr>
          <p:spPr>
            <a:xfrm>
              <a:off x="2981880" y="797040"/>
              <a:ext cx="0" cy="14857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981880" y="2671200"/>
              <a:ext cx="0" cy="1019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151080" y="1290240"/>
              <a:ext cx="448200" cy="558000"/>
            </a:xfrm>
            <a:custGeom>
              <a:avLst/>
              <a:gdLst>
                <a:gd name="textAreaLeft" fmla="*/ 59760 w 448200"/>
                <a:gd name="textAreaRight" fmla="*/ 388440 w 448200"/>
                <a:gd name="textAreaTop" fmla="*/ 97560 h 558000"/>
                <a:gd name="textAreaBottom" fmla="*/ 404640 h 55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26400" y="3207600"/>
              <a:ext cx="1052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4 AT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151080" y="2857320"/>
              <a:ext cx="448200" cy="700920"/>
            </a:xfrm>
            <a:custGeom>
              <a:avLst/>
              <a:gdLst>
                <a:gd name="textAreaLeft" fmla="*/ 59760 w 448200"/>
                <a:gd name="textAreaRight" fmla="*/ 388440 w 448200"/>
                <a:gd name="textAreaTop" fmla="*/ 122400 h 700920"/>
                <a:gd name="textAreaBottom" fmla="*/ 508320 h 70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637720" y="3122640"/>
              <a:ext cx="272880" cy="541080"/>
            </a:xfrm>
            <a:custGeom>
              <a:avLst/>
              <a:gdLst>
                <a:gd name="textAreaLeft" fmla="*/ 36360 w 272880"/>
                <a:gd name="textAreaRight" fmla="*/ 236520 w 272880"/>
                <a:gd name="textAreaTop" fmla="*/ 94680 h 541080"/>
                <a:gd name="textAreaBottom" fmla="*/ 392400 h 54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9091"/>
                  <a:lnTo>
                    <a:pt x="7176" y="21171"/>
                  </a:lnTo>
                  <a:lnTo>
                    <a:pt x="0" y="17280"/>
                  </a:lnTo>
                  <a:lnTo>
                    <a:pt x="7176" y="12531"/>
                  </a:lnTo>
                  <a:lnTo>
                    <a:pt x="7176" y="14691"/>
                  </a:lnTo>
                  <a:arcTo wR="21600" hR="7560" stAng="2689091" swAng="-2331656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1337760" y="3921480"/>
              <a:ext cx="1370520" cy="12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872160" y="3921480"/>
              <a:ext cx="15332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24360" y="393840"/>
              <a:ext cx="1910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GLUCOS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68480" y="2267640"/>
              <a:ext cx="239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Times New Roman"/>
                </a:rPr>
                <a:t>Gliceraldehido 3-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637720" y="3690360"/>
              <a:ext cx="123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Times New Roman"/>
                </a:rPr>
                <a:t>Piruva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1280" y="3690360"/>
              <a:ext cx="1143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Lacta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801320" y="1274760"/>
              <a:ext cx="158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Glicógen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202920" y="952200"/>
              <a:ext cx="109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2 AT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475800" y="1662480"/>
              <a:ext cx="88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2 AD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801320" y="1991520"/>
              <a:ext cx="480600" cy="663840"/>
            </a:xfrm>
            <a:custGeom>
              <a:avLst/>
              <a:gdLst>
                <a:gd name="textAreaLeft" fmla="*/ 64080 w 480600"/>
                <a:gd name="textAreaRight" fmla="*/ 416520 w 480600"/>
                <a:gd name="textAreaTop" fmla="*/ 115920 h 663840"/>
                <a:gd name="textAreaBottom" fmla="*/ 481320 h 663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81920" y="1833120"/>
              <a:ext cx="89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1 AT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074200" y="2491200"/>
              <a:ext cx="109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1 AD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202920" y="2820240"/>
              <a:ext cx="1052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4 AD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922760" y="2885040"/>
              <a:ext cx="336240" cy="673200"/>
            </a:xfrm>
            <a:custGeom>
              <a:avLst/>
              <a:gdLst>
                <a:gd name="textAreaLeft" fmla="*/ 0 w 336240"/>
                <a:gd name="textAreaRight" fmla="*/ 336240 w 336240"/>
                <a:gd name="textAreaTop" fmla="*/ 0 h 673200"/>
                <a:gd name="textAreaBottom" fmla="*/ 673560 h 67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091960" y="2835720"/>
              <a:ext cx="76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NA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19520" y="4078080"/>
              <a:ext cx="138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anaerobiosi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281920" y="3690360"/>
              <a:ext cx="1299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Times New Roman"/>
                </a:rPr>
                <a:t>Ciclo ác cítric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749040" y="4137120"/>
              <a:ext cx="1325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aerobiosi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2920" y="581040"/>
            <a:ext cx="5699160" cy="1092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lang="es-CL" sz="3700" spc="-1" strike="noStrike">
                <a:solidFill>
                  <a:srgbClr val="ffffff"/>
                </a:solidFill>
                <a:latin typeface="Times New Roman"/>
              </a:rPr>
              <a:t>Efectos del déficit de O</a:t>
            </a:r>
            <a:r>
              <a:rPr b="0" lang="es-CL" sz="3700" spc="-1" strike="noStrike" baseline="-25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s-CL" sz="3700" spc="-1" strike="noStrike">
                <a:solidFill>
                  <a:srgbClr val="ffffff"/>
                </a:solidFill>
                <a:latin typeface="Times New Roman"/>
              </a:rPr>
              <a:t>tisular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65240" y="1891800"/>
            <a:ext cx="6540480" cy="39322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 fontScale="91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i="1" lang="es-CL" sz="3000" spc="-1" strike="noStrike">
                <a:solidFill>
                  <a:srgbClr val="ffffff"/>
                </a:solidFill>
                <a:latin typeface="Times New Roman"/>
              </a:rPr>
              <a:t>Anaerobiosis</a:t>
            </a:r>
            <a:r>
              <a:rPr b="0" i="1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i="1" lang="es-ES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i="1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" sz="3000" spc="-1" strike="noStrike">
                <a:solidFill>
                  <a:srgbClr val="ffffff"/>
                </a:solidFill>
                <a:latin typeface="Times New Roman"/>
              </a:rPr>
              <a:t>ác láctico </a:t>
            </a:r>
            <a:r>
              <a:rPr b="0" i="1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cidosis. La </a:t>
            </a:r>
            <a:r>
              <a:rPr b="0" i="1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 del ATP </a:t>
            </a:r>
            <a:r>
              <a:rPr b="0" i="1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</a:t>
            </a:r>
            <a:r>
              <a:rPr b="0" i="1" lang="es-ES" sz="3000" spc="-1" strike="noStrike">
                <a:solidFill>
                  <a:srgbClr val="ffffff"/>
                </a:solidFill>
                <a:latin typeface="Times New Roman"/>
              </a:rPr>
              <a:t> transporte iónico dependiente de energía </a:t>
            </a:r>
            <a:r>
              <a:rPr b="0" i="1" lang="es-ES" sz="3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acumulación de Na</a:t>
            </a:r>
            <a:r>
              <a:rPr b="0" i="1" lang="en-US" sz="30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 , H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O y Ca</a:t>
            </a:r>
            <a:r>
              <a:rPr b="0" i="1" lang="en-US" sz="3000" spc="-1" strike="noStrike" baseline="30000">
                <a:solidFill>
                  <a:srgbClr val="ffffff"/>
                </a:solidFill>
                <a:latin typeface="Times New Roman"/>
              </a:rPr>
              <a:t>2+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ntracel. Este último activa proteasas  y daña la mitocondria. Se rompen lisosomas, mb plasmática y nuclear y se acumulan proteínas denaturadas. Se convierte xantino deshidrogenasa en oxidasa que oxida purinas </a:t>
            </a:r>
            <a:r>
              <a:rPr b="0" i="1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 rad libres de O</a:t>
            </a:r>
            <a:r>
              <a:rPr b="0" i="1" lang="en-US" sz="3000" spc="-1" strike="noStrike" baseline="-25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i="1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 lipoperoxidación y daño integridad cel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533520" y="1422360"/>
            <a:ext cx="575316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800" spc="-1" strike="noStrike">
                <a:solidFill>
                  <a:srgbClr val="ffffff"/>
                </a:solidFill>
                <a:latin typeface="Times New Roman"/>
              </a:rPr>
              <a:t>CAUSAS DE SHOC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Times New Roman"/>
              </a:rPr>
              <a:t>1.- Hipovolém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Times New Roman"/>
              </a:rPr>
              <a:t>2.- Cardiogén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Times New Roman"/>
              </a:rPr>
              <a:t>3.- Sépt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" y="263520"/>
            <a:ext cx="5699160" cy="1092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1" lang="es-CL" sz="4100" spc="-1" strike="noStrike">
                <a:solidFill>
                  <a:srgbClr val="ffffff"/>
                </a:solidFill>
                <a:latin typeface="Times New Roman"/>
              </a:rPr>
              <a:t>BAJO DEBITO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5240" y="1355760"/>
            <a:ext cx="6540480" cy="49687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rmAutofit/>
          </a:bodyPr>
          <a:p>
            <a:pPr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i="1" lang="es-CL" sz="4400" spc="-1" strike="noStrike">
                <a:solidFill>
                  <a:srgbClr val="ffffff"/>
                </a:solidFill>
                <a:latin typeface="Times New Roman"/>
              </a:rPr>
              <a:t>Indice cardíaco &lt;2 l/min /m</a:t>
            </a:r>
            <a:r>
              <a:rPr b="0" i="1" lang="es-CL" sz="4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i="1" lang="es-CL" sz="4400" spc="-1" strike="noStrike">
                <a:solidFill>
                  <a:srgbClr val="ffffff"/>
                </a:solidFill>
                <a:latin typeface="Times New Roman"/>
              </a:rPr>
              <a:t>PAS menor a 90 mmH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i="1" lang="es-CL" sz="4400" spc="-1" strike="noStrike">
                <a:solidFill>
                  <a:srgbClr val="ffffff"/>
                </a:solidFill>
                <a:latin typeface="Times New Roman"/>
              </a:rPr>
              <a:t>Débito urinario &lt;a 30 ml/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i="1" lang="es-CL" sz="4400" spc="-1" strike="noStrike">
                <a:solidFill>
                  <a:srgbClr val="ffffff"/>
                </a:solidFill>
                <a:latin typeface="Times New Roman"/>
              </a:rPr>
              <a:t>Disminución sat sangre venosa mezcla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i="1" lang="es-CL" sz="4400" spc="-1" strike="noStrike">
                <a:solidFill>
                  <a:srgbClr val="ffffff"/>
                </a:solidFill>
                <a:latin typeface="Times New Roman"/>
              </a:rPr>
              <a:t>Acid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50920" y="92160"/>
            <a:ext cx="6454800" cy="63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Times New Roman"/>
              </a:rPr>
              <a:t>SHOCK HIPOVOLEMIC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Causas</a:t>
            </a:r>
            <a:r>
              <a:rPr b="1" i="1" lang="es-ES" sz="17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i="1" lang="es-ES" sz="2000" spc="-1" strike="noStrike">
                <a:solidFill>
                  <a:srgbClr val="ffffff"/>
                </a:solidFill>
                <a:latin typeface="Times New Roman"/>
              </a:rPr>
              <a:t>hemorragia, depleción de líquidos, tercer  espacio, quemaduras, poliuria, pérdidas gastrointesti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Hemodinamia: </a:t>
            </a:r>
            <a:r>
              <a:rPr b="0" i="1" lang="es-ES" sz="2000" spc="-1" strike="noStrike">
                <a:solidFill>
                  <a:srgbClr val="ffffff"/>
                </a:solidFill>
                <a:latin typeface="Times New Roman"/>
              </a:rPr>
              <a:t>Función sistólica normal,</a:t>
            </a: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i="1" lang="es-E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" sz="2000" spc="-1" strike="noStrike">
                <a:solidFill>
                  <a:srgbClr val="ffffff"/>
                </a:solidFill>
                <a:latin typeface="Times New Roman"/>
              </a:rPr>
              <a:t>vol circulante,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i="1" lang="es-ES" sz="2000" spc="-1" strike="noStrike">
                <a:solidFill>
                  <a:srgbClr val="ffffff"/>
                </a:solidFill>
                <a:latin typeface="Times New Roman"/>
              </a:rPr>
              <a:t> precarga,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i="1" lang="es-ES" sz="2000" spc="-1" strike="noStrike">
                <a:solidFill>
                  <a:srgbClr val="ffffff"/>
                </a:solidFill>
                <a:latin typeface="Times New Roman"/>
              </a:rPr>
              <a:t> PVC,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cap pulm, </a:t>
            </a:r>
            <a:r>
              <a:rPr b="0" i="1" lang="es-E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i="1" lang="es-ES" sz="2000" spc="-1" strike="noStrike">
                <a:solidFill>
                  <a:srgbClr val="ffffff"/>
                </a:solidFill>
                <a:latin typeface="Times New Roman"/>
              </a:rPr>
              <a:t> VE ,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i="1" lang="es-ES" sz="2000" spc="-1" strike="noStrike">
                <a:solidFill>
                  <a:srgbClr val="ffffff"/>
                </a:solidFill>
                <a:latin typeface="Times New Roman"/>
              </a:rPr>
              <a:t> G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La volemia es el 15% del total de fluí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Cuando la volemia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" sz="2000" spc="-1" strike="noStrike">
                <a:solidFill>
                  <a:srgbClr val="ffffff"/>
                </a:solidFill>
                <a:latin typeface="Times New Roman"/>
              </a:rPr>
              <a:t>15%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" sz="2000" spc="-1" strike="noStrike">
                <a:solidFill>
                  <a:srgbClr val="ffffff"/>
                </a:solidFill>
                <a:latin typeface="Times New Roman"/>
              </a:rPr>
              <a:t>taquicardia en posición sup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20-25%:Hipotensión ortostá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30-40%%: Hipotensión supina ,oliguria, sindr de shock, mec comp sobrepas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&gt;40%: Hipotensión severa, colapso C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1143000" y="1974960"/>
            <a:ext cx="4863960" cy="3714480"/>
            <a:chOff x="1143000" y="1974960"/>
            <a:chExt cx="4863960" cy="371448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143000" y="1974960"/>
              <a:ext cx="4863960" cy="3714480"/>
            </a:xfrm>
            <a:prstGeom prst="rect">
              <a:avLst/>
            </a:prstGeom>
            <a:ln w="3240">
              <a:solidFill>
                <a:srgbClr val="7d0f18"/>
              </a:solidFill>
              <a:miter/>
            </a:ln>
          </p:spPr>
        </p:pic>
        <p:sp>
          <p:nvSpPr>
            <p:cNvPr id="82" name=""/>
            <p:cNvSpPr/>
            <p:nvPr/>
          </p:nvSpPr>
          <p:spPr>
            <a:xfrm>
              <a:off x="3811680" y="2508120"/>
              <a:ext cx="18313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presión arteri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83560" y="3346560"/>
              <a:ext cx="111960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Gas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cardía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0" y="762120"/>
            <a:ext cx="646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Evolución del shock hipovolém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21:06:29Z</dcterms:created>
  <dc:creator>pmacho</dc:creator>
  <dc:description/>
  <dc:language>en-US</dc:language>
  <cp:lastModifiedBy>Fac. de Medicina</cp:lastModifiedBy>
  <dcterms:modified xsi:type="dcterms:W3CDTF">2007-09-27T16:58:24Z</dcterms:modified>
  <cp:revision>368</cp:revision>
  <dc:subject/>
  <dc:title>Presentación de PowerPoint</dc:title>
</cp:coreProperties>
</file>