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707188" cy="65516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DCF-4EBD-4E3B-A4F8-B0A4CB9D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569916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945960"/>
            <a:ext cx="569916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E28-4289-473C-82A6-35964832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3240" y="189180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94596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3240" y="394596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D5B-63DA-4DE2-B82B-9767E413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183492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30000" y="1891800"/>
            <a:ext cx="183492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57080" y="1891800"/>
            <a:ext cx="183492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945960"/>
            <a:ext cx="183492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30000" y="3945960"/>
            <a:ext cx="183492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57080" y="3945960"/>
            <a:ext cx="183492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CA1-EE91-4771-AB5A-BF0C3C9A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91800"/>
            <a:ext cx="569916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1A7-9F4C-45B7-BE16-CFE78AF5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569916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9DA-3D76-4748-87EC-B4942073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278100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23240" y="1891800"/>
            <a:ext cx="278100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E46-976E-4696-9E91-B6F8D5BF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B38-C1FE-42FE-8C45-F08ECE75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81040"/>
            <a:ext cx="5699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6B2-B0B4-49AC-90C1-D202BC3A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23240" y="1891800"/>
            <a:ext cx="278100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94596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837-C17B-4F5F-B30F-A08AD261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278100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23240" y="189180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3240" y="394596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C88-15D7-43FA-9651-BD34A2A2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3240" y="189180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945960"/>
            <a:ext cx="569916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92D-C6DB-43CA-A875-995D946A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891800"/>
            <a:ext cx="569916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 fontScale="97000"/>
          </a:bodyPr>
          <a:p>
            <a:pPr marL="312480" indent="-312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160" indent="-25992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077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9440" indent="-20772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6680" indent="-2091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76680" indent="-2091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76680" indent="-2091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5971680"/>
            <a:ext cx="139680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90680" y="5971680"/>
            <a:ext cx="212400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4920" y="5971680"/>
            <a:ext cx="139716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fld id="{A5D07A5D-6E48-494E-ABDC-0486FA2D931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1640" y="2349360"/>
            <a:ext cx="62740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Shock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Dra. Pilar Mac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Fisiopatología Cardiovasc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ICBM, Facultad de Medic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0"/>
            <a:ext cx="1930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8440" y="1905120"/>
            <a:ext cx="640728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62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Times New Roman"/>
              </a:rPr>
              <a:t>Falla de bomba :IAM (pérdida &gt; del 40% de tej vent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62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Times New Roman"/>
              </a:rPr>
              <a:t>Insuficiencia mitral o aórtica aguda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88"/>
              </a:spcBef>
              <a:buClr>
                <a:srgbClr val="ffffff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Times New Roman"/>
              </a:rPr>
              <a:t>Arritmias</a:t>
            </a:r>
            <a:r>
              <a:rPr b="0" i="1" lang="es-E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Hemodinamia: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índice cardíaco (&lt; 1.8 l/min/m</a:t>
            </a:r>
            <a:r>
              <a:rPr b="0" i="1" lang="es-E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), PDFVI &gt; 18 mmHg, edema pulmonar, RVP normal o aumentada. En falla de bomba:ECO: dilatación ventricular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act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8320" y="247680"/>
            <a:ext cx="576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Shock cardiogén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8440" y="1278000"/>
            <a:ext cx="60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aus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23796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Mecanismos compensadores del bajo débit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329840"/>
            <a:ext cx="670572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Activación del S Simpático y adrenal: venoconstricción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torno venoso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 RVP, taquicardia, redistribución de flujo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 del inotrop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Liberación de vasopresina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HAD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Activación eje RAA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eabsorción de H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O y Na</a:t>
            </a:r>
            <a:r>
              <a:rPr b="0" i="1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 a nivel re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Reabsorción de líquido interst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Symbol" charset="2"/>
              <a:buChar char="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tracción de 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 la sangre arterial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i el GC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2200" spc="-1" strike="noStrike">
                <a:solidFill>
                  <a:srgbClr val="ffffff"/>
                </a:solidFill>
                <a:latin typeface="Times New Roman"/>
              </a:rPr>
              <a:t>a 1/3 se puede recuperar el aporte de O</a:t>
            </a:r>
            <a:r>
              <a:rPr b="0" i="1" lang="es-CL" sz="2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200" spc="-1" strike="noStrike">
                <a:solidFill>
                  <a:srgbClr val="ffffff"/>
                </a:solidFill>
                <a:latin typeface="Times New Roman"/>
              </a:rPr>
              <a:t>aumentando la extracción en lado venos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5362560"/>
            <a:ext cx="599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cc99"/>
                </a:solidFill>
                <a:latin typeface="Times New Roman"/>
              </a:rPr>
              <a:t>La efectividad de estos dependen de la edad, enfermedades concomitantes (DM, falla renal), terapia farmacológica (bloq beta, vasodilatadores e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06440" y="-69840"/>
            <a:ext cx="6299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imes New Roman"/>
              </a:rPr>
              <a:t>Progresión del shock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6440" y="29462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49760" y="3403440"/>
            <a:ext cx="12960" cy="825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076280" y="4971960"/>
            <a:ext cx="12600" cy="92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1000" y="4971960"/>
            <a:ext cx="0" cy="64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01720" y="5613480"/>
            <a:ext cx="0" cy="279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486720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657760" y="5357880"/>
            <a:ext cx="12960" cy="704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416040" y="1523880"/>
            <a:ext cx="12600" cy="465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33360" y="1506600"/>
            <a:ext cx="12600" cy="465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62360" y="1533600"/>
            <a:ext cx="12600" cy="465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619080" y="2405160"/>
            <a:ext cx="12600" cy="27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89040" y="2405160"/>
            <a:ext cx="1130400" cy="27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9440" y="2405160"/>
            <a:ext cx="1771560" cy="27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885760" y="3390840"/>
            <a:ext cx="733320" cy="99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68120" y="4091040"/>
            <a:ext cx="12600" cy="27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20760" y="3133800"/>
            <a:ext cx="12960" cy="27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14120" y="6273720"/>
            <a:ext cx="161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14480" y="1333080"/>
            <a:ext cx="0" cy="4940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4480" y="917640"/>
            <a:ext cx="6456240" cy="5604840"/>
            <a:chOff x="114480" y="917640"/>
            <a:chExt cx="6456240" cy="5604840"/>
          </a:xfrm>
        </p:grpSpPr>
        <p:sp>
          <p:nvSpPr>
            <p:cNvPr id="111" name=""/>
            <p:cNvSpPr/>
            <p:nvPr/>
          </p:nvSpPr>
          <p:spPr>
            <a:xfrm>
              <a:off x="1066680" y="917640"/>
              <a:ext cx="4673880" cy="60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GC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A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Flujo sistém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6120" y="1998720"/>
              <a:ext cx="24670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utrición miocárd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86120" y="1998720"/>
              <a:ext cx="22827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utrición tej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15040" y="1989000"/>
              <a:ext cx="11793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oag 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6040" y="2757600"/>
              <a:ext cx="1295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800" spc="-1" strike="noStrike">
                  <a:solidFill>
                    <a:srgbClr val="ffffff"/>
                  </a:solidFill>
                  <a:latin typeface="Times New Roman"/>
                </a:rPr>
                <a:t>cereb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2679840"/>
              <a:ext cx="200016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utrición ca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r>
                <a:rPr b="0" i="1" lang="es-CL" sz="1800" spc="-1" strike="noStrike">
                  <a:solidFill>
                    <a:srgbClr val="ffffff"/>
                  </a:solidFill>
                  <a:latin typeface="Times New Roman"/>
                </a:rPr>
                <a:t> permeab 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2679840"/>
              <a:ext cx="123192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800" spc="-1" strike="noStrike">
                  <a:solidFill>
                    <a:srgbClr val="ffffff"/>
                  </a:solidFill>
                  <a:latin typeface="Times New Roman"/>
                </a:rPr>
                <a:t>Isquemia tis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43360" y="4381560"/>
              <a:ext cx="1365480" cy="580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Liberación de tox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25880" y="4487760"/>
              <a:ext cx="12826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volem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67040" y="6062760"/>
              <a:ext cx="280368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Retorno veno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6120" y="6062760"/>
              <a:ext cx="315288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ffff"/>
                  </a:solidFill>
                  <a:latin typeface="Times New Roman"/>
                </a:rPr>
                <a:t>Depresión miocárd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46040" y="3403440"/>
              <a:ext cx="129564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ctiv vasomoto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8400" y="4484520"/>
              <a:ext cx="23432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800" spc="-1" strike="noStrike">
                  <a:solidFill>
                    <a:srgbClr val="ffffff"/>
                  </a:solidFill>
                  <a:latin typeface="Times New Roman"/>
                </a:rPr>
                <a:t>Dilatación vasc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1640" y="2405160"/>
              <a:ext cx="0" cy="348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73720" y="2405160"/>
              <a:ext cx="0" cy="348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701720" y="5613480"/>
              <a:ext cx="3689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980720" y="5346720"/>
              <a:ext cx="3689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32040" y="3403440"/>
              <a:ext cx="0" cy="96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88880" y="3408120"/>
              <a:ext cx="1079640" cy="973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480" y="1333440"/>
              <a:ext cx="952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570720" y="1333440"/>
              <a:ext cx="0" cy="4680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>
            <a:off x="5740560" y="1333440"/>
            <a:ext cx="8301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77800"/>
            <a:ext cx="6510240" cy="5938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El propio shock produce      shock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"/>
              </a:rPr>
              <a:t>La isquemia tisular y el daño endotelial agrava el cuadro clí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3796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es-ES" sz="5500" spc="-1" strike="noStrike">
                <a:solidFill>
                  <a:srgbClr val="ffffff"/>
                </a:solidFill>
                <a:latin typeface="Times New Roman"/>
              </a:rPr>
              <a:t>Shock séptico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329840"/>
            <a:ext cx="638820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isfunción vasomotora y redistribución del flujo sanguíneo producida por Sep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Hemodinamia: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asodilatación arterial y venosa prod por mediadores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uy baja precarga (baja volemia y retorno),muy baja RVS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2100" spc="-1" strike="noStrike">
                <a:solidFill>
                  <a:srgbClr val="ff3300"/>
                </a:solidFill>
                <a:latin typeface="Times New Roman"/>
              </a:rPr>
              <a:t>HIPOPERFUSIÓN TISULAR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. Fracc eyección </a:t>
            </a:r>
            <a:r>
              <a:rPr b="0" i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VE y GC aumentados al comienzo (diferencia con shock cardiogénico) pero finalmente se prod depresión de la contractilidad miocárd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5960" y="631800"/>
            <a:ext cx="6359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En el Shock Séptico se produ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falla orgánica múltiple. </a:t>
            </a:r>
            <a:r>
              <a:rPr b="0" i="1" lang="es-ES_tradnl" sz="4800" spc="-1" strike="noStrike">
                <a:solidFill>
                  <a:srgbClr val="ffffff"/>
                </a:solidFill>
                <a:latin typeface="Times New Roman"/>
              </a:rPr>
              <a:t>Riesgo de muerte aumenta 15 a 20 % por falla de cada órgano adic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4920"/>
            <a:ext cx="652788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Sindrome de disfunción orgánica múlt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840" y="1285920"/>
            <a:ext cx="6273720" cy="42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ULMONE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SDRA:hipox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RIÑON: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necrosis tubular aguda por hipoper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CARDIOVASCULAR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hipotensión hiperdinámica,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Insuficiencia cardíaca por factores depres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SN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:encefalopatía metabólica y polineuropa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SISTEMA DE COAGULACIÓN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:D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GASTROINTESTINAL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: íleo, isquemia esplácnica, translocación de bacter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Hepatitis aguda no infecciosa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poperfusión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ecrosis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MUSCULO ESQUELETICO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:rabdomio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GLANDULAS ADRENALES: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nsuf adrenal ag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7680" y="0"/>
            <a:ext cx="281952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_tradnl" sz="7400" spc="-1" strike="noStrike">
                <a:solidFill>
                  <a:srgbClr val="ffffff"/>
                </a:solidFill>
                <a:latin typeface="Times New Roman"/>
              </a:rPr>
              <a:t>Shock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7680" y="1116000"/>
            <a:ext cx="63118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15720" indent="-315720" algn="just">
              <a:lnSpc>
                <a:spcPct val="180000"/>
              </a:lnSpc>
              <a:spcBef>
                <a:spcPts val="476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_tradnl" sz="1900" spc="-1" strike="noStrike">
                <a:solidFill>
                  <a:srgbClr val="ffffff"/>
                </a:solidFill>
                <a:latin typeface="Times New Roman"/>
              </a:rPr>
              <a:t>Hipoperfusión tisular, con aporte insuficiente de O</a:t>
            </a:r>
            <a:r>
              <a:rPr b="0" i="1" lang="es-ES_tradnl" sz="19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1900" spc="-1" strike="noStrike">
                <a:solidFill>
                  <a:srgbClr val="ffffff"/>
                </a:solidFill>
                <a:latin typeface="Times New Roman"/>
              </a:rPr>
              <a:t> y otros sustratos metabólicos esenciales, asociado a una eliminación insuficiente de los productos celulares. La mantención de este estado provocará una falla orgánica múltiple de no mediar una oportuna y adecuada reanim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720" indent="-315720" algn="just">
              <a:lnSpc>
                <a:spcPct val="180000"/>
              </a:lnSpc>
              <a:spcBef>
                <a:spcPts val="476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_tradnl" sz="1900" spc="-1" strike="noStrike">
                <a:solidFill>
                  <a:srgbClr val="ffffff"/>
                </a:solidFill>
                <a:latin typeface="Times New Roman"/>
              </a:rPr>
              <a:t>Causas: hipovolemia por sangramiento y otras pérdidas; cardiogénico, distributivo: shock sépt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720" indent="-315720" algn="just">
              <a:lnSpc>
                <a:spcPct val="180000"/>
              </a:lnSpc>
              <a:spcBef>
                <a:spcPts val="476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785880"/>
            <a:ext cx="594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09240" indent="-309240" algn="just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La mantención de este estado provocará una falla orgánica múltiple y shock irreversible de no mediar una oportuna y adecuada reani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405320"/>
            <a:ext cx="6505560" cy="20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Producción anaeróbica de ATP en la glicólisis: Por c/mol de G se forman 2 mols de Gly-3P y 2 mols de ATP lo que es  mucho menos eficiente que la fosforilación aeróbica. Cuando hay O</a:t>
            </a:r>
            <a:r>
              <a:rPr b="0" i="1" lang="es-E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el piruvato que es el último metabolito formado, es oxidado pierde grupo carboxilo y aporta el grupo acetilo que es completamente ox a CO</a:t>
            </a:r>
            <a:r>
              <a:rPr b="0" i="1" lang="es-ES" sz="1800" spc="-1" strike="noStrike" baseline="-25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n ciclo de ác cítrico y los é pasan al O</a:t>
            </a:r>
            <a:r>
              <a:rPr b="0" i="1" lang="es-ES" sz="1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para formar H</a:t>
            </a:r>
            <a:r>
              <a:rPr b="0" i="1" lang="es-E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O. La tranferencia de é permite sínt de ATP. En anaerobiosis el piruvato es reducido a lactato para regenerar NAD</a:t>
            </a:r>
            <a:r>
              <a:rPr b="0" i="1" lang="es-ES" sz="1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(necesario para oxidar Gly-3P). Lactato</a:t>
            </a:r>
            <a:r>
              <a:rPr b="0" i="1" lang="es-ES" sz="1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lega a ser el aceptor terminal de é y sus protones producen acidosis metab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871800" y="1677960"/>
            <a:ext cx="1741680" cy="606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6880" y="3559320"/>
            <a:ext cx="9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1280" y="393840"/>
            <a:ext cx="6510240" cy="4019760"/>
            <a:chOff x="71280" y="393840"/>
            <a:chExt cx="6510240" cy="4019760"/>
          </a:xfrm>
        </p:grpSpPr>
        <p:sp>
          <p:nvSpPr>
            <p:cNvPr id="50" name=""/>
            <p:cNvSpPr/>
            <p:nvPr/>
          </p:nvSpPr>
          <p:spPr>
            <a:xfrm>
              <a:off x="2981880" y="797040"/>
              <a:ext cx="0" cy="1485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81880" y="2671200"/>
              <a:ext cx="0" cy="1019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51080" y="1290240"/>
              <a:ext cx="448200" cy="558000"/>
            </a:xfrm>
            <a:custGeom>
              <a:avLst/>
              <a:gdLst>
                <a:gd name="textAreaLeft" fmla="*/ 59760 w 448200"/>
                <a:gd name="textAreaRight" fmla="*/ 388440 w 448200"/>
                <a:gd name="textAreaTop" fmla="*/ 97560 h 558000"/>
                <a:gd name="textAreaBottom" fmla="*/ 404640 h 55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26400" y="3207600"/>
              <a:ext cx="105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4 A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51080" y="2857320"/>
              <a:ext cx="448200" cy="700920"/>
            </a:xfrm>
            <a:custGeom>
              <a:avLst/>
              <a:gdLst>
                <a:gd name="textAreaLeft" fmla="*/ 59760 w 448200"/>
                <a:gd name="textAreaRight" fmla="*/ 388440 w 448200"/>
                <a:gd name="textAreaTop" fmla="*/ 122400 h 700920"/>
                <a:gd name="textAreaBottom" fmla="*/ 508320 h 70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37720" y="3122640"/>
              <a:ext cx="272880" cy="541080"/>
            </a:xfrm>
            <a:custGeom>
              <a:avLst/>
              <a:gdLst>
                <a:gd name="textAreaLeft" fmla="*/ 36360 w 272880"/>
                <a:gd name="textAreaRight" fmla="*/ 236520 w 272880"/>
                <a:gd name="textAreaTop" fmla="*/ 94680 h 541080"/>
                <a:gd name="textAreaBottom" fmla="*/ 392400 h 54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9091"/>
                  <a:lnTo>
                    <a:pt x="7176" y="21171"/>
                  </a:lnTo>
                  <a:lnTo>
                    <a:pt x="0" y="17280"/>
                  </a:lnTo>
                  <a:lnTo>
                    <a:pt x="7176" y="12531"/>
                  </a:lnTo>
                  <a:lnTo>
                    <a:pt x="7176" y="14691"/>
                  </a:lnTo>
                  <a:arcTo wR="21600" hR="7560" stAng="2689091" swAng="-2331656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337760" y="3921480"/>
              <a:ext cx="1370520" cy="12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72160" y="3921480"/>
              <a:ext cx="1533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4360" y="393840"/>
              <a:ext cx="191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GLUCO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68480" y="2267640"/>
              <a:ext cx="23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Gliceraldehido 3-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37720" y="3690360"/>
              <a:ext cx="12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Piruv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280" y="3690360"/>
              <a:ext cx="114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ac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01320" y="1274760"/>
              <a:ext cx="158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Glicóge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02920" y="952200"/>
              <a:ext cx="109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75800" y="166248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 A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1320" y="1991520"/>
              <a:ext cx="480600" cy="663840"/>
            </a:xfrm>
            <a:custGeom>
              <a:avLst/>
              <a:gdLst>
                <a:gd name="textAreaLeft" fmla="*/ 64080 w 480600"/>
                <a:gd name="textAreaRight" fmla="*/ 416520 w 480600"/>
                <a:gd name="textAreaTop" fmla="*/ 115920 h 663840"/>
                <a:gd name="textAreaBottom" fmla="*/ 481320 h 66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81920" y="1833120"/>
              <a:ext cx="8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 A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74200" y="2491200"/>
              <a:ext cx="109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 A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02920" y="2820240"/>
              <a:ext cx="10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4 A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22760" y="2885040"/>
              <a:ext cx="336240" cy="67320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91960" y="2835720"/>
              <a:ext cx="76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19520" y="4078080"/>
              <a:ext cx="138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naerobio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81920" y="3690360"/>
              <a:ext cx="129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Ciclo ác cítr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49040" y="4137120"/>
              <a:ext cx="132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erobio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s-CL" sz="3700" spc="-1" strike="noStrike">
                <a:solidFill>
                  <a:srgbClr val="ffffff"/>
                </a:solidFill>
                <a:latin typeface="Times New Roman"/>
              </a:rPr>
              <a:t>Efectos del déficit de O</a:t>
            </a:r>
            <a:r>
              <a:rPr b="0" lang="es-CL" sz="37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CL" sz="3700" spc="-1" strike="noStrike">
                <a:solidFill>
                  <a:srgbClr val="ffffff"/>
                </a:solidFill>
                <a:latin typeface="Times New Roman"/>
              </a:rPr>
              <a:t>tisula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5240" y="1891800"/>
            <a:ext cx="654048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3000" spc="-1" strike="noStrike">
                <a:solidFill>
                  <a:srgbClr val="ffffff"/>
                </a:solidFill>
                <a:latin typeface="Times New Roman"/>
              </a:rPr>
              <a:t>Anaerobiosis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000" spc="-1" strike="noStrike">
                <a:solidFill>
                  <a:srgbClr val="ffffff"/>
                </a:solidFill>
                <a:latin typeface="Times New Roman"/>
              </a:rPr>
              <a:t>ác láctico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cidosis. La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del ATP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</a:t>
            </a:r>
            <a:r>
              <a:rPr b="0" i="1" lang="es-ES" sz="3000" spc="-1" strike="noStrike">
                <a:solidFill>
                  <a:srgbClr val="ffffff"/>
                </a:solidFill>
                <a:latin typeface="Times New Roman"/>
              </a:rPr>
              <a:t> transporte iónico dependiente de energía </a:t>
            </a:r>
            <a:r>
              <a:rPr b="0" i="1" lang="es-E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cumulación de Na</a:t>
            </a:r>
            <a:r>
              <a:rPr b="0" i="1" lang="en-US" sz="3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, H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O y Ca</a:t>
            </a:r>
            <a:r>
              <a:rPr b="0" i="1" lang="en-US" sz="30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ntracel. Este último activa proteasas  y daña la mitocondria. Se rompen lisosomas, mb plasmática y nuclear y se acumulan proteínas denaturadas. Se convierte xantino deshidrogenasa en oxidasa que oxida purinas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rad libres de O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lipoperoxidación y daño integridad c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1422360"/>
            <a:ext cx="57531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Times New Roman"/>
              </a:rPr>
              <a:t>CAUSAS DE SHO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1.- Hipovolé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2.- Cardiogé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3.- Sép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26352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s-CL" sz="4100" spc="-1" strike="noStrike">
                <a:solidFill>
                  <a:srgbClr val="ffffff"/>
                </a:solidFill>
                <a:latin typeface="Times New Roman"/>
              </a:rPr>
              <a:t>BAJO DEBITO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5240" y="1355760"/>
            <a:ext cx="6540480" cy="4968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4400" spc="-1" strike="noStrike">
                <a:solidFill>
                  <a:srgbClr val="ffffff"/>
                </a:solidFill>
                <a:latin typeface="Times New Roman"/>
              </a:rPr>
              <a:t>Indice cardíaco &lt;2 l/min /m</a:t>
            </a:r>
            <a:r>
              <a:rPr b="0" i="1" lang="es-CL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4400" spc="-1" strike="noStrike">
                <a:solidFill>
                  <a:srgbClr val="ffffff"/>
                </a:solidFill>
                <a:latin typeface="Times New Roman"/>
              </a:rPr>
              <a:t>PAS menor a 90 mmH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4400" spc="-1" strike="noStrike">
                <a:solidFill>
                  <a:srgbClr val="ffffff"/>
                </a:solidFill>
                <a:latin typeface="Times New Roman"/>
              </a:rPr>
              <a:t>Débito urinario &lt;a 30 ml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4400" spc="-1" strike="noStrike">
                <a:solidFill>
                  <a:srgbClr val="ffffff"/>
                </a:solidFill>
                <a:latin typeface="Times New Roman"/>
              </a:rPr>
              <a:t>Disminución sat sangre venosa mezcl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4400" spc="-1" strike="noStrike">
                <a:solidFill>
                  <a:srgbClr val="ffffff"/>
                </a:solidFill>
                <a:latin typeface="Times New Roman"/>
              </a:rPr>
              <a:t>Acid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92160"/>
            <a:ext cx="645480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imes New Roman"/>
              </a:rPr>
              <a:t>SHOCK HIPOVOLEM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r>
              <a:rPr b="1" i="1" lang="es-ES" sz="17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hemorragia, depleción de líquidos, tercer  espacio, quemaduras, poliuria, pérdidas gastrointest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Hemodinamia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Función sistólica normal,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vol circulante,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precarga,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PVC,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ap pulm,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VE ,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G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La volemia es el 15% del total de fluí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uando la volemia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taquicardia en posición sup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20-25%:Hipotensión ortost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30-40%%: Hipotensión supina ,oliguria, sindr de shock, mec comp sobrepas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&gt;40%: Hipotensión severa, colapso 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143000" y="1974960"/>
            <a:ext cx="4863960" cy="3714480"/>
            <a:chOff x="1143000" y="1974960"/>
            <a:chExt cx="4863960" cy="371448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143000" y="1974960"/>
              <a:ext cx="4863960" cy="3714480"/>
            </a:xfrm>
            <a:prstGeom prst="rect">
              <a:avLst/>
            </a:prstGeom>
            <a:ln w="3240">
              <a:solidFill>
                <a:srgbClr val="7d0f18"/>
              </a:solidFill>
              <a:miter/>
            </a:ln>
          </p:spPr>
        </p:pic>
        <p:sp>
          <p:nvSpPr>
            <p:cNvPr id="82" name=""/>
            <p:cNvSpPr/>
            <p:nvPr/>
          </p:nvSpPr>
          <p:spPr>
            <a:xfrm>
              <a:off x="3811680" y="2508120"/>
              <a:ext cx="1831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resión arter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83560" y="3346560"/>
              <a:ext cx="11196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as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rdía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0" y="762120"/>
            <a:ext cx="64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volución del shock hipovolé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21:06:29Z</dcterms:created>
  <dc:creator>pmacho</dc:creator>
  <dc:description/>
  <dc:language>en-US</dc:language>
  <cp:lastModifiedBy>Fac. de Medicina</cp:lastModifiedBy>
  <dcterms:modified xsi:type="dcterms:W3CDTF">2007-09-27T16:58:24Z</dcterms:modified>
  <cp:revision>368</cp:revision>
  <dc:subject/>
  <dc:title>Presentación de PowerPoint</dc:title>
</cp:coreProperties>
</file>