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7D1-EE08-4ABF-9260-D016466A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546-8AA2-4D6C-A754-08FA790B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9C7-77AC-43A9-80C2-3E275213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D32-18CB-46D8-85DD-DDFADD45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29B-A90B-486C-B35D-FE23DA6C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D7F-1C17-4A6E-8581-C511638B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6CB-FE26-4272-8CBC-84CC3F55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D11-19BB-4016-84E4-2295B2EE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4C4-0D77-4020-BCBF-4FEB8DA3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349-3496-4F8B-9367-A8BA1295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DA1-9FC6-4528-9633-F32D3879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414-5A3F-4706-B977-31ECEDD3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42DD-8888-4B45-8FCF-47BFEBD523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00200"/>
            <a:ext cx="86108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Franklin Gothic Demi"/>
              </a:rPr>
              <a:t>INSUFICIENCIA CARDI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Franklin Gothic Demi"/>
              </a:rPr>
              <a:t>                        </a:t>
            </a:r>
            <a:r>
              <a:rPr b="0" i="1" lang="en-US" sz="4400" spc="-1" strike="noStrike">
                <a:solidFill>
                  <a:srgbClr val="ffff00"/>
                </a:solidFill>
                <a:latin typeface="Franklin Gothic Demi"/>
              </a:rPr>
              <a:t>Dra. Pilar  Ma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Respuesta a sobrecarga de presió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56944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Hipertrofia ventricular en paralelo lo que impide que los miofilamentos desarrollen mucha fuerza, se evita el déficit de VE producido por el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 la post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embargo la hipertrof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por sí sóla  daña el miocardio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produciendo necrosis, fibrosis (disf diastólica) y apoptosis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u contractilidad y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↓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 se acompaña de aumento de capilares, ↑ la distancia de difusión y no puede continuar. Si la contractilidad está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l VE, se distiende el ventrículo, hipertrofia en serie que tambien daña los miofilamentos con &gt;daño de la contractilidad y &gt; dilatación. La dilatación tambien compensa la ↓ del VE  pero tambien sigue dañando la contractilidad . </a:t>
            </a: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En las sobrecargas de volumen primero ocurre hipertrofia en s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00"/>
                </a:solidFill>
                <a:latin typeface="Times New Roman"/>
              </a:rPr>
              <a:t>Señales para hipertrofia ventric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3880"/>
            <a:ext cx="91440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Franklin Gothic Demi"/>
              </a:rPr>
              <a:t>Factores de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Franklin Gothic Demi"/>
              </a:rPr>
              <a:t>Angiotensin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Franklin Gothic Demi"/>
              </a:rPr>
              <a:t>Endote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Franklin Gothic Demi"/>
              </a:rPr>
              <a:t>Estiramiento de las fib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Franklin Gothic Demi"/>
              </a:rPr>
              <a:t>Estimulación alfa y beta adrenér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Franklin Gothic Demi"/>
              </a:rPr>
              <a:t>Estos factores activan genes que producen multiplicación de sarcómeros con 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38224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80"/>
                </a:solidFill>
                <a:latin typeface="Arial Black"/>
                <a:ea typeface="Times New Roman"/>
              </a:rPr>
              <a:t>     </a:t>
            </a:r>
            <a:r>
              <a:rPr b="0" i="1" lang="es-ES_tradnl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Disminuye la reserva coronaria :           isqu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nduce arritmias supra ventriculares (dilatación  auricular) y ventric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roduce disfunción diastólica y luego sist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Aumenta riesgo de muerte súbi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Remodelación Ventricular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1420920"/>
            <a:ext cx="70437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Hipertrof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teinas fet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liferación del coláge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Apopto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Arial"/>
              </a:rPr>
              <a:t>FACTORES QUE DETERMINAN DITENSIBILIDAD VENT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Velocidad y magnitud de relajación ventricular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 que depende de velocidad de desactivación de miofil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Espesor y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constitución de la pared ventricular: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hipertrofia, fibrosis , infiltración de la pared disminuy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n la dist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Factores extramiocárdicos que disminuyen la excursión de la pared ventricular: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trastornos del p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ricardio, hiperinsuflación pulmonar, d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plazamiento del tabique ventricular por dilatación del ventrí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Act. Simpática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                     Taquic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Catecolaminas                         Hipertrofia 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Sist. Renina - Ang. – Aldo       Vasoconstricción   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 Post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Vasopresina arg.                      Retención Na</a:t>
            </a:r>
            <a:r>
              <a:rPr b="1" i="1" lang="es-ES_tradnl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y H</a:t>
            </a:r>
            <a:r>
              <a:rPr b="1" i="1" lang="es-ES_tradnl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P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rostaglan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Bradik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eptido natriur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lgunas alteraciones neurohumorales en la insuficiencia cardiaca y su repercusión hemo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2276640"/>
            <a:ext cx="216000" cy="143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445000"/>
            <a:ext cx="806436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Con el tiempo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↑ la precarga y postcarga y se deteriora la estruct el miocardio lo que daña aún más la contractilidad miocárdica. El tratamiento consiste en antagonizar sist simpático y eje renina-ang-aldoste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7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lteraciones en la insuficiencia cardi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1440" y="1066680"/>
            <a:ext cx="839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1440" y="914400"/>
            <a:ext cx="86011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- Energéticas :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Q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iocárdico y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es. C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.- Humorales : Catecolaminas , Ang II , Aldo , Endot . IL 1 y 6 , TNF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, ANP , BNP , Adrenomedulina. Síntesis de proteínas fe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.- Morfológicas : Debido a 1 y 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necrosis y apoptosis cel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lágeno :                              disfunción diastólica,  obliteración de capilares, 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estrés fibras remanente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ilat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necrosis apoptosis = REMODELACIÖ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.- Reticulosarcoplásmico :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ransporte de Ca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.- Receptore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drenérgicos : desensibi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6.- Músculo esquelético :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eserva de vasodil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*  DISNEA y FATIGABILIDAD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PATOGENIA DE LOS SIGNOS Y SINTOMAS DE LA 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del GC e incapacidad de aumentarlo por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contractilidad o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postcarg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→incapacidad de hacer ejercicio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l volumen sanguíneo (congestión) y de la presión en el territorio vascular venoso y capilar que drena en el ventrículo afectado por ↓de la distensib del ventrí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Hemodinamia en la disfunción ventricular izquie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1440" y="1752480"/>
            <a:ext cx="860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ff00"/>
                </a:solidFill>
                <a:latin typeface="Arial"/>
              </a:rPr>
              <a:t>PATOGENIA DE SINTOMAS Y SIGNOS DE 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IC Izda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: heterodinamia ventricular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congestión e hipertensión en territorio vasc pulmon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íntom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atig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Polipnea disnea: estim recept J , estim de mecano y quimiorecept de músc esq. Edema intersticial pulm, alt rel V/P,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resist flujo aé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rto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dema pulmonar agudo: inundación alveolar cuando presión cap pulm sobrepasa los 20-25 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Cianosis central y perif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00"/>
                </a:solidFill>
                <a:latin typeface="Arial"/>
              </a:rPr>
              <a:t>IC der: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congestión sistémica,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34136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800" spc="-1" strike="noStrike">
                <a:solidFill>
                  <a:srgbClr val="ffffff"/>
                </a:solidFill>
                <a:latin typeface="Franklin Gothic Demi"/>
              </a:rPr>
              <a:t>Insuficiencia cardíaca es la incapacidad de aumentar el gasto cardíaco cuando aumenta la actividad física manteniendo una presión ventricular diastólica ba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692280"/>
            <a:ext cx="83534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5400" spc="-1" strike="noStrike">
                <a:solidFill>
                  <a:srgbClr val="ffff00"/>
                </a:solidFill>
                <a:latin typeface="Franklin Gothic Demi"/>
              </a:rPr>
              <a:t>GASTO CARDIACO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Frecuencia cardíaca x volumen expuls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Vol expulsivo depende de: </a:t>
            </a:r>
            <a:r>
              <a:rPr b="0" i="1" lang="es-CL" sz="3600" spc="-1" strike="noStrike">
                <a:solidFill>
                  <a:srgbClr val="ff0000"/>
                </a:solidFill>
                <a:latin typeface="Franklin Gothic Demi"/>
              </a:rPr>
              <a:t>precarga: estrés fin de diástole, postcarga:estrés de fin de sístole y,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Franklin Gothic Demi"/>
              </a:rPr>
              <a:t>(Estrés: P x R/2h) o tensión de la pared/cm</a:t>
            </a:r>
            <a:r>
              <a:rPr b="0" i="1" lang="es-CL" sz="2800" spc="-1" strike="noStrike" baseline="30000">
                <a:solidFill>
                  <a:srgbClr val="ff0000"/>
                </a:solidFill>
                <a:latin typeface="Franklin Gothic Dem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97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EFECTO DE CAMBIOS DE</a:t>
            </a:r>
            <a:r>
              <a:rPr b="1" i="1" lang="es-CL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PRE Y POST 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00"/>
                </a:solidFill>
                <a:latin typeface="Arial"/>
              </a:rPr>
              <a:t>El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 de precarg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 el Vexp. La ↓ de precarga ↓ Vexp puede ser consecuencia de pérdida de volemia por sangramiento, pérdidas gastrointestinales (Shock hipovolémic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El ↑de la postcarga, es decir la fuerza que debe desarrollar el músculo  ↓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 el Vex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00"/>
                </a:solidFill>
                <a:latin typeface="Arial"/>
              </a:rPr>
              <a:t>Disfunción Ventricul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SISTÓLICA : Incapacidad de aumentar el volumen expul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Exceso de post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Disminución de la 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DIASTÓLICA : Incapacidad de mantener una presión diastólica b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elajación lenta e incompl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igidez aument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859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ausas de Disfunción Sistól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341360"/>
            <a:ext cx="8893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presión: Ej: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Hipertensión arterial, estenosis aór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volumen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suficiencia aórtica, Insuficiencia mi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Pérdida de músculo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farto que  cuando  es extenso produce shck cardiogé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Disminución de la contractilidad: 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por mi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477720"/>
            <a:ext cx="770436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586560" cy="551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5857920"/>
            <a:ext cx="5976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0:01:31Z</dcterms:created>
  <dc:creator>Pilar Macho</dc:creator>
  <dc:description/>
  <dc:language>en-US</dc:language>
  <cp:lastModifiedBy>Fac. de Medicina</cp:lastModifiedBy>
  <dcterms:modified xsi:type="dcterms:W3CDTF">2007-09-27T16:57:53Z</dcterms:modified>
  <cp:revision>147</cp:revision>
  <dc:subject/>
  <dc:title>Diapositiva 1</dc:title>
</cp:coreProperties>
</file>