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47.png" ContentType="image/pn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5.jpeg" ContentType="image/jpeg"/>
  <Override PartName="/ppt/media/image50.png" ContentType="image/png"/>
  <Override PartName="/ppt/media/image27.jpeg" ContentType="image/jpeg"/>
  <Override PartName="/ppt/media/image6.jpeg" ContentType="image/jpeg"/>
  <Override PartName="/ppt/media/image9.jpeg" ContentType="image/jpeg"/>
  <Override PartName="/ppt/media/image48.png" ContentType="image/png"/>
  <Override PartName="/ppt/media/image11.jpeg" ContentType="image/jpeg"/>
  <Override PartName="/ppt/media/image33.png" ContentType="image/png"/>
  <Override PartName="/ppt/media/image56.jpeg" ContentType="image/jpeg"/>
  <Override PartName="/ppt/media/image36.jpeg" ContentType="image/jpeg"/>
  <Override PartName="/ppt/media/image35.png" ContentType="image/png"/>
  <Override PartName="/ppt/media/image43.png" ContentType="image/png"/>
  <Override PartName="/ppt/media/image45.jpeg" ContentType="image/jpeg"/>
  <Override PartName="/ppt/media/image55.png" ContentType="image/png"/>
  <Override PartName="/ppt/media/image46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9.png" ContentType="image/png"/>
  <Override PartName="/ppt/media/image41.png" ContentType="image/png"/>
  <Override PartName="/ppt/media/image53.png" ContentType="image/png"/>
  <Override PartName="/ppt/media/image54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52.jpeg" ContentType="image/jpeg"/>
  <Override PartName="/ppt/media/image29.jpeg" ContentType="image/jpeg"/>
  <Override PartName="/ppt/media/image34.png" ContentType="image/pn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3534-394F-42DD-8E34-16947AF6E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DA21-4482-4C36-9063-05EC53C3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5E0B-5AFC-47AC-BAA1-AC0B741D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3C73-C7F8-4F91-8495-9E5A00CD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56C3-1DEF-462C-BE6E-E7FB934B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2378-7DCD-4FDC-9FC8-10688325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7FC8-F6C7-4A76-891F-F59FF2C9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E45E-3A25-4C69-B71A-5E496119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6049-3797-4A79-96BB-24747544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6B18-4CAF-4741-AF42-0D8889E6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01BF-6319-4ED8-91D0-EE218672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D63E-6108-4C5D-A74A-9DBB0D23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5D0D-3521-481D-9055-B3BA9F513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36352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INFLA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I Fonoaudi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I 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Mecanismos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nfermedad 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reacción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organismo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Prof. Inés Pe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559320" y="0"/>
            <a:ext cx="5584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65520" cy="4581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780000" y="0"/>
            <a:ext cx="5364000" cy="3573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995640" y="3645000"/>
            <a:ext cx="5148360" cy="3213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6948360" y="6524640"/>
            <a:ext cx="2195640" cy="333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724280"/>
            <a:ext cx="4067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Inflamación Eti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Respuestas inmu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n HS y E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076720" y="0"/>
            <a:ext cx="360072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l evento central de la Inflam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s la </a:t>
            </a:r>
            <a:r>
              <a:rPr b="1" lang="es-CL" sz="3600" spc="-1" strike="noStrike">
                <a:solidFill>
                  <a:srgbClr val="ff5050"/>
                </a:solidFill>
                <a:latin typeface="Arial"/>
              </a:rPr>
              <a:t>FAGOCIT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5050"/>
                </a:solidFill>
                <a:latin typeface="Arial"/>
              </a:rPr>
              <a:t>Todas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 las amebas fagoci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2000" y="515772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Los humanos tenemos sólo</a:t>
            </a: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3600" spc="-1" strike="noStrike">
                <a:solidFill>
                  <a:srgbClr val="ff5050"/>
                </a:solidFill>
                <a:latin typeface="Arial"/>
              </a:rPr>
              <a:t>dos</a:t>
            </a:r>
            <a:r>
              <a:rPr b="1" lang="es-CL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tipos de células que</a:t>
            </a: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3600" spc="-1" strike="noStrike">
                <a:solidFill>
                  <a:srgbClr val="ff5050"/>
                </a:solidFill>
                <a:latin typeface="Arial"/>
              </a:rPr>
              <a:t>Fagoci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003640" y="0"/>
            <a:ext cx="337536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3780000" y="1628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24560" y="0"/>
            <a:ext cx="451944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0548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619280" y="6021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PM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91120" y="6442200"/>
            <a:ext cx="184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Macróf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35640" y="6093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Macrófa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2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211640" y="2349360"/>
            <a:ext cx="865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27640" y="4365720"/>
            <a:ext cx="1296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88000" y="765000"/>
            <a:ext cx="79200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65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Fagocitosis de rutina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56000" y="640080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Macrófagos en Ganglio Linf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640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768920" y="0"/>
            <a:ext cx="437508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5076720" y="64008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élulas de Kup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40080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Macrófagos alveo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72360" y="4076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7740360" y="1989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084360" y="98100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700000" y="2924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419640" y="5013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2064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Fagocitosis rutin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71640" y="33336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Fagocitosis en la infla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32360" y="627840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Hepatitis agu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0"/>
            <a:ext cx="842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Protagonistas de la respuesta inflamatoria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1:   Tejido conjuntivo  y   micro circ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7659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88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95280" y="5697360"/>
            <a:ext cx="842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Protagonistas de la respuesta inflamatoria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2:  Elementos de la sang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Triple respuesta de Lew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842000" y="1197000"/>
            <a:ext cx="3992400" cy="5329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4032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ambios en la microcirculación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“Triple Respuesta de Lewis” 19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Linea Roja ( flush 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 los 3-15 seg  por dilatación cap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Halo de eritema (flare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 los 15-30 seg por dilatación arteriolar (reflejo axón y MQ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Pápula (wheal)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 los 5 minutos zona de edema por presencia de exud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869000" y="1557360"/>
            <a:ext cx="37036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219640" y="1052640"/>
            <a:ext cx="3924360" cy="392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417920" y="0"/>
            <a:ext cx="472608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0"/>
            <a:ext cx="4427640" cy="74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Primer gran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Evento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Vasodilatación     arterio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Consecu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Aumento local de flujo sanguíneo (hiperem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Aumento del numero de leucocitos en el área afec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isminución de la velocidad sanguíne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Marginación de los leucoc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Aumento de la presión hidrostática intravas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Apertura de esfínteres precapi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3995640" cy="82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Segundo gran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Evento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umento de la permeabilidad vas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Consecu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Salida de plasma al intersticio 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Aumento de la presión oncótica extravas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Salida de células fagocíticas al extravascu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Activación de MQ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Aporte de fibrina (localización del proceso inflamatorio y migr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924360" y="0"/>
            <a:ext cx="521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Resultado</a:t>
            </a: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: Formación de un exud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922320"/>
            <a:ext cx="9144000" cy="5935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4954680"/>
            <a:ext cx="2976480" cy="1903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"/>
              </a:rPr>
              <a:t>Mecanismos involucrados en estos ev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Mediadores químicos de la infla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Adhesión celul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Migración de células inflamato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Opson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Reconocimiento de partículas a fagoci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Muerte de microorganis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0" t="0" r="0" b="56532"/>
          <a:stretch/>
        </p:blipFill>
        <p:spPr>
          <a:xfrm>
            <a:off x="755640" y="0"/>
            <a:ext cx="7380360" cy="675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72768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719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857840" y="620640"/>
            <a:ext cx="4286160" cy="6237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3722760" y="3201840"/>
            <a:ext cx="18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m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4643280" cy="6237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28616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387828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3059280" y="1557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342900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7236000" y="333360"/>
            <a:ext cx="28872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45164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Quimiota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640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31656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927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244000" cy="6856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Fagocito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988920"/>
            <a:ext cx="9144000" cy="586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6408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860436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El exudado es patognomónico de la inflamación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716360" y="2311560"/>
            <a:ext cx="4176720" cy="417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0920" y="2311560"/>
            <a:ext cx="4176720" cy="417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4883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La inflamación, siendo local, puede presentar efectos sisté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3595680"/>
            <a:ext cx="5148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Fie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Pérdida de apet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Su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Proteínas de fase agu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Ben Wilkie jpeg"/>
          <p:cNvPicPr/>
          <p:nvPr/>
        </p:nvPicPr>
        <p:blipFill>
          <a:blip r:embed="rId1"/>
          <a:stretch/>
        </p:blipFill>
        <p:spPr>
          <a:xfrm>
            <a:off x="2340000" y="0"/>
            <a:ext cx="4175280" cy="2655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2492280"/>
            <a:ext cx="9144000" cy="4394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15:10:27Z</dcterms:created>
  <dc:creator>Usuario</dc:creator>
  <dc:description/>
  <dc:language>en-US</dc:language>
  <cp:lastModifiedBy>Usuario</cp:lastModifiedBy>
  <dcterms:modified xsi:type="dcterms:W3CDTF">2007-07-27T17:56:46Z</dcterms:modified>
  <cp:revision>13</cp:revision>
  <dc:subject/>
  <dc:title>Diapositiva 1</dc:title>
</cp:coreProperties>
</file>