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5.jpeg" ContentType="image/jpeg"/>
  <Override PartName="/ppt/media/image26.jpeg" ContentType="image/jpeg"/>
  <Override PartName="/ppt/media/image6.png" ContentType="image/png"/>
  <Override PartName="/ppt/media/image29.png" ContentType="image/png"/>
  <Override PartName="/ppt/media/image22.jpeg" ContentType="image/jpeg"/>
  <Override PartName="/ppt/media/image7.png" ContentType="image/png"/>
  <Override PartName="/ppt/media/image20.jpeg" ContentType="image/jpeg"/>
  <Override PartName="/ppt/media/image8.png" ContentType="image/png"/>
  <Override PartName="/ppt/media/image27.jpeg" ContentType="image/jpeg"/>
  <Override PartName="/ppt/media/image10.png" ContentType="image/pn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1ABD-FBB8-4755-A015-4300C5AE5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3B5C-AC27-44C1-9115-0326F402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9C97-9969-44D1-A4FD-84541411E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3635-33CE-4E64-B2A8-1281CF0AC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7044-D0FD-4A39-89FB-B20A577D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3F2B-1CC0-4851-B012-B989E2DB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C9B3-FEC6-44B4-85AF-A36AE1CB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4237-EDC7-4B70-84BF-40030F83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4747-90B8-4FCD-8096-9E1EECCA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F8D3-1F8A-4DBA-B04E-1DEF5FA7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E64F-8982-437F-A3DD-DFCA9ADC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CEB7-76C0-4AC7-9270-A9A774AD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E51B-0917-40AB-AA61-1572DFA05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ciencedirect.com/science?_ob=ArticleURL&amp;_aset=V-WA-A-W-EB-MsSAYZW-UUW-U-AAVVUUVBED-AAVACYCAED-ZEEZWZCZD-EB-U&amp;_rdoc=20&amp;_fmt=full&amp;_udi=B6W7H-4DJBMDG-6&amp;_coverDate=12%2F01%2F2004&amp;_cdi=6627&amp;_orig=search&amp;_st=13&amp;_sort=d&amp;view=c&amp;_acct=C000053978&amp;_version=1&amp;_urlVersion=0&amp;_userid=1620519&amp;md5=14c471aa9a5d7b4f8828546796e226fc#tblfn1#tblfn1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0" y="0"/>
            <a:ext cx="4643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INFLAMACION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FONOAUDIOLOGIA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TECNOLOGIA MED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Pr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Inés Pe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OS ESTRATEG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atar y elimi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is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076720" y="2276640"/>
            <a:ext cx="3143520" cy="3889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50920" y="2276640"/>
            <a:ext cx="4680000" cy="3848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951440" y="0"/>
            <a:ext cx="419256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944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4211640" y="299736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593640"/>
            <a:ext cx="9144000" cy="6264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248436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MAT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870120"/>
            <a:ext cx="9144000" cy="5987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0" y="0"/>
            <a:ext cx="24112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AIS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230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057640" y="0"/>
            <a:ext cx="4086360" cy="4365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4859280" y="4941720"/>
            <a:ext cx="428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Robert Koch  18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Etiologia de la T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26920" y="-4680"/>
            <a:ext cx="7561440" cy="686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lasificación de la inflamación según características del exud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384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xudativa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Gran compromiso vas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Mucho liqu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M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Subtipos:  serosa,   mucosa,  fibrinosa,  hemorrágica, pseudo-   membranosa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neumonia"/>
          <p:cNvPicPr/>
          <p:nvPr/>
        </p:nvPicPr>
        <p:blipFill>
          <a:blip r:embed="rId1"/>
          <a:stretch/>
        </p:blipFill>
        <p:spPr>
          <a:xfrm>
            <a:off x="4741920" y="1484280"/>
            <a:ext cx="37148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lasificación de la inflamación según características del exud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oductiv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e inicio insidi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co compromiso vas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scaso liquido en exud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edominio de macrófagos y linfoc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ubtip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-- difus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--perivascular y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-- granuloma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tbcmg"/>
          <p:cNvPicPr/>
          <p:nvPr/>
        </p:nvPicPr>
        <p:blipFill>
          <a:blip r:embed="rId1"/>
          <a:stretch/>
        </p:blipFill>
        <p:spPr>
          <a:xfrm>
            <a:off x="4556160" y="1341360"/>
            <a:ext cx="39034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¿Como reconoce lo que hay que fagocit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1565280"/>
            <a:ext cx="730872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EVOLUC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volución : 1. Inflamación agu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362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ju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iberación y activ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ocal de MQ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ctivación y migración de células inflamato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liminación del agente injuriante por Fagocit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i es exitos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i no es exitosa …..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roni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meningitis supurativa"/>
          <p:cNvPicPr/>
          <p:nvPr/>
        </p:nvPicPr>
        <p:blipFill>
          <a:blip r:embed="rId1"/>
          <a:stretch/>
        </p:blipFill>
        <p:spPr>
          <a:xfrm>
            <a:off x="4643280" y="1341360"/>
            <a:ext cx="35928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volución: 2. Resol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4932360" cy="630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liminación exitosa del agente injur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bolición de la gradi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quimiotáctica y d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ctivación de medi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umento del drenaje linf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Fagocitosis del detritus tis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poptosis del PMNn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u fagocitosis por macrófa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igración de macrófa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Y…. aquí no ha pasado nada……….!!!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granuloma anulare"/>
          <p:cNvPicPr/>
          <p:nvPr/>
        </p:nvPicPr>
        <p:blipFill>
          <a:blip r:embed="rId1"/>
          <a:stretch/>
        </p:blipFill>
        <p:spPr>
          <a:xfrm>
            <a:off x="4730760" y="981000"/>
            <a:ext cx="41115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volución:  organ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absceso"/>
          <p:cNvPicPr/>
          <p:nvPr/>
        </p:nvPicPr>
        <p:blipFill>
          <a:blip r:embed="rId1"/>
          <a:stretch/>
        </p:blipFill>
        <p:spPr>
          <a:xfrm>
            <a:off x="250920" y="1341360"/>
            <a:ext cx="4147920" cy="504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organizacion"/>
          <p:cNvPicPr/>
          <p:nvPr/>
        </p:nvPicPr>
        <p:blipFill>
          <a:blip r:embed="rId2"/>
          <a:stretch/>
        </p:blipFill>
        <p:spPr>
          <a:xfrm>
            <a:off x="4627440" y="1268280"/>
            <a:ext cx="4240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volución:   croni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No se logra eliminar al Agente injuria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ersiste la llegada de células inflamatorias especialmente mononucle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e puede formar un granuloma que lo aís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uede ocurrir fibr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uele permanecer por largos períodos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i-granuloma"/>
          <p:cNvPicPr/>
          <p:nvPr/>
        </p:nvPicPr>
        <p:blipFill>
          <a:blip r:embed="rId1"/>
          <a:stretch/>
        </p:blipFill>
        <p:spPr>
          <a:xfrm>
            <a:off x="4714920" y="1268280"/>
            <a:ext cx="38178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volución: repa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A través de Cicatrización y/o regeneración dependiendo le la cantidad y calidad del tejido dañado, se restituye total o parcialmente la estructura y función del tej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i-cicatr 8"/>
          <p:cNvPicPr/>
          <p:nvPr/>
        </p:nvPicPr>
        <p:blipFill>
          <a:blip r:embed="rId1"/>
          <a:stretch/>
        </p:blipFill>
        <p:spPr>
          <a:xfrm>
            <a:off x="4816440" y="1197000"/>
            <a:ext cx="35496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Evolución : Disemin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Microorganismos sobrepasan las barreras y la inflamación invaden ganglios linfáticos, sangre y a través de ellos a otros órg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sepsis"/>
          <p:cNvPicPr/>
          <p:nvPr/>
        </p:nvPicPr>
        <p:blipFill>
          <a:blip r:embed="rId1"/>
          <a:stretch/>
        </p:blipFill>
        <p:spPr>
          <a:xfrm>
            <a:off x="4784760" y="1125360"/>
            <a:ext cx="38718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evolucion infl"/>
          <p:cNvPicPr/>
          <p:nvPr/>
        </p:nvPicPr>
        <p:blipFill>
          <a:blip r:embed="rId1"/>
          <a:stretch/>
        </p:blipFill>
        <p:spPr>
          <a:xfrm>
            <a:off x="1162080" y="952560"/>
            <a:ext cx="6819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9640" y="1179360"/>
            <a:ext cx="8137800" cy="56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00000" y="-23760"/>
            <a:ext cx="7488360" cy="6907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17236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3108600" y="-3513960"/>
            <a:ext cx="575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able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LRs: ligands, role in host defense and disease, co-receptors and adaptor usage</a:t>
            </a:r>
            <a:r>
              <a:rPr b="0" lang="en-US" sz="1200" spc="-1" strike="noStrike" u="sng" baseline="30000">
                <a:solidFill>
                  <a:srgbClr val="009999"/>
                </a:solidFill>
                <a:uFillTx/>
                <a:latin typeface="Arial"/>
                <a:ea typeface="Times New Roman"/>
                <a:hlinkClick r:id="rId1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3121560" y="9868320"/>
            <a:ext cx="1538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Abbreviations: IBD, inflammatory bowel disease; LPS, lipopolysaccharide; RA, rheumatoid arthritis; RSV, respiratory syncytial virus; SLE, systemic lupus erythrometosis; TLRs, Toll-like receptors; UTIs, urinary tract inf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Receptores TLR en infla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4000" y="1125360"/>
          <a:ext cx="8353440" cy="5181840"/>
        </p:xfrm>
        <a:graphic>
          <a:graphicData uri="http://schemas.openxmlformats.org/drawingml/2006/table">
            <a:tbl>
              <a:tblPr/>
              <a:tblGrid>
                <a:gridCol w="1901880"/>
                <a:gridCol w="2274840"/>
                <a:gridCol w="2089080"/>
                <a:gridCol w="20876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AN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B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FERME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OCI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R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cil lipopépti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cobacter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R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éptidoglica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ido lipoteico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terias gram 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sis, A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poprotein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cobacter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ymos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ng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PS atípic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terias gram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R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r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R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poPoliSacári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terias gram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sis,AR, as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Receptores TLR en infla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18440" cy="4921200"/>
        </p:xfrm>
        <a:graphic>
          <a:graphicData uri="http://schemas.openxmlformats.org/drawingml/2006/table">
            <a:tbl>
              <a:tblPr/>
              <a:tblGrid>
                <a:gridCol w="2054160"/>
                <a:gridCol w="2055960"/>
                <a:gridCol w="2054160"/>
                <a:gridCol w="2054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agel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sas bacter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R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cil-lipopépti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cobacter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ymos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ng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R 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sos vir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R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sos vir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R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 virus Her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r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532720" cy="6384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3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6308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Reconocimiento de opsonina IgG por macrófago o PM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13:14:29Z</dcterms:created>
  <dc:creator>Usuario</dc:creator>
  <dc:description/>
  <dc:language>en-US</dc:language>
  <cp:lastModifiedBy>Usuario</cp:lastModifiedBy>
  <dcterms:modified xsi:type="dcterms:W3CDTF">2007-07-31T16:48:27Z</dcterms:modified>
  <cp:revision>3</cp:revision>
  <dc:subject/>
  <dc:title>Diapositiva 1</dc:title>
</cp:coreProperties>
</file>