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29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8.png" ContentType="image/png"/>
  <Override PartName="/ppt/media/image27.jpeg" ContentType="image/jpeg"/>
  <Override PartName="/ppt/media/image10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6E2-0F55-42D2-BE76-C45CD6E1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5B1-E031-4F17-A1BE-62FC839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60C-58EC-4346-BE14-749761FE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22B-D9FF-4532-A73D-75C28B22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317-34EF-4A53-8BCC-F60D232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8CE-6857-4BC8-A44D-D23C545E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DD9-85E1-428A-83FB-7883230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DFF-38AB-4D0F-BE63-9AA36BD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11A-059F-4978-B3DA-AEBDE84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98F-6472-4056-8D22-02D2983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79A-0547-44D7-990C-FC1AE86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482-BEAE-48B5-9A30-C76132F3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87E-9DA4-4A3D-A29A-A2B190908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ArticleURL&amp;_aset=V-WA-A-W-EB-MsSAYZW-UUW-U-AAVVUUVBED-AAVACYCAED-ZEEZWZCZD-EB-U&amp;_rdoc=20&amp;_fmt=full&amp;_udi=B6W7H-4DJBMDG-6&amp;_coverDate=12%2F01%2F2004&amp;_cdi=6627&amp;_orig=search&amp;_st=13&amp;_sort=d&amp;view=c&amp;_acct=C000053978&amp;_version=1&amp;_urlVersion=0&amp;_userid=1620519&amp;md5=14c471aa9a5d7b4f8828546796e226fc#tblfn1#tblfn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INFLAMACION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NOAUDIOLOG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ECNOLOGIA ME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r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és Pe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OS 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tar y eli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is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143520" cy="388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680000" cy="3848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51440" y="0"/>
            <a:ext cx="4192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44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211640" y="299736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2484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MA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870120"/>
            <a:ext cx="9144000" cy="598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0" y="0"/>
            <a:ext cx="2411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IS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3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57640" y="0"/>
            <a:ext cx="4086360" cy="436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4859280" y="4941720"/>
            <a:ext cx="42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obert Koch  18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tiologia de la 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-4680"/>
            <a:ext cx="7561440" cy="68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lasificación de la inflamación según características del exu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xudativ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Gran compromiso 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ucho liqu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M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ubtipos:  serosa,   mucosa,  fibrinosa,  hemorrágica, pseudo-   membranosa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neumonia"/>
          <p:cNvPicPr/>
          <p:nvPr/>
        </p:nvPicPr>
        <p:blipFill>
          <a:blip r:embed="rId1"/>
          <a:stretch/>
        </p:blipFill>
        <p:spPr>
          <a:xfrm>
            <a:off x="4741920" y="1484280"/>
            <a:ext cx="37148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lasificación de la inflamación según características del exu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duc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inicio insid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co compromiso 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caso liquido en ex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edominio de macrófagos y linf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ti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- difu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-perivascular 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- granuloma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bcmg"/>
          <p:cNvPicPr/>
          <p:nvPr/>
        </p:nvPicPr>
        <p:blipFill>
          <a:blip r:embed="rId1"/>
          <a:stretch/>
        </p:blipFill>
        <p:spPr>
          <a:xfrm>
            <a:off x="4556160" y="1341360"/>
            <a:ext cx="3903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¿Como reconoce lo que hay que fagoc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65280"/>
            <a:ext cx="7308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EVOLUC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volución : 1. Inflamación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362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j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beración y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ocal de M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tivación y migración de células inflam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iminación del agente injuriante por Fag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 es exito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 no es exitosa ….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ron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eningitis supurativa"/>
          <p:cNvPicPr/>
          <p:nvPr/>
        </p:nvPicPr>
        <p:blipFill>
          <a:blip r:embed="rId1"/>
          <a:stretch/>
        </p:blipFill>
        <p:spPr>
          <a:xfrm>
            <a:off x="4643280" y="1341360"/>
            <a:ext cx="35928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volución: 2. Re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93236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iminación exitosa del agente injur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bolición de la grad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quimiotáctica y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tivación de med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umento del drenaje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agocitosis del detritus tis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poptosis del PMN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 fagocitosis por macróf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gración de macróf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…. aquí no ha pasado nada……….!!!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granuloma anulare"/>
          <p:cNvPicPr/>
          <p:nvPr/>
        </p:nvPicPr>
        <p:blipFill>
          <a:blip r:embed="rId1"/>
          <a:stretch/>
        </p:blipFill>
        <p:spPr>
          <a:xfrm>
            <a:off x="4730760" y="981000"/>
            <a:ext cx="4111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volución: 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absceso"/>
          <p:cNvPicPr/>
          <p:nvPr/>
        </p:nvPicPr>
        <p:blipFill>
          <a:blip r:embed="rId1"/>
          <a:stretch/>
        </p:blipFill>
        <p:spPr>
          <a:xfrm>
            <a:off x="250920" y="1341360"/>
            <a:ext cx="414792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organizacion"/>
          <p:cNvPicPr/>
          <p:nvPr/>
        </p:nvPicPr>
        <p:blipFill>
          <a:blip r:embed="rId2"/>
          <a:stretch/>
        </p:blipFill>
        <p:spPr>
          <a:xfrm>
            <a:off x="4627440" y="1268280"/>
            <a:ext cx="4240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volución:   cron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 se logra eliminar al Agente injuri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iste la llegada de células inflamatorias especialmente mononucle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puede formar un granuloma que lo aí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uede ocurrir fib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ele permanecer por largos período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-granuloma"/>
          <p:cNvPicPr/>
          <p:nvPr/>
        </p:nvPicPr>
        <p:blipFill>
          <a:blip r:embed="rId1"/>
          <a:stretch/>
        </p:blipFill>
        <p:spPr>
          <a:xfrm>
            <a:off x="4714920" y="1268280"/>
            <a:ext cx="3817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volución: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 través de Cicatrización y/o regeneración dependiendo le la cantidad y calidad del tejido dañado, se restituye total o parcialmente la estructura y función del tej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-cicatr 8"/>
          <p:cNvPicPr/>
          <p:nvPr/>
        </p:nvPicPr>
        <p:blipFill>
          <a:blip r:embed="rId1"/>
          <a:stretch/>
        </p:blipFill>
        <p:spPr>
          <a:xfrm>
            <a:off x="4816440" y="1197000"/>
            <a:ext cx="3549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volución : Dise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icroorganismos sobrepasan las barreras y la inflamación invaden ganglios linfáticos, sangre y a través de ellos a otros órg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epsis"/>
          <p:cNvPicPr/>
          <p:nvPr/>
        </p:nvPicPr>
        <p:blipFill>
          <a:blip r:embed="rId1"/>
          <a:stretch/>
        </p:blipFill>
        <p:spPr>
          <a:xfrm>
            <a:off x="4784760" y="1125360"/>
            <a:ext cx="3871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volucion infl"/>
          <p:cNvPicPr/>
          <p:nvPr/>
        </p:nvPicPr>
        <p:blipFill>
          <a:blip r:embed="rId1"/>
          <a:stretch/>
        </p:blipFill>
        <p:spPr>
          <a:xfrm>
            <a:off x="1162080" y="952560"/>
            <a:ext cx="681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179360"/>
            <a:ext cx="81378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-23760"/>
            <a:ext cx="7488360" cy="690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172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108600" y="-3513960"/>
            <a:ext cx="57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LRs: ligands, role in host defense and disease, co-receptors and adaptor usage</a:t>
            </a:r>
            <a:r>
              <a:rPr b="0" lang="en-US" sz="1200" spc="-1" strike="noStrike" u="sng" baseline="30000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121560" y="9868320"/>
            <a:ext cx="153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Abbreviations: IBD, inflammatory bowel disease; LPS, lipopolysaccharide; RA, rheumatoid arthritis; RSV, respiratory syncytial virus; SLE, systemic lupus erythrometosis; TLRs, Toll-like receptors; UTIs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Receptores TLR en infl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125360"/>
          <a:ext cx="8353440" cy="5181840"/>
        </p:xfrm>
        <a:graphic>
          <a:graphicData uri="http://schemas.openxmlformats.org/drawingml/2006/table">
            <a:tbl>
              <a:tblPr/>
              <a:tblGrid>
                <a:gridCol w="1901880"/>
                <a:gridCol w="2274840"/>
                <a:gridCol w="2089080"/>
                <a:gridCol w="2087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B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cil lipopépt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co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ptidoglic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o lipoteico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s gram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sis, 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oprotein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co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mo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S atíp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s gram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oPoliSacár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s gram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sis,AR, as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Receptores TLR en infl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18440" cy="492120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ge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as 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cil-lipopépt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co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mo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os 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os 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R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virus Her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2720" cy="638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3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conocimiento de opsonina IgG por macrófago o PM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3:14:29Z</dcterms:created>
  <dc:creator>Usuario</dc:creator>
  <dc:description/>
  <dc:language>en-US</dc:language>
  <cp:lastModifiedBy>Usuario</cp:lastModifiedBy>
  <dcterms:modified xsi:type="dcterms:W3CDTF">2007-07-31T16:48:27Z</dcterms:modified>
  <cp:revision>3</cp:revision>
  <dc:subject/>
  <dc:title>Diapositiva 1</dc:title>
</cp:coreProperties>
</file>