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D9C-7454-4E7D-8355-80374AD2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DA4-B4AA-4661-ADF3-29A76602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B10-3397-4D11-B94A-5825C9D6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9C3-9EE7-4E71-8165-B67A2336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AC7-87FD-42F4-B79B-1C2EC31A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10F-5C01-4D78-A858-D9488EEF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7AF-0D8F-4EF4-B577-9A23CDB9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1E5-E029-4DAC-B549-5C5221F8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FB5-15D1-41B8-8BAD-F96A34BD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A97-F637-4FE3-9322-331CAE31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4EA-9011-447A-90BC-BC3A04AF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C5E-0F4B-49CA-B84B-8E2EC0AE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EEAD-141F-4DAA-A1F3-C347C05F27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STRATEGIA EN LA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ORGANIZ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COMPONENTES BÁSICOS DE LA 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visión es el estado futuro deseado, a lo que se aspira 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le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e tipo de organización queremos s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En qué tipo de negocios/áreas de gestión debe entrar la organ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. 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 la declaración simple de la razón de ser de una organización, su propósito básico y el ámbito de trabajo esencial para 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mplica acotar las energías y las metas a definir a un propósito explícito y claramente defi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uede construirse tomando en cuenta las preguntas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ienes somos? = identidad, legitimidad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Qué buscamos? =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propósit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Qué hacer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medios para lograr el propósito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Porqué lo hacemos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, principios, motivaciones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Para quiénes trabajamos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es el producto o servicio que ofrece una organización su razón de ser si no qué necesidad está satisfacien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propósito y quehacer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04840" y="1752480"/>
            <a:ext cx="6934320" cy="4656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07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. OBJETIVOS ESTRATÉ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in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fundamentales a los que se dirigen las actividades de la organización y que otorgan sentido a las acciones que ella realiza. Son los resultados que a mediano y largo plazo aspira a lograr una organización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Reducir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jorar la calidad de los productos o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Flexibilizar los procesos de producción o de entrega de los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ferenciar productos o 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niciar 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 incrementar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versificar el mercado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sarrollar  nuevas competencias y habilidades en el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228240"/>
            <a:ext cx="8640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JEMPLO: HOSPITAL SAN JUAN DE 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Hospital centrado en los us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tar con funcionarios calificados, de trato amable y comprometidos con la misión del hos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tar con una planta física que responda a las necesidades de todos los usuar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ortalecer la relación docente asis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egar servicios integrales de salud a la población asignada, para resolver especialmente problemas sanitarios complej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forma oportuna, eficiente y amable, con los mayores niveles de calidad sustentabl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58920" y="620280"/>
            <a:ext cx="8480160" cy="60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tivo estratégic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ejorar la atención al us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tivo de gest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isminuir el tiempo promedio de atención a solicitudes de usuarios en cinco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dicad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Tiempo promedio de atención (se debe establecer como se calculó, cual es la fuente de información, cual es la frecuencia con que será medido y quien será el respons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08200" y="3881520"/>
            <a:ext cx="217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90840" y="533520"/>
            <a:ext cx="2362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2590920"/>
            <a:ext cx="2016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19480" y="4800600"/>
            <a:ext cx="2705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dica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523880"/>
            <a:ext cx="838080" cy="83844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52960" y="3809880"/>
            <a:ext cx="838080" cy="83844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RECCION ESTRATE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3400" y="1066680"/>
            <a:ext cx="4392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ANALISIS ESTRATEGICO: Comprensión de la posición estratégica de la organización en función de su entorno externo, recursos, competencias y expectativas de los directivo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ELECCION ESTRATEGICA: Generación de opciones estratégicas evaluables y selección de la mejor opción para la organizació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IMPLEMENTACION DE LA ESTRATEGIA: traduce una estrategia en acción organizacional, mediante el diseño, estructura de la organización, la planificación de recursos y la gestión del cambio estratégic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876920"/>
            <a:ext cx="2057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lemen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371600"/>
            <a:ext cx="1828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stratég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200400"/>
            <a:ext cx="1828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ec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4382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419112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LANIFICACION ESTRATE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Planificación estratégica es un proceso que mantiene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ido al equipo directivo para traducir la misión, visión y estrategi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resultados tangibles, reduce los conflictos, fomenta la participación  y el compromiso a todos los niveles de la organización con los esfuerzos requeridos para hacer realidad el futuro que se dese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stinción entre planificación y estrateg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neación se asocia más al hemisferio izquierdo: actividades, recursos, tiempos; estrategia al hemisferio derecho: creatividad, intui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planeación es un proceso de análisis; la estrategia es uno de síntes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planeación tiende hacia el incrementalismo: vender más, gastar menos, eficiencia; la estrategia hacia la discontinuidad: ser diferentes, capitalizar puntos de inflex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NALISIS FO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taleza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Representan los principales puntos a favor con los que cuenta la empresa o instit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ilidade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mitaciones relacionadas con potencial humano, capacidad de proceso o finanza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ortunidad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Son eventos o circunstancias que se espera que ocurran o pueden inducirse a que ocurran en el mundo exterior y que podrían tener un impacto positivo en el futuro de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menaza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Son eventos o circunstancias que pueden ocurrir en el mundo exterior y que pudieran tener un impacto negativo en el futuro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848720" cy="60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tregar el producto al menor costo posible a una calidad mundial, a una calidad que sea global y que pueda vender mi producto en Chile o en cualquier parte del mundo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uscamos la satisfacción del cliente y el continuo apoyo para que éstos aprovechen al máximo los servici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e proceso aspiramos a realizarlo con calidad tanto en los procesos como en la entrega final de productos y servici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Queremos dar un servicio óptimo, oportuno, vanguardista y para eso estamos invirtiendo en nuevas tecnologías y capacitación del person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17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RADAS SOBRE EL PROCESO DE FORMACIÓN DE LAS ESTRATE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stemas formales de plane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foque normativo que señala cuales son los factores que deben incluirse en un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foque centrado en el poder y en la condu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 centra en las relaciones psicológicas, de poder y de comportamiento y su relevancia para la conformación de una estrate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crementalismo lóg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 el desarrollo deliberado de una estrategia a través del “aprender hacien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17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NÁLISIS D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entornos con condiciones simples o estáticas es relativamente fácil de comprender y no se producen cambios significativ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los entornos con condiciones dinámicas hay una mayor complejidad que se puede salvar con la planificación de escenari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entornos con condiciones complejas es difícil de entender y tienen un alto nivel de incertidumb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82760" y="342720"/>
            <a:ext cx="817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EMENTOS QUE SE DEBEN CONSIDERAR AL HACER UN ANALISIS DEL EN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políticos/Legal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Legislación sobre monopolios, legislación sobre protección del medio ambiente, etc.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P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lítica de impuest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eyes laborale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lítica arancelaria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abilidad polít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.    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económic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iclos económic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dencias del PIB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sas de interé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ferta monetari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I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flación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semple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sponibilidad y costos de medios energétic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Tecnológic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Gastos gubernamentales en investigación y desarroll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terés del gobierno y la industria en el esfuerzo tecnológic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uevos descubrimientos y desarroll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elocidad en la transferencia tecnológ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ctitud hacia la innovación tecnológ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NALISIS COMPA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históric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analiza la utilización de recursos y sus rendimientos comparándolos con los años anteriores, para identificar los principales camb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de los estándares de la industri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compara los rendimientos relativos de las organizaciones de la misma industria (o del mismo servicio público) en función de un conjunto de indicadores de rend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Benchmarking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trata de determinar las competencias de una organización en función del “mejor de la clase”. Los peores buscan “consejo” de los “mejores” a través de buscar, compartir e implementar las mejores prác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struc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ben hacer 4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ada grupo debe elegir a un lí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líderes deben recoger el máximo de materiales. Ellos serán guiados por el resto de su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solidarse como líder de la industria, no es estrategia, es un dese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ender lo mejor al mejor precio, no es estrategia, es la "estrategia" de todo el mundo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btener la mayor productividad, no es estrategia, es una medida de eficiencia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o existe una única definición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uso común, estrategia se utiliza como sinónimo de: objetivo, misión, táctica, procedimiento, actividad, etc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3818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n el campo de la administración, una estrategia es el plan o patrón que integra las principales metas y políticas de una organización, y a la vez, establece la secuencia coherente de las acciones a realizar. Una estrategia adecuadamente formulada ayuda a poner orden y a asignar los recursos de una organización, con el fin de lograr una situación viable y original, así como anticipar los posibles cambios en el entorno y acciones imprevistas de los oponentes inteligentes” (Qui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4046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Definición de 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RACTERÍSTICAS DE LAS DECISIONES ESTRATÉGICA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lacionadas con la dirección de largo plazo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lacionadas con el alcance de las actividades de la organización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ablece la adecuación de las actividades de una organización al entorno en el que opera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sociadas a lograr ventajas para la organizació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INTZBERG DEFINE LA ESTRATEGIA COMO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I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formal y visionaria, más que formal y programada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Sustentad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el subconconsciente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Demandante de un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pensamiento divergente e intuitivo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Pr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ceso creativo, irregular, instintivo y disru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S 5 P DE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lan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curso de acción conscientemente deseado y determinado de forma anticipada, con la finalidad de asegurar el logro de los objetivos de la empresa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auta de Acció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uede visualiza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a simple vista como una trampa, una maniobra, que oculta la verdadera estrategi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atrón: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modelo en el flujo de acciones. Se infiere consistencia con el actuar. Para que sea deliberada debe provenir de los altos ma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osición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medio para ubicar a una organización en el “medio ambiente”.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Busc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ubicar a la organización en un entorno externo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posiciones concr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erspectiva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la estrategia es para las organizaciones lo que la personalidad es para el individuo. Es una forma de actuar consolid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LA ESTRATEGIA DELIBERADA Y EMERG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705720" y="1980720"/>
            <a:ext cx="220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280" y="1828800"/>
            <a:ext cx="7543800" cy="4800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NIVELES DE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 Corporativa: relacionada con el objetivo y alcance global de la organización para satisfacer las expectativas de los propietarios y añadir valor a las distintas partes de 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 de Unidad de Negocios: se refiere a cómo competir con éxito en un determinado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s operativas: se ocupan de cómo los distintos componentes de la organización, recursos, procesos, personas y sus habilidades contribuyen de manera efectiva a la dirección estratégica, corporativa y de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6765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971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038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umno</cp:lastModifiedBy>
  <dcterms:modified xsi:type="dcterms:W3CDTF">2007-08-06T14:51:58Z</dcterms:modified>
  <cp:revision>27</cp:revision>
  <dc:subject/>
  <dc:title>PowerPoint Presentation</dc:title>
</cp:coreProperties>
</file>