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BA4-D9FF-486B-A60E-B682D808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6B2-57C3-4D06-8C9C-0A7D99E7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317-994A-4ECA-AD76-C271C6E0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83F-9516-4FEF-B0F1-8A4F1EEE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BD8-6494-4347-9553-118CE657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810-BCD0-4CE9-AA42-BD141020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3EE-C96C-408E-969F-4FCB8B44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325-800F-4A10-BDED-93CECF35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1D6-9CE9-431E-8BE1-3428B9B5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62C-7A61-46A3-86C8-43FECE7B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FB4-15D1-40AD-9BCD-6BF836B0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EE7-CF14-490C-AB2B-F1494027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4DA8-C12F-48E2-9E37-35A7984A39E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2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8076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ccccff"/>
                </a:solidFill>
                <a:latin typeface="Times New Roman"/>
              </a:rPr>
              <a:t>COMUNICACIÓN </a:t>
            </a:r>
            <a:br>
              <a:rPr sz="4400"/>
            </a:br>
            <a:br>
              <a:rPr sz="4400"/>
            </a:br>
            <a:r>
              <a:rPr b="1" lang="es-CL" sz="4400" spc="-1" strike="noStrike">
                <a:solidFill>
                  <a:srgbClr val="ccccff"/>
                </a:solidFill>
                <a:latin typeface="Times New Roman"/>
              </a:rPr>
              <a:t>ORGANIZ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fuente es el emisor del mens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s quien inicia el proceso de la comun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380880"/>
            <a:ext cx="3124440" cy="6098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fuente inicia el mensaje al codificar un pensamien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l éxito de esta codificación depende de cuatro condiciones de la fu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H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Ac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noc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istema Sociocul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228600"/>
            <a:ext cx="312444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23640" y="1412640"/>
            <a:ext cx="85690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Producto físico real de la codificación de la fu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l mensaje se ve afectado por los símbolos que usamos para transmitir el significado y por el contenido del mens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l mensaje puede incluir una comunicación no verbal, es decir, movimientos corporales, tono y énfasis de voz, expresiones faciales y la distancia física entre emisor y recep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s importante estar alerta a estos aspectos para entender la totalidad del mens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304920"/>
            <a:ext cx="312408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s el medio por el cual viaja el mensaj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s seleccionado por la fu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Al interior de la organización, pueden ser canales formales o inform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533520"/>
            <a:ext cx="312444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selección de un canal por sobre otro difiere en su capacidad para transmitir la informa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o que depende 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capacidad del canal para manejar múltiples claves de manera simultán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u capacidad de facilitar una rápida retroali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u capacidad de ser personal o 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152280"/>
            <a:ext cx="3124440" cy="6098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jemplos de ca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ara a cara: gran riqueza del canal, mensajes que pueden ser ambiguos y no rutina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Teléf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rreo Electró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artas y m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Boletines de información: baja riqueza del canal, mensaje claro y rutinar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304920"/>
            <a:ext cx="312444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1760" y="17521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Forma mediante la cual los símbolos del mensaje se traducen a una forma comprensible para el recep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n la decodificación se aplican las mismas condiciones que la fuente (habilidades, actitudes, conocimientos y sistema sociocultural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380880"/>
            <a:ext cx="3124080" cy="6098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l receptor es a quien va dirigido el mens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be tener la capacidad de leer o escuchar el mensaje, y ser capaz de razon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33520"/>
            <a:ext cx="312444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Finalización del proceso comunicativo. Pone el mensaje de vuelta en el sistema como control para evitar malentendid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Permite verificar el éxito o el fracaso en la transmisión del mensaj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termina si se ha logrado la comprensión del mensaj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57200"/>
            <a:ext cx="3733920" cy="5335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TRO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LA COMUNICACIÓN AL INTERIOR DE LAS ORGANIZACIONES</a:t>
            </a:r>
            <a:r>
              <a:rPr b="0" lang="es-CL" sz="4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250920" y="2276640"/>
            <a:ext cx="3311280" cy="20160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des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ormales e infor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221000"/>
            <a:ext cx="3311280" cy="201636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arreras a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municación efic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5651640" y="2205000"/>
            <a:ext cx="3311280" cy="20160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rección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6308640"/>
            <a:ext cx="1042920" cy="549360"/>
          </a:xfrm>
          <a:prstGeom prst="rightArrow">
            <a:avLst>
              <a:gd name="adj1" fmla="val 50000"/>
              <a:gd name="adj2" fmla="val 47461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5440" y="45684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TRANSFERENCIA DE SIGNIFI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(INFORMACIÓN E IDE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RENSIÓN DE SIGNIFICAD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22860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0384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EL MODELO COMUNIC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REDES DE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s redes de comunicación definen los canales por los cuales fluye la informa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stas redes suelen ser de dos tip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For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for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REDES FOR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iguen la línea de mando, son verticales y se limitan a comunicación relacionada a las tareas dentro de la organización. Pueden darse distintos tip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505320"/>
            <a:ext cx="30492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4800600"/>
            <a:ext cx="30492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3962520"/>
            <a:ext cx="30456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962520"/>
            <a:ext cx="30492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4800600"/>
            <a:ext cx="30456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800600"/>
            <a:ext cx="30456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800600"/>
            <a:ext cx="30492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3962520"/>
            <a:ext cx="30492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3962520"/>
            <a:ext cx="30492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505320"/>
            <a:ext cx="30456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4724280"/>
            <a:ext cx="30492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4724280"/>
            <a:ext cx="30456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01000" y="4038480"/>
            <a:ext cx="30492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3962520"/>
            <a:ext cx="30456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2920" y="3505320"/>
            <a:ext cx="304560" cy="2286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38080" y="36572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505320" y="37335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629400" y="36572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657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3657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3733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4343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98108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72400" y="426672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809880" y="380988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3733920"/>
            <a:ext cx="38088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010280" y="380988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80988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41911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4038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162920" y="41911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895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2895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R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2895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TODO CA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5334120"/>
            <a:ext cx="2819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Sigue las línea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mando rígid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5334120"/>
            <a:ext cx="2857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Líder es el conduc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central para to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las 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del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334120"/>
            <a:ext cx="281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odos los miemb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se comuni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activamente 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información se da a través de medios extraoficiales. El ejemplo clásico son los rum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os rum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No están controlados por la adminis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e perciben como más creíbles y confiables  por los empl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irven a los intereses personales de algunas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REDES INFOR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os </a:t>
            </a: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rumores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tienen cuatro propósi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structurar y reducir la ans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ar sentido a la información limitada o fragmen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irven como puente para organizar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Señalan el status del remi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12000" y="6381720"/>
            <a:ext cx="1332000" cy="47628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DIRECCIÓN DE L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cendente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: La comunicación fluye de un nivel superior a uno inf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cendente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: La comunicación fluye a un nivel superior desde uno inf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Times New Roman"/>
              </a:rPr>
              <a:t>Horizontal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: Se da entre miembros de un mismo nivel o grupo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7812000" y="6381720"/>
            <a:ext cx="1332000" cy="47628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BARRERAS PARA UNA COMUNICACIÓN 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Times New Roman"/>
              </a:rPr>
              <a:t>Filtración: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Manipulación de información por parte del emisor, para que sea vista de una manera más favorable por el recept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Times New Roman"/>
              </a:rPr>
              <a:t>Percepción Selectiva: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Receptores pueden escuchar o ver selectivamente de acuerdo a sus necesidades, motivaciones, experiencias y otras características personal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04560" y="18284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Times New Roman"/>
              </a:rPr>
              <a:t>Emociones: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l estado de ánimo del receptor puede influir en la forma en como interpreta el mensaje que le lleg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nguaje: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Puede ser una barrera ya que las palabras significan distintas cosas para las personas, siendo importante la edad, educación y variables culturales de las person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BARRERAS PARA UNA COMUNICACIÓN 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7812000" y="6381720"/>
            <a:ext cx="1332000" cy="47628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FUNCIONES DE LA COMUNICA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324000" y="1700280"/>
            <a:ext cx="3886200" cy="7617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4859280" y="1700280"/>
            <a:ext cx="3429000" cy="7617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TI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324000" y="3789360"/>
            <a:ext cx="3962160" cy="7621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PRESIÓN EMO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5003640" y="3789360"/>
            <a:ext cx="3429000" cy="7621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551664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ON TODAS IGUAL DE 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101080" y="6308640"/>
            <a:ext cx="1042920" cy="549360"/>
          </a:xfrm>
          <a:prstGeom prst="rightArrow">
            <a:avLst>
              <a:gd name="adj1" fmla="val 50000"/>
              <a:gd name="adj2" fmla="val 47461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comunicación controla el comportamiento de las miembros en una 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 manera f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 manera inf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549360"/>
            <a:ext cx="3886200" cy="7617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16761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comunicación fomenta la motivación al aclarar a los empleados lo que se debe hacer, lo bien que hacen su trabajo o las formas de mejorar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motivación cumple un papel de retroali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57680" y="380880"/>
            <a:ext cx="3429000" cy="7621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TI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120" y="2133720"/>
            <a:ext cx="76964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expresión emocional se da por medio de la interacción entre los grup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s una forma de desahogo y satisfacción de necesidades socia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685800"/>
            <a:ext cx="3962160" cy="7621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PRESIÓN EMO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información se refiere a la facilitación respecto a la toma de decisiones, ya que se transmiten datos para identificar y evaluar el mayor número de opciones posib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57680" y="533520"/>
            <a:ext cx="3429000" cy="7617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6453360"/>
            <a:ext cx="1187280" cy="40464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Esqu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0520" y="1904760"/>
            <a:ext cx="86108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 comunicación se puede ver como un         proceso o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Antes de comunicar debe existir un propósito, expresado como un mensaje a transmit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ccff"/>
                </a:solidFill>
                <a:latin typeface="Times New Roman"/>
              </a:rPr>
              <a:t>EL PROCESO DE COMUN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250920" y="333360"/>
            <a:ext cx="312408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228600" y="1752480"/>
            <a:ext cx="3124080" cy="6098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250920" y="3141720"/>
            <a:ext cx="312408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250920" y="4437000"/>
            <a:ext cx="3124080" cy="6098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5" action="ppaction://hlinksldjump"/>
          </p:cNvPr>
          <p:cNvSpPr/>
          <p:nvPr/>
        </p:nvSpPr>
        <p:spPr>
          <a:xfrm>
            <a:off x="250920" y="5877000"/>
            <a:ext cx="3124080" cy="609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914400"/>
            <a:ext cx="0" cy="762120"/>
          </a:xfrm>
          <a:prstGeom prst="line">
            <a:avLst/>
          </a:prstGeom>
          <a:ln w="936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2438280"/>
            <a:ext cx="0" cy="609840"/>
          </a:xfrm>
          <a:prstGeom prst="line">
            <a:avLst/>
          </a:prstGeom>
          <a:ln w="936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809880"/>
            <a:ext cx="0" cy="533520"/>
          </a:xfrm>
          <a:prstGeom prst="line">
            <a:avLst/>
          </a:prstGeom>
          <a:ln w="936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029200"/>
            <a:ext cx="0" cy="762120"/>
          </a:xfrm>
          <a:prstGeom prst="line">
            <a:avLst/>
          </a:prstGeom>
          <a:ln w="936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10666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1295280" y="25146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38862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5181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6172200"/>
            <a:ext cx="26672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019920" y="533160"/>
            <a:ext cx="0" cy="56386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428640" y="533520"/>
            <a:ext cx="25909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7" action="ppaction://hlinksldjump"/>
          </p:cNvPr>
          <p:cNvSpPr/>
          <p:nvPr/>
        </p:nvSpPr>
        <p:spPr>
          <a:xfrm>
            <a:off x="6248520" y="457200"/>
            <a:ext cx="55872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01080" y="6308640"/>
            <a:ext cx="1042920" cy="549360"/>
          </a:xfrm>
          <a:prstGeom prst="rightArrow">
            <a:avLst>
              <a:gd name="adj1" fmla="val 50000"/>
              <a:gd name="adj2" fmla="val 47461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15:48:23Z</dcterms:created>
  <dc:creator>Isabel Guerrero</dc:creator>
  <dc:description/>
  <dc:language>en-US</dc:language>
  <cp:lastModifiedBy>Sole Valdés</cp:lastModifiedBy>
  <dcterms:modified xsi:type="dcterms:W3CDTF">2007-08-29T23:39:43Z</dcterms:modified>
  <cp:revision>47</cp:revision>
  <dc:subject/>
  <dc:title>COMUNICACIÓN   ORGANIZACIONAL</dc:title>
</cp:coreProperties>
</file>