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9D8-2513-45DA-9111-E4099900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FC0-C03D-4E12-AB4A-92C1E73B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ECE-F31C-4941-852E-7F9C8725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EB2-FEDD-4B4F-9899-760C52BC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C3A-CFD2-4089-90BD-35948C5C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14D-F549-467D-A905-EA5A19CF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24E-10BC-44B8-94FB-FFFC1646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7D48-E04C-458B-BEA0-C5DBD8EC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F86-A0CC-44A2-A32D-D3BF6EA1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541-6E2E-4834-8394-C0CE8B1E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C71-A16B-41EE-90BA-37C9269E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B12-9CC5-445E-AF41-685DBB20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2079-8B72-4F06-8ECE-9B6F0506FD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7000" y="5688000"/>
            <a:ext cx="584280" cy="1125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380360" y="636732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JAVIERA PIZA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SOLEDAD VALD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916280"/>
            <a:ext cx="84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ccccff"/>
                </a:solidFill>
                <a:latin typeface="Arial"/>
              </a:rPr>
              <a:t>CLIMA ORGANIZACION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ccff"/>
                </a:solidFill>
                <a:latin typeface="Arial"/>
              </a:rPr>
              <a:t>EL ROL DEL LIDER EN EL CLIMA LAB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co formas de crear un buen clima labo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500280"/>
            <a:ext cx="2303280" cy="1297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5157720"/>
            <a:ext cx="2303640" cy="1297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vo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5229360"/>
            <a:ext cx="2303280" cy="129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2637000"/>
            <a:ext cx="2303280" cy="129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hivo expi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2000" y="3357720"/>
            <a:ext cx="2303280" cy="129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e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4365720"/>
            <a:ext cx="863280" cy="647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equipos suelen buscar un culpable de sus propias desventuras, un “chivo expiatorio”, que los alivie del trabajo de revisar sus propias responsabilida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yor intensidad en la acusación hacia el chivo, menor atención se presta a las propias fallas y menor esfuerzo se aplica a mejorar lo que se h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476280"/>
            <a:ext cx="8207280" cy="93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HIVO EXPI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cambiar esta dinámica, el líder puede realizar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igilar discretamente dónde se depositan las culpas y cuál es la intensidad de la queja o los enojos descarg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impiar suavemente al chivo, tratando de direccionar gradualmente esa carga de energía negativa hacia fuera del grupo y en lo posible hacia afuera de la organiz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uscar bajar el nivel de reproche y, simultáneamente, comenzar a promover amigablemente que todos se animen a plantear qué deben mejorar de su propio desempeño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resión laboral suele aumentar la ansiedad de todo el grupo, y en esas condiciones, algunas personas reaccionan con conductas atíp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as reacciones provocan rencores o “débitos emocionales” que enrarecen el clima y generan una tensión que desmotiva a todo el gru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76280"/>
            <a:ext cx="8207280" cy="93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resolver la situación, el líder debe aclarar la situación, realizando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ver la conversación entre los involucrados, en un entorno reser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eñarles a usar los dos formas básicas para resolver confli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mí me pasa que…(En lugar de “lo que tú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cist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edo disculparme si te he molestado… (En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ugar de “fue culpa tuya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líder debe señalar la responsabilidad de todos los involucrados para resolver la situación, sin tomar partido por nad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ngún problema de clima se instala de un día para otro ni se resuelve fácilmente. Gestionar el clima requiere planificar meses, no semanas ni dí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 generar un buen clima, el líder debe tener en claro los siguientes pu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laridad de objetivos: Debe lograrse un equilibrio adecuado entre lo que se quiere lograr y lo que el grupo es capaz de gene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tancia: el líder debe alentar aquellas acciones que el grupo es capaz de sostener en el tiempo, considerando el ritmo del trabajo y la frecuencia de imprevistos. Así también, debe respetar lo planificado tratando de organizar las prior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ciencia: el líder no debe desalentarse en el primer traspié, debe ser tolerante a los “biorritmos” ajenos sin perder el foco de lo que debe lograrse a mediano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476280"/>
            <a:ext cx="8207280" cy="93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LANEACIÓN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90% de los problemas de clima se origina en cuestiones de trabajo y se resuelve organizando mejor los recursos disponibles y los procesos cotidian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rol del líder es enfocar el origen de los problemas, sabiendo que siempre existen condiciones externas que no tienen solución, pero cuyos efectos nocivos pueden suaviza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76280"/>
            <a:ext cx="8207280" cy="93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manejar las diferentes situaciones se debe considerar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erenciar origen de efectos: Por ejemplo, un conflicto entre alguien de plataforma comercial y otro de plataforma operativa puede originarse en datos mal cargados o ritmos desacoplados entre la urgencia comercial y la defensa frente a ries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r medidas para resolver el origen: Por ejemplo, organizar un equipo mixto que busque medidas para resolver los errores o anticipar los riesgos, de modo tal que el cierre de ventas gane ag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ear los cambios: El líder utiliza su autoridad para reafirmar la importancia de lograr cambios reales que resuelvan el problema técnico. (De esta forma el problema relacional se reduce gradualme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ocación: el rol del líder es lograr una convocatoria adecuada para que todos participen y perciban que son parte de un equ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grupo sintoniza mejor con ciertas acciones de clima y es reactivo a otras, pero en todos los casos, el equipo debe sentirse protagonista de su propio cl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76280"/>
            <a:ext cx="8207280" cy="93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VO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lograrlo, hay que considerar los siguientes pa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ar a los mejores organizadores internos: Siempre hay voluntarios que tienen consenso en el grupo para organizar actividades que todos acep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ntar que se promuevan actividades de pertenencia que aumenten la mística colectiva, dentro o fuera de la organización, con o sin 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der el mando en estas ocasiones y actuar como un colaborador más, pero tratando que nadie quede relegado y nadie pretenda ser parte del equipo sin hacer su aporte solid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ccff"/>
                </a:solidFill>
                <a:latin typeface="Arial"/>
              </a:rPr>
              <a:t>CLIMA ORGANIZ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 una variable medidora de las personas que se encuentra dentro de la cultura organiz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bido a su importancia se considera como un tema aparte de la cultura de cad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clima tiene que ver con el estado anímico colectivo de un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ccff"/>
                </a:solidFill>
                <a:latin typeface="Arial"/>
              </a:rPr>
              <a:t>TESTEO DEL CL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testear el clima hay que considerar divers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3059280" y="3789360"/>
            <a:ext cx="2663640" cy="151272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A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95280" y="260280"/>
          <a:ext cx="8569080" cy="6283080"/>
        </p:xfrm>
        <a:graphic>
          <a:graphicData uri="http://schemas.openxmlformats.org/drawingml/2006/table">
            <a:tbl>
              <a:tblPr/>
              <a:tblGrid>
                <a:gridCol w="1751760"/>
                <a:gridCol w="6251760"/>
                <a:gridCol w="565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cadores en el equ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m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Hay humor? ¿Cómo? ¿Cuándo? ¿La gente tiene ganas de llegar a su trabajo o lo perciben como una condena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r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Los errores se ocultan? ¿Se delatan? ¿Se tratan abiertamente para no repetirlos? ¿Son motivos de burlas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Crece la intolerancia ante fuerte presión? ¿Algunos se retraen o huyen frente al compromiso de atender una urgencia? ¿Algunos se ponen mal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Las metas son individuales o se tratan como un desafío del grupo? ¿Se colabora para lograr el cumplimiento de metas ajenas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ursos escas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Cómo reaccionan frente a recursos insuficientes? ¿Hay egoísmo o peleas para apropiarse de los insumos? ¿Se comparten? ¿Se buscan opciones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jo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Hay iniciativas de mejora o todo se repite burocráticamente? ¿Se opina sobre cómo mejorar procesos? ¿Hay desgano para cambiar la rutina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ltad a la mar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El grupo es “quejón” o hay orgullo de pertenencia? ¿Se valora la marca o se cree que la competencia es mejo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arro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Se aspira a crecer profesionalmente? ¿Se busca aprender lo que no se sabe o sólo se espera ascender para ganar más dinero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lam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Cómo se tratan las situaciones irritantes? ¿A quién se culpa? ¿Se pone siempre la responsabilidad afuera o hay reacciones maduras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Se busca consolidar el grupo o hay “castas” en el equipo? ¿Hay discriminación? ¿El grupo trabaja unido o dividido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ccff"/>
                </a:solidFill>
                <a:latin typeface="Arial"/>
              </a:rPr>
              <a:t>MODELO DE CLIMA</a:t>
            </a:r>
            <a:br>
              <a:rPr sz="4000"/>
            </a:br>
            <a:r>
              <a:rPr b="0" lang="es-ES" sz="4000" spc="-1" strike="noStrike">
                <a:solidFill>
                  <a:srgbClr val="ccccff"/>
                </a:solidFill>
                <a:latin typeface="Arial"/>
              </a:rPr>
              <a:t> (Litwin &amp; String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men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349360"/>
            <a:ext cx="2232000" cy="64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941720"/>
            <a:ext cx="2232000" cy="64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compen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3645000"/>
            <a:ext cx="223200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2205000"/>
            <a:ext cx="65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timiento de los empleados respecto de las restricciones, número de reglas, controles y procedimientos que existen y limitan sus posibilidade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87640" y="3500280"/>
            <a:ext cx="61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timiento por parte de los empleados de ser sus propios jefes. Poder tomar solo las decisiones y no tener que consultar cada paso a sus superi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4869000"/>
            <a:ext cx="651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timiento de ser recompensado por el trabajo bien hecho. Énfasis en la recompensa positiva más bien que en el casti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2637000"/>
            <a:ext cx="223200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alid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907920"/>
            <a:ext cx="2232000" cy="64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4508640"/>
            <a:ext cx="223200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po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765000"/>
            <a:ext cx="61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ido de riesgo y desafío en el trabajo y la organización. Énfasis en tomar riesgos calcul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2421000"/>
            <a:ext cx="6156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cepción de una buena camarería general. Énfasis en la prevalencia de la amistad y grupos sociales inform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437000"/>
            <a:ext cx="6156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pción de la ayuda mutua de los directivos y empleados de la organización. Énfasis en el mutuo apoyo para enfrentar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00000" y="1125360"/>
            <a:ext cx="2232000" cy="64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ánd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924280"/>
            <a:ext cx="223200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ole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4797360"/>
            <a:ext cx="223200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836640"/>
            <a:ext cx="5616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pción de la importancia de las normas y exigencias en el rendimiento del trabajo. Sentimiento de exig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2781360"/>
            <a:ext cx="5761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imiento de que se acepten discrepancias, posturas disidentes y que es posible discutir sin ser castigado o censu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581360"/>
            <a:ext cx="554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imiento de compromiso e identificación personal con la 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ccff"/>
                </a:solidFill>
                <a:latin typeface="Arial"/>
              </a:rPr>
              <a:t>DEFINICIONES DE CL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biente psicológico, de percepciones y sentimientos referidos a la vida organizacional, desarrollado a través de interacciones colectiva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ca explicar la forma en que los aspectos estructurales (formalización, centralización, ámbito de control, etc.) influyen sobre el comportamiento de las persona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gún Katz y Khan el clima es el resultante de un número de factores que se reflejan en la "cultura total" de la organización. Éste es un “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sistema predominante de valores de una organización mediante el cual los investigadores pretenden llegar a la identificación del mismo y conseguir que, combinando los climas con las características personales de los individuos, la organización sea más efectiv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ccff"/>
                </a:solidFill>
                <a:latin typeface="Arial"/>
              </a:rPr>
              <a:t>ENF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1916280"/>
            <a:ext cx="302400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ruc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1916280"/>
            <a:ext cx="309744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sicoló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3716280"/>
            <a:ext cx="309744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activo-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302400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tera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ifestación objetiva de la estructura organizacional. Se forma porque los miembros de la organización están expuestos a características estructurales semejantes. Como resultado de esta exposición, ellos presentan percepciones simi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189000"/>
            <a:ext cx="6626160" cy="79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ccff"/>
                </a:solidFill>
                <a:latin typeface="Arial"/>
              </a:rPr>
              <a:t>ESTRUC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base para la formación del clima está dentro del individuo. Estos responden a variables situacionales de modo psicológicamente significativos para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189000"/>
            <a:ext cx="6626160" cy="79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ccff"/>
                </a:solidFill>
                <a:latin typeface="Arial"/>
              </a:rPr>
              <a:t>PSICOLÓG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interacción de lo individuos, al responder a su situación, produce resultados colectivos que son la base del cl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89000"/>
            <a:ext cx="6626160" cy="79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ccff"/>
                </a:solidFill>
                <a:latin typeface="Arial"/>
              </a:rPr>
              <a:t>INTERAC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clima es creado por un grupo de individuos interactuantes que comparten un marco de referencia simbólico común en la medida en que van enfrentando las contingencias situa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189000"/>
            <a:ext cx="6626160" cy="79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ccff"/>
                </a:solidFill>
                <a:latin typeface="Arial"/>
              </a:rPr>
              <a:t>INTERACTIVO-CUL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19:17:11Z</dcterms:created>
  <dc:creator>Sole Valdés</dc:creator>
  <dc:description/>
  <dc:language>en-US</dc:language>
  <cp:lastModifiedBy>Sole Valdés</cp:lastModifiedBy>
  <dcterms:modified xsi:type="dcterms:W3CDTF">2007-10-14T01:59:26Z</dcterms:modified>
  <cp:revision>14</cp:revision>
  <dc:subject/>
  <dc:title>COMUNICACIÓN ORGANIZACIONAL II</dc:title>
</cp:coreProperties>
</file>