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517-5F5C-4B89-A63A-A0AFB1A4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C6F-668C-4045-8F7A-EB2EB048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E82-C492-4BC2-B5B8-E65F6BD0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EB7-AE30-487C-97A2-1C70A32C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131-5548-4BF3-BC06-01FA696A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E16-E58F-4F30-B155-DFA5CE55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5C3-077E-4E45-9816-F1DF67C8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F3D-EDC2-41B7-9D64-7445E5AD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262-3F10-4338-8C6D-0842350A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752-A018-445F-8A7C-363DE7FE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E33-F8E4-4CDF-9F54-740C7E06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20E-FD78-45DD-96F1-9562B335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9FF1-EDF8-4C44-81A8-9487065BE5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7000" y="5688000"/>
            <a:ext cx="584280" cy="1125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380360" y="63673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JAVIERA PIZ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OLEDAD VALD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91628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ccccff"/>
                </a:solidFill>
                <a:latin typeface="Arial"/>
              </a:rPr>
              <a:t>CLIMA ORGANIZACION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ccff"/>
                </a:solidFill>
                <a:latin typeface="Arial"/>
              </a:rPr>
              <a:t>EL ROL DEL LIDER EN EL CLIMA LAB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o formas de crear un buen clima labo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500280"/>
            <a:ext cx="2303280" cy="1297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157720"/>
            <a:ext cx="2303640" cy="1297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v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5229360"/>
            <a:ext cx="2303280" cy="129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2637000"/>
            <a:ext cx="2303280" cy="129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hivo expi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2000" y="3357720"/>
            <a:ext cx="2303280" cy="129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e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4365720"/>
            <a:ext cx="86328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equipos suelen buscar un culpable de sus propias desventuras, un “chivo expiatorio”, que los alivie del trabajo de revisar sus propias responsabilida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yor intensidad en la acusación hacia el chivo, menor atención se presta a las propias fallas y menor esfuerzo se aplica a mejorar lo que se h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HIVO EXPI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cambiar esta dinámica, el líder puede realizar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igilar discretamente dónde se depositan las culpas y cuál es la intensidad de la queja o los enojos descarg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impiar suavemente al chivo, tratando de direccionar gradualmente esa carga de energía negativa hacia fuera del grupo y en lo posible hacia afuera de 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uscar bajar el nivel de reproche y, simultáneamente, comenzar a promover amigablemente que todos se animen a plantear qué deben mejorar de su propio desempeñ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resión laboral suele aumentar la ansiedad de todo el grupo, y en esas condiciones, algunas personas reaccionan con conductas atíp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as reacciones provocan rencores o “débitos emocionales” que enrarecen el clima y generan una tensión que desmotiva a todo el gru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resolver la situación, el líder debe aclarar la situación, realizando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ver la conversación entre los involucrados, en un entorno re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eñarles a usar los dos formas básicas para resolver confli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mí me pasa que…(En lugar de “lo que tú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cist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edo disculparme si te he molestado… (En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ugar de “fue culpa tuya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líder debe señalar la responsabilidad de todos los involucrados para resolver la situación, sin tomar partido por nad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ngún problema de clima se instala de un día para otro ni se resuelve fácilmente. Gestionar el clima requiere planificar meses, no semanas ni dí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 generar un buen clima, el líder debe tener en claro los siguientes pu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ridad de objetivos: Debe lograrse un equilibrio adecuado entre lo que se quiere lograr y lo que el grupo es capaz de gen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ancia: el líder debe alentar aquellas acciones que el grupo es capaz de sostener en el tiempo, considerando el ritmo del trabajo y la frecuencia de imprevistos. Así también, debe respetar lo planificado tratando de organizar las prior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ciencia: el líder no debe desalentarse en el primer traspié, debe ser tolerante a los “biorritmos” ajenos sin perder el foco de lo que debe lograrse a median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LANEACIÓN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90% de los problemas de clima se origina en cuestiones de trabajo y se resuelve organizando mejor los recursos disponibles y los procesos cotidia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rol del líder es enfocar el origen de los problemas, sabiendo que siempre existen condiciones externas que no tienen solución, pero cuyos efectos nocivos pueden suaviz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manejar las diferentes situaciones se debe considerar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erenciar origen de efectos: Por ejemplo, un conflicto entre alguien de plataforma comercial y otro de plataforma operativa puede originarse en datos mal cargados o ritmos desacoplados entre la urgencia comercial y la defensa frente a ries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r medidas para resolver el origen: Por ejemplo, organizar un equipo mixto que busque medidas para resolver los errores o anticipar los riesgos, de modo tal que el cierre de ventas gane ag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ar los cambios: El líder utiliza su autoridad para reafirmar la importancia de lograr cambios reales que resuelvan el problema técnico. (De esta forma el problema relacional se reduce gradualme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ocación: el rol del líder es lograr una convocatoria adecuada para que todos participen y perciban que son parte de un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grupo sintoniza mejor con ciertas acciones de clima y es reactivo a otras, pero en todos los casos, el equipo debe sentirse protagonista de su propio cl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76280"/>
            <a:ext cx="8207280" cy="936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O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lograrlo, hay que considerar los siguientes 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ar a los mejores organizadores internos: Siempre hay voluntarios que tienen consenso en el grupo para organizar actividades que todos acep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ntar que se promuevan actividades de pertenencia que aumenten la mística colectiva, dentro o fuera de la organización, con o sin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der el mando en estas ocasiones y actuar como un colaborador más, pero tratando que nadie quede relegado y nadie pretenda ser parte del equipo sin hacer su aporte soli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ccff"/>
                </a:solidFill>
                <a:latin typeface="Arial"/>
              </a:rPr>
              <a:t>CLIMA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una variable medidora de las personas que se encuentra dentro de la cultura organiz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bido a su importancia se considera como un tema aparte de la cultura de ca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clima tiene que ver con el estado anímico colectivo de un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ccff"/>
                </a:solidFill>
                <a:latin typeface="Arial"/>
              </a:rPr>
              <a:t>TESTEO DEL CL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testear el clima hay que considerar divers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3059280" y="3789360"/>
            <a:ext cx="2663640" cy="151272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A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5280" y="260280"/>
          <a:ext cx="8569080" cy="6283080"/>
        </p:xfrm>
        <a:graphic>
          <a:graphicData uri="http://schemas.openxmlformats.org/drawingml/2006/table">
            <a:tbl>
              <a:tblPr/>
              <a:tblGrid>
                <a:gridCol w="1751760"/>
                <a:gridCol w="6251760"/>
                <a:gridCol w="56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dores en el equ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m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Hay humor? ¿Cómo? ¿Cuándo? ¿La gente tiene ganas de llegar a su trabajo o lo perciben como una condena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r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Los errores se ocultan? ¿Se delatan? ¿Se tratan abiertamente para no repetirlos? ¿Son motivos de burla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rece la intolerancia ante fuerte presión? ¿Algunos se retraen o huyen frente al compromiso de atender una urgencia? ¿Algunos se ponen mal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Las metas son individuales o se tratan como un desafío del grupo? ¿Se colabora para lograr el cumplimiento de metas ajenas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ursos escas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ómo reaccionan frente a recursos insuficientes? ¿Hay egoísmo o peleas para apropiarse de los insumos? ¿Se comparten? ¿Se buscan opcione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jo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Hay iniciativas de mejora o todo se repite burocráticamente? ¿Se opina sobre cómo mejorar procesos? ¿Hay desgano para cambiar la rutina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ltad a la mar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El grupo es “quejón” o hay orgullo de pertenencia? ¿Se valora la marca o se cree que la competencia es mejo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Se aspira a crecer profesionalmente? ¿Se busca aprender lo que no se sabe o sólo se espera ascender para ganar más diner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lam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Cómo se tratan las situaciones irritantes? ¿A quién se culpa? ¿Se pone siempre la responsabilidad afuera o hay reacciones madura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Se busca consolidar el grupo o hay “castas” en el equipo? ¿Hay discriminación? ¿El grupo trabaja unido o dividid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ccff"/>
                </a:solidFill>
                <a:latin typeface="Arial"/>
              </a:rPr>
              <a:t>MODELO DE CLIMA</a:t>
            </a:r>
            <a:br>
              <a:rPr sz="4000"/>
            </a:br>
            <a:r>
              <a:rPr b="0" lang="es-ES" sz="4000" spc="-1" strike="noStrike">
                <a:solidFill>
                  <a:srgbClr val="ccccff"/>
                </a:solidFill>
                <a:latin typeface="Arial"/>
              </a:rPr>
              <a:t> (Litwin &amp; String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men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349360"/>
            <a:ext cx="2232000" cy="64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941720"/>
            <a:ext cx="2232000" cy="64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comp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64500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220500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timiento de los empleados respecto de las restricciones, número de reglas, controles y procedimientos que existen y limitan sus posibilidade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3500280"/>
            <a:ext cx="61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timiento por parte de los empleados de ser sus propios jefes. Poder tomar solo las decisiones y no tener que consultar cada paso a sus sup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869000"/>
            <a:ext cx="651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timiento de ser recompensado por el trabajo bien hecho. Énfasis en la recompensa positiva más bien que en el cast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263700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l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907920"/>
            <a:ext cx="2232000" cy="64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450864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po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765000"/>
            <a:ext cx="61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ido de riesgo y desafío en el trabajo y la organización. Énfasis en tomar riesgos calcul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2421000"/>
            <a:ext cx="6156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cepción de una buena camarería general. Énfasis en la prevalencia de la amistad y grupos sociales infor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437000"/>
            <a:ext cx="6156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pción de la ayuda mutua de los directivos y empleados de la organización. Énfasis en el mutuo apoyo para enfrentar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1125360"/>
            <a:ext cx="2232000" cy="64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ánd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92428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ole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4797360"/>
            <a:ext cx="223200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836640"/>
            <a:ext cx="5616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pción de la importancia de las normas y exigencias en el rendimiento del trabajo. Sentimiento de ex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2781360"/>
            <a:ext cx="5761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imiento de que se acepten discrepancias, posturas disidentes y que es posible discutir sin ser castigado o censu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581360"/>
            <a:ext cx="55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imiento de compromiso e identificación personal con l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ccff"/>
                </a:solidFill>
                <a:latin typeface="Arial"/>
              </a:rPr>
              <a:t>DEFINICIONES DE CL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iente psicológico, de percepciones y sentimientos referidos a la vida organizacional, desarrollado a través de interacciones colectiv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ca explicar la forma en que los aspectos estructurales (formalización, centralización, ámbito de control, etc.) influyen sobre el comportamiento de las person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Katz y Khan el clima es el resultante de un número de factores que se reflejan en la "cultura total" de la organización. Éste es un “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sistema predominante de valores de una organización mediante el cual los investigadores pretenden llegar a la identificación del mismo y conseguir que, combinando los climas con las características personales de los individuos, la organización sea más efectiv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ccff"/>
                </a:solidFill>
                <a:latin typeface="Arial"/>
              </a:rPr>
              <a:t>ENF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916280"/>
            <a:ext cx="302400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1916280"/>
            <a:ext cx="309744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sic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3716280"/>
            <a:ext cx="309744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activo-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302400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tera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ifestación objetiva de la estructura organizacional. Se forma porque los miembros de la organización están expuestos a características estructurales semejantes. Como resultado de esta exposición, ellos presentan percepciones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189000"/>
            <a:ext cx="662616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ccff"/>
                </a:solidFill>
                <a:latin typeface="Arial"/>
              </a:rPr>
              <a:t>ESTRUC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base para la formación del clima está dentro del individuo. Estos responden a variables situacionales de modo psicológicamente significativos para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189000"/>
            <a:ext cx="662616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ccff"/>
                </a:solidFill>
                <a:latin typeface="Arial"/>
              </a:rPr>
              <a:t>PSICOLÓ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interacción de lo individuos, al responder a su situación, produce resultados colectivos que son la base del c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89000"/>
            <a:ext cx="662616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ccff"/>
                </a:solidFill>
                <a:latin typeface="Arial"/>
              </a:rPr>
              <a:t>INTERAC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clima es creado por un grupo de individuos interactuantes que comparten un marco de referencia simbólico común en la medida en que van enfrentando las contingencias situ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189000"/>
            <a:ext cx="662616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ccff"/>
                </a:solidFill>
                <a:latin typeface="Arial"/>
              </a:rPr>
              <a:t>INTERACTIVO-CUL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19:17:11Z</dcterms:created>
  <dc:creator>Sole Valdés</dc:creator>
  <dc:description/>
  <dc:language>en-US</dc:language>
  <cp:lastModifiedBy>Sole Valdés</cp:lastModifiedBy>
  <dcterms:modified xsi:type="dcterms:W3CDTF">2007-10-14T01:59:26Z</dcterms:modified>
  <cp:revision>14</cp:revision>
  <dc:subject/>
  <dc:title>COMUNICACIÓN ORGANIZACIONAL II</dc:title>
</cp:coreProperties>
</file>