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C98-5114-4E9C-B73D-B8F4F02B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D5C9-E9E9-4D26-AE31-43DA8AD4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2F3-1EB9-48D1-86E6-C4469CC5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7D0-41A4-494D-A3AC-D54D351B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88E-FDFB-4531-A884-6CD2C21D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571B-33E6-41B6-A649-6EFF480A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FCAB-C6FB-4712-8D22-94B6CFF1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BBF0-0C06-45B4-A0CB-2513ECBD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DE5-CFE1-46AD-BB5C-C719C1F8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D64-E80C-495B-A162-7A21FFA3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AB0-2C11-4ADB-8714-34320A93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7FB2-8245-449F-879E-6A692CCB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11F5-5B65-4BB5-AE1C-68C74230108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7000" y="5688000"/>
            <a:ext cx="584280" cy="1125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380360" y="636732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JAVIERA PIZAR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SOLEDAD VALD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ccff"/>
                </a:solidFill>
                <a:latin typeface="Arial"/>
              </a:rPr>
              <a:t>COMUNICACIÓN ORGANIZACIONAL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artir la responsabilidad de la 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2852640"/>
            <a:ext cx="6840360" cy="1368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dos los empleados debes estar bien informad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 disminuir la ambigüedad al interior de l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nejo de malas noti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2421000"/>
            <a:ext cx="7561440" cy="18730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organizaciones con una comunicación efic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temen enfrentar las malas notic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ando éstas se comunican con franquez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 crea un clima en el que las personas no temen dec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verdad y las buenas noticias ganan credibi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El mensaje está modelado para las personas que lo escuc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2637000"/>
            <a:ext cx="7129440" cy="1800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importancia de la información depende del pue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nivel que uno ocupa en un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 esto hay que distinguir el tipo de información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empleados necesitan y la forma en que deben recibir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 así diseñar el programa de comun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dentificar la comunicación como un proceso contin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2924280"/>
            <a:ext cx="7200720" cy="1368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administradores deben explicar el por qué se realiza tal ac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regar los datos lo antes posible, para evitar rumo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unicar continuamente y dar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que ellos la interpr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ccff"/>
                </a:solidFill>
                <a:latin typeface="Arial"/>
              </a:rPr>
              <a:t>COMUNICACIÓN ELECTRÓNICA EN LA 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1989000"/>
            <a:ext cx="3671640" cy="64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Tecnologías de información en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1628640"/>
            <a:ext cx="2232000" cy="9367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Trans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1640" y="2997360"/>
            <a:ext cx="2232000" cy="936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3645000"/>
            <a:ext cx="2232000" cy="936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if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3573360"/>
            <a:ext cx="2232000" cy="9367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ter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618920" y="2781360"/>
            <a:ext cx="144360" cy="5763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2781360"/>
            <a:ext cx="215640" cy="5763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2637000"/>
            <a:ext cx="792360" cy="431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643280" y="2060280"/>
            <a:ext cx="1081080" cy="730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3763080" y="530640"/>
            <a:ext cx="1295640" cy="8675640"/>
          </a:xfrm>
          <a:custGeom>
            <a:avLst/>
            <a:gdLst>
              <a:gd name="textAreaLeft" fmla="*/ 828000 w 1295640"/>
              <a:gd name="textAreaRight" fmla="*/ 1296000 w 1295640"/>
              <a:gd name="textAreaTop" fmla="*/ 226080 h 8675640"/>
              <a:gd name="textAreaBottom" fmla="*/ 8449560 h 867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5805360"/>
            <a:ext cx="5832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ambios sociales y cul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ccff"/>
                </a:solidFill>
                <a:latin typeface="Arial"/>
              </a:rPr>
              <a:t>ALDEAS DE 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3284640"/>
            <a:ext cx="1224000" cy="9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1280" y="1628640"/>
            <a:ext cx="1224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24360" y="1773360"/>
            <a:ext cx="1224000" cy="936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88000" y="3284640"/>
            <a:ext cx="1224000" cy="936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724280"/>
            <a:ext cx="122400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95640" y="5084640"/>
            <a:ext cx="1224000" cy="936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4797360"/>
            <a:ext cx="1224000" cy="936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3500280"/>
            <a:ext cx="1224000" cy="936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1916280"/>
            <a:ext cx="122400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386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48360" y="285264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278136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2708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276720" y="436572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76720" y="4292640"/>
            <a:ext cx="57492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371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834920" y="2924280"/>
            <a:ext cx="144360" cy="43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450864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48360" y="198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59280" y="206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1964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363640" y="5373720"/>
            <a:ext cx="360360" cy="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803640" y="4292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04000" y="2708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5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9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comunicación electrónica constituye la base material y tecnológica de la sociedad, es la infraestructura tecnológica y el medio organizativo que permite el desarrollo de una serie de nuevas formas de relación so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comunicación y tecnologías de información electrónica se utilizan al interior de las organizaciones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rmitir la interacción y desarrollo de asociaciones entre personas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gistros electrónicos de experi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fusión de registros para entrenar nuevos miemb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rear redes de ayuda téc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1844640"/>
            <a:ext cx="6985080" cy="5032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municación electrónica es un medio de comunicación comú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comunicación permit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elerar, flexibilizar, innovar procesos, conectarse con actores externos y desarrollar alianzas estratég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comunicación electrónica distingue ent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comunicación electrónica ya no hace necesario que uno esté en su área de trabajo para estar dispon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comunicaciones electrónicas revolucionan la capacidad de tener acceso a otras personas, lo que puede tener la desventaja de no poseer el componente verbal de la comunicación ni la transmisión de emo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700280"/>
            <a:ext cx="151272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95640" y="1700280"/>
            <a:ext cx="151272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40360" y="1700280"/>
            <a:ext cx="151272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1700280"/>
            <a:ext cx="266364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flexividad e inno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4653000"/>
            <a:ext cx="7921440" cy="1417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ROBLEMA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Olvidar que la comunicación es un diálogo entre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ccff"/>
                </a:solidFill>
                <a:latin typeface="Arial"/>
              </a:rPr>
              <a:t>LA ORGANIZACIÓN COMO SISTEMA DE COMUN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76720" y="1989000"/>
            <a:ext cx="2664000" cy="576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Continuidad en el tiemp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3141720"/>
            <a:ext cx="2664000" cy="576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Logro de objetiv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76720" y="4076640"/>
            <a:ext cx="2664000" cy="647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Entablar relacion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con otros actores socia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6720" y="5229360"/>
            <a:ext cx="2664000" cy="647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Acrecenta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productivid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50920" y="2852640"/>
            <a:ext cx="2952720" cy="1512720"/>
            <a:chOff x="250920" y="2852640"/>
            <a:chExt cx="2952720" cy="1512720"/>
          </a:xfrm>
        </p:grpSpPr>
        <p:sp>
          <p:nvSpPr>
            <p:cNvPr id="50" name=""/>
            <p:cNvSpPr txBox="1"/>
            <p:nvPr/>
          </p:nvSpPr>
          <p:spPr>
            <a:xfrm>
              <a:off x="898560" y="2852640"/>
              <a:ext cx="1582920" cy="360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rebuchet MS"/>
                </a:rPr>
                <a:t>Organizació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ebuchet MS"/>
                <a:ea typeface="Trebuchet MS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997000"/>
              <a:ext cx="2952720" cy="1368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8200" y="3355920"/>
              <a:ext cx="2376720" cy="647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COMUN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3059280" y="2421000"/>
            <a:ext cx="1657080" cy="79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419640" y="3429000"/>
            <a:ext cx="1368360" cy="71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4005360"/>
            <a:ext cx="1368360" cy="43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9280" y="4292640"/>
            <a:ext cx="1657080" cy="115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2000" y="1773360"/>
            <a:ext cx="576360" cy="4464000"/>
          </a:xfrm>
          <a:custGeom>
            <a:avLst/>
            <a:gdLst>
              <a:gd name="textAreaLeft" fmla="*/ 0 w 576360"/>
              <a:gd name="textAreaRight" fmla="*/ 208080 w 57636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532720" y="1341360"/>
            <a:ext cx="28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5229360"/>
            <a:ext cx="1657440" cy="576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cu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4508640"/>
            <a:ext cx="216000" cy="504720"/>
          </a:xfrm>
          <a:prstGeom prst="downArrow">
            <a:avLst>
              <a:gd name="adj1" fmla="val 50000"/>
              <a:gd name="adj2" fmla="val 58417"/>
            </a:avLst>
          </a:prstGeom>
          <a:solidFill>
            <a:srgbClr val="bbe0e3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00000" y="476280"/>
            <a:ext cx="6985080" cy="1224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das las empresas tienen necesidad de comunica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 esencial es SELECCIONAR y EVALUAR los mens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medios que se utiliz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3573360"/>
            <a:ext cx="7905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2276640"/>
            <a:ext cx="4176720" cy="504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Organización es un Sist. comun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3068640"/>
            <a:ext cx="358560" cy="504720"/>
          </a:xfrm>
          <a:prstGeom prst="downArrow">
            <a:avLst>
              <a:gd name="adj1" fmla="val 50000"/>
              <a:gd name="adj2" fmla="val 351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716280"/>
            <a:ext cx="5184720" cy="28814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 comunicación organizac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 define como un conjunto de proceso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trucción de símbolos, significados comparti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intercambios de información, establecidos en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s mismos integrantes de una organizació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í como con su entorno exter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1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unicación interna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ctividades que se realizan al interior de la organización referidas a la circulación de mensaj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unicación externa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mensajes dirigidos a un público externo para proyectar una imagen corporativa determinada por la organiz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ublicidad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mensajes emitidos a través de medios masivos para lograr las metas de la organizació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ccff"/>
                </a:solidFill>
                <a:latin typeface="Arial"/>
              </a:rPr>
              <a:t>IMPLICANCIAS DEL SISTEMA COMUNIC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ccff"/>
                </a:solidFill>
                <a:latin typeface="Arial"/>
              </a:rPr>
              <a:t>FACTORES DE EFICACIA COMUNIC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2133720"/>
            <a:ext cx="3097440" cy="431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1. Líder compromet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4724280"/>
            <a:ext cx="309744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4. Comunicación cara a c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2997360"/>
            <a:ext cx="3097440" cy="431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2. Sintonizar acciones y pala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3860640"/>
            <a:ext cx="309744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3. Comunicar en ambos sent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4724280"/>
            <a:ext cx="309708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8. Proceso contin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3860640"/>
            <a:ext cx="309708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7. Mensaje a quienes escuc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88000" y="2997360"/>
            <a:ext cx="3097080" cy="431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6. Manejo de malas noti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88000" y="2133720"/>
            <a:ext cx="3097080" cy="431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5. Compartir responsab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1. Líder comprometido con la importancia de la 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2565360"/>
            <a:ext cx="7343640" cy="22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está comprometido en palabras y acción, permite el log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las metas de l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líder debe ser un modelo hábil y visible en el papel de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unicaciones, debiendo destinar una parte importante de 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mpo hablando, escuchando y preguntando a sus emple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ntonizar acciones y palab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2492280"/>
            <a:ext cx="6983640" cy="2016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idar que los mensajes implícitos que se le envían a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leados, no contradigan los mensajes oficiales transmit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 comunicaciones formales, ya que esto genera una falt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dibilidad de los administr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unicar en ambos sen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58920" y="2708280"/>
            <a:ext cx="6913440" cy="1871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 debe equilibrar la comunicación ascendente co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endente, lo que se puede lograr establecie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aciones con columnas de pregunta y respues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imientos de presentación de quej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Énfasis en la comunicación cara a c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2708280"/>
            <a:ext cx="7127640" cy="20858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mite la transmisión de un alto nivel de informa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comunicación directa y sincera con los emplead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a a los administradores como personas human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comprenden las necesidades y preocup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sus emple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19:17:11Z</dcterms:created>
  <dc:creator>Sole Valdés</dc:creator>
  <dc:description/>
  <dc:language>en-US</dc:language>
  <cp:lastModifiedBy>Sole Valdés</cp:lastModifiedBy>
  <dcterms:modified xsi:type="dcterms:W3CDTF">2007-08-29T23:39:27Z</dcterms:modified>
  <cp:revision>8</cp:revision>
  <dc:subject/>
  <dc:title>COMUNICACIÓN ORGANIZACIONAL II</dc:title>
</cp:coreProperties>
</file>